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2018-EB8B-4637-A9A4-EBECDC8D2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7, 11, 1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16, 8,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6 + 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N - 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N - (2 + 9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n/6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2n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N + 7   2.  .5N  or n/2    3. 4n + 3 = 2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Y = n/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Y = n - 4    6.  Y = 7 - n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0CAE-0E70-4EE4-8E98-DBE196857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9838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DE9A-479F-44DA-98E9-AB523D27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CF1B-6B70-43F2-A42B-665989CC8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4267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4267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9838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9838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9838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8754-45D0-40CF-A956-7F18D64EC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917F-5B64-40D4-BCC2-0C36AB839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B383-B08B-4574-AD23-BAA9CBA1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DA20-B22C-45DD-B4D2-E1C90EBC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9E5A-5B87-4B99-B496-CD2DA335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3FA4-BE59-40BB-92B8-B03F2F2C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2819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A046-613E-44A4-B627-C7807FC4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99EB-AC82-41E6-8798-BA03C252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A00E-FB7A-40BE-AEF1-E7E17158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5156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35CC-1900-4614-BAE5-82D44C74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9838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6B28-90F7-45F3-9146-1FFDE5EC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371600" y="49838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2B64-31F0-43E1-B30B-8546DCC7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37160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5156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B833-458F-4D4C-A537-FEBA067B9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35560" y="4267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699880" y="4267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371600" y="49838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35560" y="49838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699880" y="49838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E028-D2A6-4DF7-8F53-B4CB92166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F19F-AA4F-4242-960D-F5919530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CDF3-5D40-43EE-9F26-81D98611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DEE7-3157-4E2B-9632-FD97E575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2819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B25F-C432-49E2-942D-216AAC0F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64E6-DD13-4FB6-8F9D-58F1021D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DF58-F4C0-4802-ABA2-C1DE5B08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9838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8B3A-4915-474A-9A19-2A25769E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 rot="16200000">
            <a:off x="4304520" y="6513480"/>
            <a:ext cx="610200" cy="685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1203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12031"/>
              </a:path>
            </a:pathLst>
          </a:cu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52280"/>
            <a:ext cx="9144000" cy="6629400"/>
            <a:chOff x="0" y="152280"/>
            <a:chExt cx="9144000" cy="6629400"/>
          </a:xfrm>
        </p:grpSpPr>
        <p:sp>
          <p:nvSpPr>
            <p:cNvPr id="2" name=""/>
            <p:cNvSpPr/>
            <p:nvPr/>
          </p:nvSpPr>
          <p:spPr>
            <a:xfrm flipH="1">
              <a:off x="5029200" y="152280"/>
              <a:ext cx="4114800" cy="6629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305" y="540"/>
                    <a:pt x="3009" y="5080"/>
                    <a:pt x="3009" y="10800"/>
                  </a:cubicBezTo>
                  <a:cubicBezTo>
                    <a:pt x="3009" y="16520"/>
                    <a:pt x="12305" y="2106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52280"/>
              <a:ext cx="4114800" cy="6629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305" y="540"/>
                    <a:pt x="3009" y="5080"/>
                    <a:pt x="3009" y="10800"/>
                  </a:cubicBezTo>
                  <a:cubicBezTo>
                    <a:pt x="3009" y="16520"/>
                    <a:pt x="12305" y="2106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228600" y="76320"/>
            <a:ext cx="8763120" cy="1523880"/>
            <a:chOff x="228600" y="76320"/>
            <a:chExt cx="8763120" cy="1523880"/>
          </a:xfrm>
        </p:grpSpPr>
        <p:sp>
          <p:nvSpPr>
            <p:cNvPr id="5" name=""/>
            <p:cNvSpPr/>
            <p:nvPr/>
          </p:nvSpPr>
          <p:spPr>
            <a:xfrm>
              <a:off x="228600" y="76320"/>
              <a:ext cx="3962520" cy="152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497" y="250"/>
                    <a:pt x="1393" y="5080"/>
                    <a:pt x="1393" y="10800"/>
                  </a:cubicBezTo>
                  <a:cubicBezTo>
                    <a:pt x="1393" y="16520"/>
                    <a:pt x="11497" y="2135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4724280" y="76320"/>
              <a:ext cx="4267440" cy="152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497" y="250"/>
                    <a:pt x="1393" y="5080"/>
                    <a:pt x="1393" y="10800"/>
                  </a:cubicBezTo>
                  <a:cubicBezTo>
                    <a:pt x="1393" y="16520"/>
                    <a:pt x="11497" y="2135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80" y="152280"/>
              <a:ext cx="7925040" cy="137160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ccff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99ccff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99ccff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2362320" y="640080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D950-D9C2-44D9-B460-36E5EC0543D9}" type="slidenum"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76320"/>
            <a:ext cx="9144000" cy="6705360"/>
            <a:chOff x="0" y="76320"/>
            <a:chExt cx="9144000" cy="6705360"/>
          </a:xfrm>
        </p:grpSpPr>
        <p:sp>
          <p:nvSpPr>
            <p:cNvPr id="50" name=""/>
            <p:cNvSpPr/>
            <p:nvPr/>
          </p:nvSpPr>
          <p:spPr>
            <a:xfrm flipH="1">
              <a:off x="5029200" y="152280"/>
              <a:ext cx="4114800" cy="6629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305" y="540"/>
                    <a:pt x="3009" y="5080"/>
                    <a:pt x="3009" y="10800"/>
                  </a:cubicBezTo>
                  <a:cubicBezTo>
                    <a:pt x="3009" y="16520"/>
                    <a:pt x="12305" y="2106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76320"/>
              <a:ext cx="4114800" cy="670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305" y="540"/>
                    <a:pt x="3009" y="5080"/>
                    <a:pt x="3009" y="10800"/>
                  </a:cubicBezTo>
                  <a:cubicBezTo>
                    <a:pt x="3009" y="16520"/>
                    <a:pt x="12305" y="2106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28600" y="2590920"/>
            <a:ext cx="8763120" cy="1523880"/>
            <a:chOff x="228600" y="2590920"/>
            <a:chExt cx="8763120" cy="1523880"/>
          </a:xfrm>
        </p:grpSpPr>
        <p:sp>
          <p:nvSpPr>
            <p:cNvPr id="53" name=""/>
            <p:cNvSpPr/>
            <p:nvPr/>
          </p:nvSpPr>
          <p:spPr>
            <a:xfrm>
              <a:off x="228600" y="2590920"/>
              <a:ext cx="3962520" cy="152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497" y="250"/>
                    <a:pt x="1393" y="5080"/>
                    <a:pt x="1393" y="10800"/>
                  </a:cubicBezTo>
                  <a:cubicBezTo>
                    <a:pt x="1393" y="16520"/>
                    <a:pt x="11497" y="2135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724280" y="2590920"/>
              <a:ext cx="4267440" cy="152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497" y="250"/>
                    <a:pt x="1393" y="5080"/>
                    <a:pt x="1393" y="10800"/>
                  </a:cubicBezTo>
                  <a:cubicBezTo>
                    <a:pt x="1393" y="16520"/>
                    <a:pt x="11497" y="2135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2666880"/>
              <a:ext cx="7925040" cy="137160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251424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F684-0927-43C6-924B-EAA6FB2D9804}" type="slidenum"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ccff"/>
              </a:buClr>
              <a:buFont typeface="Times New Roman"/>
              <a:buChar char="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Font typeface="Times New Roman"/>
              <a:buChar char="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Font typeface="Times New Roman"/>
              <a:buChar char="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Opener</a:t>
            </a:r>
            <a:r>
              <a:rPr b="0" lang="en-US" sz="2000" spc="-1" strike="noStrike">
                <a:solidFill>
                  <a:srgbClr val="6600cc"/>
                </a:solidFill>
                <a:latin typeface="Times New Roman"/>
              </a:rPr>
              <a:t>:  Students will complete a function table with a given two-operation function.</a:t>
            </a:r>
            <a:endParaRPr b="0" lang="en-US" sz="2000" spc="-1" strike="noStrike">
              <a:solidFill>
                <a:srgbClr val="6600cc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143000" y="1828800"/>
          <a:ext cx="2590920" cy="403848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</a:tblGrid>
              <a:tr h="808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Y = </a:t>
                      </a:r>
                      <a:r>
                        <a:rPr b="0" lang="en-US" sz="1800" spc="-1" strike="noStrike" u="sng">
                          <a:solidFill>
                            <a:srgbClr val="4d4d4d"/>
                          </a:solidFill>
                          <a:uFillTx/>
                          <a:latin typeface="Arial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  + 3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5181480" y="1981080"/>
          <a:ext cx="2819520" cy="4038840"/>
        </p:xfrm>
        <a:graphic>
          <a:graphicData uri="http://schemas.openxmlformats.org/drawingml/2006/table">
            <a:tbl>
              <a:tblPr/>
              <a:tblGrid>
                <a:gridCol w="1409760"/>
                <a:gridCol w="1409760"/>
              </a:tblGrid>
              <a:tr h="808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N = 24 - 4p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2562120" y="3776760"/>
            <a:ext cx="1001880" cy="1171440"/>
          </a:xfrm>
          <a:custGeom>
            <a:avLst/>
            <a:gdLst/>
            <a:ahLst/>
            <a:rect l="l" t="t" r="r" b="b"/>
            <a:pathLst>
              <a:path w="2779" h="3251">
                <a:moveTo>
                  <a:pt x="9029" y="10939"/>
                </a:moveTo>
                <a:cubicBezTo>
                  <a:pt x="9029" y="11022"/>
                  <a:pt x="9027" y="11038"/>
                  <a:pt x="9004" y="10914"/>
                </a:cubicBezTo>
                <a:cubicBezTo>
                  <a:pt x="9110" y="10889"/>
                  <a:pt x="9223" y="10880"/>
                  <a:pt x="9327" y="10864"/>
                </a:cubicBezTo>
                <a:cubicBezTo>
                  <a:pt x="9343" y="10864"/>
                  <a:pt x="9360" y="10864"/>
                  <a:pt x="9376" y="10864"/>
                </a:cubicBezTo>
                <a:cubicBezTo>
                  <a:pt x="9376" y="11033"/>
                  <a:pt x="9299" y="11207"/>
                  <a:pt x="9252" y="11385"/>
                </a:cubicBezTo>
              </a:path>
              <a:path w="2779" h="3251">
                <a:moveTo>
                  <a:pt x="8657" y="11559"/>
                </a:moveTo>
                <a:cubicBezTo>
                  <a:pt x="8810" y="11698"/>
                  <a:pt x="8924" y="11701"/>
                  <a:pt x="9128" y="11733"/>
                </a:cubicBezTo>
                <a:cubicBezTo>
                  <a:pt x="9342" y="11766"/>
                  <a:pt x="9513" y="11742"/>
                  <a:pt x="9674" y="11584"/>
                </a:cubicBezTo>
                <a:cubicBezTo>
                  <a:pt x="9852" y="11410"/>
                  <a:pt x="9892" y="11224"/>
                  <a:pt x="9897" y="10988"/>
                </a:cubicBezTo>
                <a:cubicBezTo>
                  <a:pt x="9900" y="10822"/>
                  <a:pt x="9852" y="10589"/>
                  <a:pt x="9674" y="10517"/>
                </a:cubicBezTo>
                <a:cubicBezTo>
                  <a:pt x="9562" y="10471"/>
                  <a:pt x="9323" y="10467"/>
                  <a:pt x="9203" y="10492"/>
                </a:cubicBezTo>
                <a:cubicBezTo>
                  <a:pt x="9094" y="10514"/>
                  <a:pt x="8874" y="10585"/>
                  <a:pt x="8806" y="10691"/>
                </a:cubicBezTo>
                <a:cubicBezTo>
                  <a:pt x="8710" y="10842"/>
                  <a:pt x="8650" y="11007"/>
                  <a:pt x="8632" y="11187"/>
                </a:cubicBezTo>
                <a:cubicBezTo>
                  <a:pt x="8617" y="11338"/>
                  <a:pt x="8647" y="11449"/>
                  <a:pt x="8706" y="11584"/>
                </a:cubicBezTo>
                <a:cubicBezTo>
                  <a:pt x="8744" y="11671"/>
                  <a:pt x="8843" y="11708"/>
                  <a:pt x="8930" y="11733"/>
                </a:cubicBezTo>
                <a:cubicBezTo>
                  <a:pt x="8964" y="11767"/>
                  <a:pt x="8985" y="11775"/>
                  <a:pt x="9029" y="11757"/>
                </a:cubicBezTo>
              </a:path>
              <a:path w="2779" h="3251">
                <a:moveTo>
                  <a:pt x="7144" y="12005"/>
                </a:moveTo>
                <a:cubicBezTo>
                  <a:pt x="7107" y="12153"/>
                  <a:pt x="7138" y="12129"/>
                  <a:pt x="7268" y="12129"/>
                </a:cubicBezTo>
              </a:path>
              <a:path w="2779" h="3251">
                <a:moveTo>
                  <a:pt x="7367" y="11956"/>
                </a:moveTo>
                <a:cubicBezTo>
                  <a:pt x="7362" y="12051"/>
                  <a:pt x="7351" y="12136"/>
                  <a:pt x="7342" y="12229"/>
                </a:cubicBezTo>
              </a:path>
              <a:path w="2779" h="3251">
                <a:moveTo>
                  <a:pt x="7516" y="11981"/>
                </a:moveTo>
                <a:cubicBezTo>
                  <a:pt x="7464" y="12077"/>
                  <a:pt x="7445" y="12101"/>
                  <a:pt x="7466" y="12204"/>
                </a:cubicBezTo>
                <a:cubicBezTo>
                  <a:pt x="7565" y="12226"/>
                  <a:pt x="7673" y="12205"/>
                  <a:pt x="7640" y="12080"/>
                </a:cubicBezTo>
                <a:cubicBezTo>
                  <a:pt x="7615" y="12030"/>
                  <a:pt x="7607" y="12013"/>
                  <a:pt x="7565" y="12005"/>
                </a:cubicBezTo>
              </a:path>
              <a:path w="2779" h="3251">
                <a:moveTo>
                  <a:pt x="7169" y="12378"/>
                </a:moveTo>
                <a:cubicBezTo>
                  <a:pt x="7302" y="12366"/>
                  <a:pt x="7434" y="12351"/>
                  <a:pt x="7565" y="12328"/>
                </a:cubicBezTo>
              </a:path>
              <a:path w="2779" h="3251">
                <a:moveTo>
                  <a:pt x="7491" y="12526"/>
                </a:moveTo>
                <a:cubicBezTo>
                  <a:pt x="7382" y="12497"/>
                  <a:pt x="7327" y="12494"/>
                  <a:pt x="7293" y="12626"/>
                </a:cubicBezTo>
                <a:cubicBezTo>
                  <a:pt x="7293" y="12642"/>
                  <a:pt x="7293" y="12659"/>
                  <a:pt x="7293" y="12675"/>
                </a:cubicBezTo>
                <a:cubicBezTo>
                  <a:pt x="7355" y="12654"/>
                  <a:pt x="7464" y="12614"/>
                  <a:pt x="7516" y="12675"/>
                </a:cubicBezTo>
                <a:cubicBezTo>
                  <a:pt x="7593" y="12767"/>
                  <a:pt x="7443" y="12849"/>
                  <a:pt x="7367" y="12849"/>
                </a:cubicBezTo>
                <a:cubicBezTo>
                  <a:pt x="7350" y="12841"/>
                  <a:pt x="7334" y="12832"/>
                  <a:pt x="7317" y="12824"/>
                </a:cubicBezTo>
              </a:path>
              <a:path w="2779" h="3251">
                <a:moveTo>
                  <a:pt x="7491" y="13395"/>
                </a:moveTo>
                <a:cubicBezTo>
                  <a:pt x="7403" y="13407"/>
                  <a:pt x="7383" y="13423"/>
                  <a:pt x="7317" y="13469"/>
                </a:cubicBezTo>
                <a:cubicBezTo>
                  <a:pt x="7382" y="13528"/>
                  <a:pt x="7630" y="13664"/>
                  <a:pt x="7441" y="13742"/>
                </a:cubicBezTo>
                <a:cubicBezTo>
                  <a:pt x="7425" y="13734"/>
                  <a:pt x="7408" y="13725"/>
                  <a:pt x="7392" y="13717"/>
                </a:cubicBezTo>
                <a:cubicBezTo>
                  <a:pt x="7382" y="13613"/>
                  <a:pt x="7423" y="13539"/>
                  <a:pt x="7491" y="13444"/>
                </a:cubicBezTo>
              </a:path>
              <a:path w="2779" h="3251">
                <a:moveTo>
                  <a:pt x="8012" y="12154"/>
                </a:moveTo>
                <a:cubicBezTo>
                  <a:pt x="8039" y="12235"/>
                  <a:pt x="8055" y="12294"/>
                  <a:pt x="8062" y="12378"/>
                </a:cubicBezTo>
              </a:path>
              <a:path w="2779" h="3251">
                <a:moveTo>
                  <a:pt x="7888" y="12278"/>
                </a:moveTo>
                <a:cubicBezTo>
                  <a:pt x="7995" y="12272"/>
                  <a:pt x="8081" y="12255"/>
                  <a:pt x="8186" y="12229"/>
                </a:cubicBezTo>
              </a:path>
              <a:path w="2779" h="3251">
                <a:moveTo>
                  <a:pt x="8434" y="12129"/>
                </a:moveTo>
                <a:cubicBezTo>
                  <a:pt x="8551" y="12061"/>
                  <a:pt x="8621" y="12024"/>
                  <a:pt x="8533" y="12154"/>
                </a:cubicBezTo>
                <a:cubicBezTo>
                  <a:pt x="8525" y="12171"/>
                  <a:pt x="8516" y="12187"/>
                  <a:pt x="8508" y="12204"/>
                </a:cubicBezTo>
                <a:cubicBezTo>
                  <a:pt x="8559" y="12213"/>
                  <a:pt x="8583" y="12222"/>
                  <a:pt x="8607" y="12254"/>
                </a:cubicBezTo>
                <a:cubicBezTo>
                  <a:pt x="8580" y="12350"/>
                  <a:pt x="8544" y="12328"/>
                  <a:pt x="8434" y="123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0200" y="4545000"/>
            <a:ext cx="1054080" cy="893880"/>
          </a:xfrm>
          <a:custGeom>
            <a:avLst/>
            <a:gdLst/>
            <a:ahLst/>
            <a:rect l="l" t="t" r="r" b="b"/>
            <a:pathLst>
              <a:path w="2928" h="2481">
                <a:moveTo>
                  <a:pt x="7813" y="13543"/>
                </a:moveTo>
                <a:cubicBezTo>
                  <a:pt x="7834" y="13626"/>
                  <a:pt x="7842" y="13641"/>
                  <a:pt x="7838" y="13692"/>
                </a:cubicBezTo>
              </a:path>
              <a:path w="2928" h="2481">
                <a:moveTo>
                  <a:pt x="7739" y="13643"/>
                </a:moveTo>
                <a:cubicBezTo>
                  <a:pt x="7772" y="13635"/>
                  <a:pt x="7805" y="13626"/>
                  <a:pt x="7838" y="13618"/>
                </a:cubicBezTo>
              </a:path>
              <a:path w="2928" h="2481">
                <a:moveTo>
                  <a:pt x="8086" y="13469"/>
                </a:moveTo>
                <a:cubicBezTo>
                  <a:pt x="8129" y="13443"/>
                  <a:pt x="8345" y="13364"/>
                  <a:pt x="8260" y="13494"/>
                </a:cubicBezTo>
                <a:cubicBezTo>
                  <a:pt x="8214" y="13540"/>
                  <a:pt x="8201" y="13554"/>
                  <a:pt x="8161" y="13568"/>
                </a:cubicBezTo>
                <a:cubicBezTo>
                  <a:pt x="8229" y="13568"/>
                  <a:pt x="8272" y="13572"/>
                  <a:pt x="8334" y="13593"/>
                </a:cubicBezTo>
                <a:cubicBezTo>
                  <a:pt x="8300" y="13716"/>
                  <a:pt x="8293" y="13698"/>
                  <a:pt x="8161" y="13742"/>
                </a:cubicBezTo>
              </a:path>
              <a:path w="2928" h="2481">
                <a:moveTo>
                  <a:pt x="8930" y="12948"/>
                </a:moveTo>
                <a:cubicBezTo>
                  <a:pt x="8997" y="13116"/>
                  <a:pt x="9029" y="13237"/>
                  <a:pt x="9029" y="13419"/>
                </a:cubicBezTo>
              </a:path>
              <a:path w="2928" h="2481">
                <a:moveTo>
                  <a:pt x="9426" y="12874"/>
                </a:moveTo>
                <a:cubicBezTo>
                  <a:pt x="9470" y="13039"/>
                  <a:pt x="9494" y="13199"/>
                  <a:pt x="9500" y="13370"/>
                </a:cubicBezTo>
                <a:cubicBezTo>
                  <a:pt x="9500" y="13386"/>
                  <a:pt x="9500" y="13403"/>
                  <a:pt x="9500" y="13419"/>
                </a:cubicBezTo>
              </a:path>
              <a:path w="2928" h="2481">
                <a:moveTo>
                  <a:pt x="8855" y="13568"/>
                </a:moveTo>
                <a:cubicBezTo>
                  <a:pt x="9001" y="13685"/>
                  <a:pt x="9138" y="13683"/>
                  <a:pt x="9327" y="13667"/>
                </a:cubicBezTo>
                <a:cubicBezTo>
                  <a:pt x="9547" y="13648"/>
                  <a:pt x="9815" y="13560"/>
                  <a:pt x="9872" y="13320"/>
                </a:cubicBezTo>
                <a:cubicBezTo>
                  <a:pt x="9900" y="13202"/>
                  <a:pt x="9873" y="13009"/>
                  <a:pt x="9823" y="12898"/>
                </a:cubicBezTo>
                <a:cubicBezTo>
                  <a:pt x="9772" y="12786"/>
                  <a:pt x="9702" y="12725"/>
                  <a:pt x="9599" y="12675"/>
                </a:cubicBezTo>
                <a:cubicBezTo>
                  <a:pt x="9488" y="12621"/>
                  <a:pt x="9369" y="12644"/>
                  <a:pt x="9252" y="12650"/>
                </a:cubicBezTo>
                <a:cubicBezTo>
                  <a:pt x="9132" y="12656"/>
                  <a:pt x="8944" y="12676"/>
                  <a:pt x="8855" y="12774"/>
                </a:cubicBezTo>
                <a:cubicBezTo>
                  <a:pt x="8788" y="12848"/>
                  <a:pt x="8774" y="12954"/>
                  <a:pt x="8756" y="13047"/>
                </a:cubicBezTo>
                <a:cubicBezTo>
                  <a:pt x="8731" y="13177"/>
                  <a:pt x="8729" y="13245"/>
                  <a:pt x="8781" y="13370"/>
                </a:cubicBezTo>
                <a:cubicBezTo>
                  <a:pt x="8813" y="13448"/>
                  <a:pt x="8871" y="13516"/>
                  <a:pt x="8880" y="13593"/>
                </a:cubicBezTo>
                <a:cubicBezTo>
                  <a:pt x="8890" y="13686"/>
                  <a:pt x="8928" y="13692"/>
                  <a:pt x="9004" y="13717"/>
                </a:cubicBezTo>
              </a:path>
              <a:path w="2928" h="2481">
                <a:moveTo>
                  <a:pt x="7193" y="14163"/>
                </a:moveTo>
                <a:cubicBezTo>
                  <a:pt x="7106" y="14163"/>
                  <a:pt x="7090" y="14144"/>
                  <a:pt x="7045" y="14213"/>
                </a:cubicBezTo>
                <a:cubicBezTo>
                  <a:pt x="7007" y="14270"/>
                  <a:pt x="6991" y="14273"/>
                  <a:pt x="6995" y="14312"/>
                </a:cubicBezTo>
                <a:cubicBezTo>
                  <a:pt x="7096" y="14323"/>
                  <a:pt x="7155" y="14338"/>
                  <a:pt x="7218" y="14412"/>
                </a:cubicBezTo>
                <a:cubicBezTo>
                  <a:pt x="7145" y="14513"/>
                  <a:pt x="7088" y="14488"/>
                  <a:pt x="6970" y="14461"/>
                </a:cubicBezTo>
              </a:path>
              <a:path w="2928" h="2481">
                <a:moveTo>
                  <a:pt x="7367" y="14238"/>
                </a:moveTo>
                <a:cubicBezTo>
                  <a:pt x="7301" y="14388"/>
                  <a:pt x="7255" y="14520"/>
                  <a:pt x="7491" y="14486"/>
                </a:cubicBezTo>
                <a:cubicBezTo>
                  <a:pt x="7649" y="14463"/>
                  <a:pt x="7448" y="14305"/>
                  <a:pt x="7417" y="14288"/>
                </a:cubicBezTo>
              </a:path>
              <a:path w="2928" h="2481">
                <a:moveTo>
                  <a:pt x="6945" y="14709"/>
                </a:moveTo>
                <a:cubicBezTo>
                  <a:pt x="7090" y="14671"/>
                  <a:pt x="7217" y="14660"/>
                  <a:pt x="7367" y="14660"/>
                </a:cubicBezTo>
              </a:path>
              <a:path w="2928" h="2481">
                <a:moveTo>
                  <a:pt x="7144" y="14833"/>
                </a:moveTo>
                <a:cubicBezTo>
                  <a:pt x="7041" y="14833"/>
                  <a:pt x="7032" y="14872"/>
                  <a:pt x="6970" y="14957"/>
                </a:cubicBezTo>
                <a:cubicBezTo>
                  <a:pt x="7035" y="14975"/>
                  <a:pt x="7169" y="14962"/>
                  <a:pt x="7218" y="15007"/>
                </a:cubicBezTo>
                <a:cubicBezTo>
                  <a:pt x="7334" y="15114"/>
                  <a:pt x="7021" y="15084"/>
                  <a:pt x="6995" y="15081"/>
                </a:cubicBezTo>
              </a:path>
              <a:path w="2928" h="2481">
                <a:moveTo>
                  <a:pt x="7863" y="14560"/>
                </a:moveTo>
                <a:cubicBezTo>
                  <a:pt x="7869" y="14619"/>
                  <a:pt x="7880" y="14676"/>
                  <a:pt x="7888" y="14734"/>
                </a:cubicBezTo>
              </a:path>
              <a:path w="2928" h="2481">
                <a:moveTo>
                  <a:pt x="7739" y="14660"/>
                </a:moveTo>
                <a:cubicBezTo>
                  <a:pt x="7855" y="14647"/>
                  <a:pt x="7970" y="14631"/>
                  <a:pt x="8086" y="14610"/>
                </a:cubicBezTo>
              </a:path>
              <a:path w="2928" h="2481">
                <a:moveTo>
                  <a:pt x="8186" y="14387"/>
                </a:moveTo>
                <a:cubicBezTo>
                  <a:pt x="8226" y="14359"/>
                  <a:pt x="8393" y="14243"/>
                  <a:pt x="8409" y="14337"/>
                </a:cubicBezTo>
                <a:cubicBezTo>
                  <a:pt x="8409" y="14422"/>
                  <a:pt x="8402" y="14454"/>
                  <a:pt x="8334" y="14486"/>
                </a:cubicBezTo>
                <a:cubicBezTo>
                  <a:pt x="8318" y="14494"/>
                  <a:pt x="8301" y="14503"/>
                  <a:pt x="8285" y="14511"/>
                </a:cubicBezTo>
                <a:cubicBezTo>
                  <a:pt x="8302" y="14508"/>
                  <a:pt x="8569" y="14493"/>
                  <a:pt x="8458" y="14610"/>
                </a:cubicBezTo>
                <a:cubicBezTo>
                  <a:pt x="8376" y="14652"/>
                  <a:pt x="8360" y="14660"/>
                  <a:pt x="8310" y="146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0200" y="5295960"/>
            <a:ext cx="1125720" cy="428400"/>
          </a:xfrm>
          <a:custGeom>
            <a:avLst/>
            <a:gdLst/>
            <a:ahLst/>
            <a:rect l="l" t="t" r="r" b="b"/>
            <a:pathLst>
              <a:path w="3127" h="1192">
                <a:moveTo>
                  <a:pt x="6970" y="15453"/>
                </a:moveTo>
                <a:cubicBezTo>
                  <a:pt x="6970" y="15543"/>
                  <a:pt x="6962" y="15613"/>
                  <a:pt x="6945" y="15701"/>
                </a:cubicBezTo>
              </a:path>
              <a:path w="3127" h="1192">
                <a:moveTo>
                  <a:pt x="7218" y="15478"/>
                </a:moveTo>
                <a:cubicBezTo>
                  <a:pt x="7132" y="15651"/>
                  <a:pt x="7121" y="15767"/>
                  <a:pt x="7367" y="15701"/>
                </a:cubicBezTo>
                <a:cubicBezTo>
                  <a:pt x="7479" y="15671"/>
                  <a:pt x="7377" y="15558"/>
                  <a:pt x="7342" y="15528"/>
                </a:cubicBezTo>
              </a:path>
              <a:path w="3127" h="1192">
                <a:moveTo>
                  <a:pt x="7739" y="15478"/>
                </a:moveTo>
                <a:cubicBezTo>
                  <a:pt x="7755" y="15554"/>
                  <a:pt x="7765" y="15638"/>
                  <a:pt x="7789" y="15701"/>
                </a:cubicBezTo>
              </a:path>
              <a:path w="3127" h="1192">
                <a:moveTo>
                  <a:pt x="7565" y="15602"/>
                </a:moveTo>
                <a:cubicBezTo>
                  <a:pt x="7685" y="15602"/>
                  <a:pt x="7800" y="15605"/>
                  <a:pt x="7913" y="15577"/>
                </a:cubicBezTo>
              </a:path>
              <a:path w="3127" h="1192">
                <a:moveTo>
                  <a:pt x="7987" y="15429"/>
                </a:moveTo>
                <a:cubicBezTo>
                  <a:pt x="8044" y="15416"/>
                  <a:pt x="8310" y="15336"/>
                  <a:pt x="8210" y="15478"/>
                </a:cubicBezTo>
                <a:cubicBezTo>
                  <a:pt x="8161" y="15503"/>
                  <a:pt x="8144" y="15512"/>
                  <a:pt x="8111" y="15528"/>
                </a:cubicBezTo>
                <a:cubicBezTo>
                  <a:pt x="8178" y="15535"/>
                  <a:pt x="8228" y="15545"/>
                  <a:pt x="8285" y="15577"/>
                </a:cubicBezTo>
                <a:cubicBezTo>
                  <a:pt x="8255" y="15697"/>
                  <a:pt x="8204" y="15677"/>
                  <a:pt x="8086" y="15677"/>
                </a:cubicBezTo>
              </a:path>
              <a:path w="3127" h="1192">
                <a:moveTo>
                  <a:pt x="8979" y="15131"/>
                </a:moveTo>
                <a:cubicBezTo>
                  <a:pt x="8985" y="15284"/>
                  <a:pt x="9014" y="15427"/>
                  <a:pt x="9029" y="15577"/>
                </a:cubicBezTo>
              </a:path>
              <a:path w="3127" h="1192">
                <a:moveTo>
                  <a:pt x="9203" y="15156"/>
                </a:moveTo>
                <a:cubicBezTo>
                  <a:pt x="9246" y="15139"/>
                  <a:pt x="9451" y="15037"/>
                  <a:pt x="9451" y="15180"/>
                </a:cubicBezTo>
                <a:cubicBezTo>
                  <a:pt x="9451" y="15249"/>
                  <a:pt x="9394" y="15287"/>
                  <a:pt x="9351" y="15329"/>
                </a:cubicBezTo>
                <a:cubicBezTo>
                  <a:pt x="9406" y="15308"/>
                  <a:pt x="9661" y="15301"/>
                  <a:pt x="9599" y="15453"/>
                </a:cubicBezTo>
                <a:cubicBezTo>
                  <a:pt x="9567" y="15533"/>
                  <a:pt x="9416" y="15522"/>
                  <a:pt x="9351" y="15528"/>
                </a:cubicBezTo>
              </a:path>
              <a:path w="3127" h="1192">
                <a:moveTo>
                  <a:pt x="8905" y="15801"/>
                </a:moveTo>
                <a:cubicBezTo>
                  <a:pt x="9123" y="15897"/>
                  <a:pt x="9286" y="15921"/>
                  <a:pt x="9525" y="15875"/>
                </a:cubicBezTo>
                <a:cubicBezTo>
                  <a:pt x="9774" y="15828"/>
                  <a:pt x="9906" y="15728"/>
                  <a:pt x="10021" y="15503"/>
                </a:cubicBezTo>
                <a:cubicBezTo>
                  <a:pt x="10101" y="15346"/>
                  <a:pt x="10085" y="15182"/>
                  <a:pt x="9996" y="15032"/>
                </a:cubicBezTo>
                <a:cubicBezTo>
                  <a:pt x="9938" y="14934"/>
                  <a:pt x="9807" y="14828"/>
                  <a:pt x="9699" y="14784"/>
                </a:cubicBezTo>
                <a:cubicBezTo>
                  <a:pt x="9537" y="14718"/>
                  <a:pt x="9374" y="14684"/>
                  <a:pt x="9203" y="14734"/>
                </a:cubicBezTo>
                <a:cubicBezTo>
                  <a:pt x="9068" y="14773"/>
                  <a:pt x="8892" y="14836"/>
                  <a:pt x="8806" y="14957"/>
                </a:cubicBezTo>
                <a:cubicBezTo>
                  <a:pt x="8733" y="15060"/>
                  <a:pt x="8652" y="15204"/>
                  <a:pt x="8632" y="15329"/>
                </a:cubicBezTo>
                <a:cubicBezTo>
                  <a:pt x="8611" y="15460"/>
                  <a:pt x="8701" y="15564"/>
                  <a:pt x="8781" y="15652"/>
                </a:cubicBezTo>
                <a:cubicBezTo>
                  <a:pt x="8875" y="15755"/>
                  <a:pt x="8917" y="15793"/>
                  <a:pt x="9054" y="15825"/>
                </a:cubicBezTo>
                <a:cubicBezTo>
                  <a:pt x="9153" y="15845"/>
                  <a:pt x="9168" y="15853"/>
                  <a:pt x="9227" y="158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61080" y="3616200"/>
            <a:ext cx="233280" cy="135000"/>
          </a:xfrm>
          <a:custGeom>
            <a:avLst/>
            <a:gdLst/>
            <a:ahLst/>
            <a:rect l="l" t="t" r="r" b="b"/>
            <a:pathLst>
              <a:path w="646" h="373">
                <a:moveTo>
                  <a:pt x="18579" y="10145"/>
                </a:moveTo>
                <a:cubicBezTo>
                  <a:pt x="18638" y="10086"/>
                  <a:pt x="18629" y="10082"/>
                  <a:pt x="18703" y="10071"/>
                </a:cubicBezTo>
                <a:cubicBezTo>
                  <a:pt x="18758" y="10209"/>
                  <a:pt x="18665" y="10257"/>
                  <a:pt x="18554" y="10368"/>
                </a:cubicBezTo>
                <a:cubicBezTo>
                  <a:pt x="18537" y="10385"/>
                  <a:pt x="18521" y="10401"/>
                  <a:pt x="18504" y="10418"/>
                </a:cubicBezTo>
                <a:cubicBezTo>
                  <a:pt x="18553" y="10337"/>
                  <a:pt x="18616" y="10262"/>
                  <a:pt x="18703" y="10368"/>
                </a:cubicBezTo>
                <a:cubicBezTo>
                  <a:pt x="18711" y="10385"/>
                  <a:pt x="18720" y="10401"/>
                  <a:pt x="18728" y="10418"/>
                </a:cubicBezTo>
              </a:path>
              <a:path w="646" h="373">
                <a:moveTo>
                  <a:pt x="18901" y="10145"/>
                </a:moveTo>
                <a:cubicBezTo>
                  <a:pt x="18918" y="10207"/>
                  <a:pt x="18926" y="10233"/>
                  <a:pt x="18926" y="10294"/>
                </a:cubicBezTo>
                <a:cubicBezTo>
                  <a:pt x="19022" y="10294"/>
                  <a:pt x="19048" y="10290"/>
                  <a:pt x="19124" y="10244"/>
                </a:cubicBezTo>
              </a:path>
              <a:path w="646" h="373">
                <a:moveTo>
                  <a:pt x="19149" y="10046"/>
                </a:moveTo>
                <a:cubicBezTo>
                  <a:pt x="19122" y="10163"/>
                  <a:pt x="19130" y="10280"/>
                  <a:pt x="19100" y="103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91200" y="3697200"/>
            <a:ext cx="54000" cy="9720"/>
          </a:xfrm>
          <a:custGeom>
            <a:avLst/>
            <a:gdLst/>
            <a:ahLst/>
            <a:rect l="l" t="t" r="r" b="b"/>
            <a:pathLst>
              <a:path w="150" h="26">
                <a:moveTo>
                  <a:pt x="19422" y="10269"/>
                </a:moveTo>
                <a:cubicBezTo>
                  <a:pt x="19478" y="10288"/>
                  <a:pt x="19510" y="10294"/>
                  <a:pt x="19571" y="102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34120" y="3544920"/>
            <a:ext cx="339840" cy="295200"/>
          </a:xfrm>
          <a:custGeom>
            <a:avLst/>
            <a:gdLst/>
            <a:ahLst/>
            <a:rect l="l" t="t" r="r" b="b"/>
            <a:pathLst>
              <a:path w="944" h="820">
                <a:moveTo>
                  <a:pt x="19893" y="10120"/>
                </a:moveTo>
                <a:cubicBezTo>
                  <a:pt x="19886" y="10121"/>
                  <a:pt x="19847" y="10249"/>
                  <a:pt x="19819" y="10319"/>
                </a:cubicBezTo>
                <a:cubicBezTo>
                  <a:pt x="19888" y="10361"/>
                  <a:pt x="19959" y="10326"/>
                  <a:pt x="20042" y="10319"/>
                </a:cubicBezTo>
              </a:path>
              <a:path w="944" h="820">
                <a:moveTo>
                  <a:pt x="20092" y="10046"/>
                </a:moveTo>
                <a:cubicBezTo>
                  <a:pt x="20109" y="10156"/>
                  <a:pt x="20092" y="10250"/>
                  <a:pt x="20092" y="10368"/>
                </a:cubicBezTo>
              </a:path>
              <a:path w="944" h="820">
                <a:moveTo>
                  <a:pt x="20117" y="10344"/>
                </a:moveTo>
                <a:cubicBezTo>
                  <a:pt x="20069" y="10380"/>
                  <a:pt x="20067" y="10424"/>
                  <a:pt x="20067" y="10492"/>
                </a:cubicBezTo>
              </a:path>
              <a:path w="944" h="820">
                <a:moveTo>
                  <a:pt x="20365" y="10145"/>
                </a:moveTo>
                <a:cubicBezTo>
                  <a:pt x="20387" y="10100"/>
                  <a:pt x="20410" y="10096"/>
                  <a:pt x="20464" y="10096"/>
                </a:cubicBezTo>
                <a:cubicBezTo>
                  <a:pt x="20537" y="10096"/>
                  <a:pt x="20565" y="10175"/>
                  <a:pt x="20538" y="10244"/>
                </a:cubicBezTo>
                <a:cubicBezTo>
                  <a:pt x="20529" y="10268"/>
                  <a:pt x="20430" y="10361"/>
                  <a:pt x="20414" y="10368"/>
                </a:cubicBezTo>
                <a:cubicBezTo>
                  <a:pt x="20339" y="10399"/>
                  <a:pt x="20280" y="10376"/>
                  <a:pt x="20265" y="10492"/>
                </a:cubicBezTo>
                <a:cubicBezTo>
                  <a:pt x="20250" y="10610"/>
                  <a:pt x="20259" y="10426"/>
                  <a:pt x="20340" y="10443"/>
                </a:cubicBezTo>
                <a:cubicBezTo>
                  <a:pt x="20418" y="10459"/>
                  <a:pt x="20459" y="10555"/>
                  <a:pt x="20538" y="10542"/>
                </a:cubicBezTo>
                <a:cubicBezTo>
                  <a:pt x="20582" y="10520"/>
                  <a:pt x="20594" y="10517"/>
                  <a:pt x="20613" y="10492"/>
                </a:cubicBezTo>
              </a:path>
              <a:path w="944" h="820">
                <a:moveTo>
                  <a:pt x="20389" y="9847"/>
                </a:moveTo>
                <a:cubicBezTo>
                  <a:pt x="20335" y="9947"/>
                  <a:pt x="20256" y="10037"/>
                  <a:pt x="20216" y="10145"/>
                </a:cubicBezTo>
                <a:cubicBezTo>
                  <a:pt x="20175" y="10256"/>
                  <a:pt x="20138" y="10424"/>
                  <a:pt x="20166" y="10542"/>
                </a:cubicBezTo>
                <a:cubicBezTo>
                  <a:pt x="20188" y="10636"/>
                  <a:pt x="20265" y="10658"/>
                  <a:pt x="20340" y="10666"/>
                </a:cubicBezTo>
              </a:path>
              <a:path w="944" h="820">
                <a:moveTo>
                  <a:pt x="20613" y="9947"/>
                </a:moveTo>
                <a:cubicBezTo>
                  <a:pt x="20717" y="10108"/>
                  <a:pt x="20757" y="10224"/>
                  <a:pt x="20762" y="10418"/>
                </a:cubicBezTo>
                <a:cubicBezTo>
                  <a:pt x="20765" y="10530"/>
                  <a:pt x="20764" y="10576"/>
                  <a:pt x="20712" y="106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26160" y="3821040"/>
            <a:ext cx="1224000" cy="1393920"/>
          </a:xfrm>
          <a:custGeom>
            <a:avLst/>
            <a:gdLst/>
            <a:ahLst/>
            <a:rect l="l" t="t" r="r" b="b"/>
            <a:pathLst>
              <a:path w="3399" h="3871">
                <a:moveTo>
                  <a:pt x="18579" y="10815"/>
                </a:moveTo>
                <a:cubicBezTo>
                  <a:pt x="18677" y="10776"/>
                  <a:pt x="18690" y="10759"/>
                  <a:pt x="18752" y="10765"/>
                </a:cubicBezTo>
                <a:cubicBezTo>
                  <a:pt x="18834" y="10916"/>
                  <a:pt x="18803" y="11014"/>
                  <a:pt x="18628" y="11088"/>
                </a:cubicBezTo>
                <a:cubicBezTo>
                  <a:pt x="18544" y="11108"/>
                  <a:pt x="18525" y="11123"/>
                  <a:pt x="18479" y="11088"/>
                </a:cubicBezTo>
                <a:cubicBezTo>
                  <a:pt x="18582" y="10998"/>
                  <a:pt x="18646" y="11010"/>
                  <a:pt x="18777" y="11063"/>
                </a:cubicBezTo>
              </a:path>
              <a:path w="3399" h="3871">
                <a:moveTo>
                  <a:pt x="18976" y="10740"/>
                </a:moveTo>
                <a:cubicBezTo>
                  <a:pt x="18984" y="10791"/>
                  <a:pt x="18989" y="10884"/>
                  <a:pt x="19050" y="10889"/>
                </a:cubicBezTo>
                <a:cubicBezTo>
                  <a:pt x="19151" y="10889"/>
                  <a:pt x="19186" y="10888"/>
                  <a:pt x="19224" y="10815"/>
                </a:cubicBezTo>
              </a:path>
              <a:path w="3399" h="3871">
                <a:moveTo>
                  <a:pt x="19174" y="10616"/>
                </a:moveTo>
                <a:cubicBezTo>
                  <a:pt x="19174" y="10765"/>
                  <a:pt x="19174" y="10914"/>
                  <a:pt x="19174" y="11063"/>
                </a:cubicBezTo>
              </a:path>
              <a:path w="3399" h="3871">
                <a:moveTo>
                  <a:pt x="19348" y="10889"/>
                </a:moveTo>
                <a:cubicBezTo>
                  <a:pt x="19430" y="10868"/>
                  <a:pt x="19445" y="10860"/>
                  <a:pt x="19496" y="10864"/>
                </a:cubicBezTo>
              </a:path>
              <a:path w="3399" h="3871">
                <a:moveTo>
                  <a:pt x="19869" y="10616"/>
                </a:moveTo>
                <a:cubicBezTo>
                  <a:pt x="19809" y="10665"/>
                  <a:pt x="19663" y="10756"/>
                  <a:pt x="19794" y="10840"/>
                </a:cubicBezTo>
                <a:cubicBezTo>
                  <a:pt x="19906" y="10912"/>
                  <a:pt x="19950" y="10874"/>
                  <a:pt x="19993" y="10988"/>
                </a:cubicBezTo>
                <a:cubicBezTo>
                  <a:pt x="19921" y="11036"/>
                  <a:pt x="19900" y="11054"/>
                  <a:pt x="19844" y="11013"/>
                </a:cubicBezTo>
                <a:cubicBezTo>
                  <a:pt x="19861" y="10904"/>
                  <a:pt x="19898" y="10822"/>
                  <a:pt x="19943" y="10716"/>
                </a:cubicBezTo>
              </a:path>
              <a:path w="3399" h="3871">
                <a:moveTo>
                  <a:pt x="19869" y="11361"/>
                </a:moveTo>
                <a:cubicBezTo>
                  <a:pt x="19869" y="11547"/>
                  <a:pt x="19877" y="11723"/>
                  <a:pt x="19893" y="11906"/>
                </a:cubicBezTo>
              </a:path>
              <a:path w="3399" h="3871">
                <a:moveTo>
                  <a:pt x="20216" y="11336"/>
                </a:moveTo>
                <a:cubicBezTo>
                  <a:pt x="20256" y="11469"/>
                  <a:pt x="20228" y="11571"/>
                  <a:pt x="20216" y="11708"/>
                </a:cubicBezTo>
                <a:cubicBezTo>
                  <a:pt x="20207" y="11808"/>
                  <a:pt x="20224" y="11902"/>
                  <a:pt x="20340" y="11931"/>
                </a:cubicBezTo>
                <a:cubicBezTo>
                  <a:pt x="20468" y="11963"/>
                  <a:pt x="20518" y="11864"/>
                  <a:pt x="20588" y="11782"/>
                </a:cubicBezTo>
                <a:cubicBezTo>
                  <a:pt x="20449" y="11713"/>
                  <a:pt x="20423" y="11765"/>
                  <a:pt x="20365" y="11906"/>
                </a:cubicBezTo>
              </a:path>
              <a:path w="3399" h="3871">
                <a:moveTo>
                  <a:pt x="19819" y="12129"/>
                </a:moveTo>
                <a:cubicBezTo>
                  <a:pt x="19988" y="12181"/>
                  <a:pt x="20138" y="12179"/>
                  <a:pt x="20315" y="12179"/>
                </a:cubicBezTo>
                <a:cubicBezTo>
                  <a:pt x="20532" y="12179"/>
                  <a:pt x="20789" y="12144"/>
                  <a:pt x="20935" y="11956"/>
                </a:cubicBezTo>
                <a:cubicBezTo>
                  <a:pt x="21011" y="11858"/>
                  <a:pt x="21030" y="11702"/>
                  <a:pt x="21034" y="11584"/>
                </a:cubicBezTo>
                <a:cubicBezTo>
                  <a:pt x="21038" y="11457"/>
                  <a:pt x="20966" y="11329"/>
                  <a:pt x="20861" y="11261"/>
                </a:cubicBezTo>
                <a:cubicBezTo>
                  <a:pt x="20751" y="11190"/>
                  <a:pt x="20615" y="11166"/>
                  <a:pt x="20489" y="11162"/>
                </a:cubicBezTo>
                <a:cubicBezTo>
                  <a:pt x="20364" y="11158"/>
                  <a:pt x="20240" y="11128"/>
                  <a:pt x="20117" y="11162"/>
                </a:cubicBezTo>
                <a:cubicBezTo>
                  <a:pt x="19979" y="11200"/>
                  <a:pt x="19809" y="11296"/>
                  <a:pt x="19695" y="11385"/>
                </a:cubicBezTo>
                <a:cubicBezTo>
                  <a:pt x="19599" y="11460"/>
                  <a:pt x="19569" y="11578"/>
                  <a:pt x="19521" y="11683"/>
                </a:cubicBezTo>
                <a:cubicBezTo>
                  <a:pt x="19472" y="11790"/>
                  <a:pt x="19429" y="11964"/>
                  <a:pt x="19496" y="12080"/>
                </a:cubicBezTo>
                <a:cubicBezTo>
                  <a:pt x="19585" y="12233"/>
                  <a:pt x="19793" y="12225"/>
                  <a:pt x="19943" y="12229"/>
                </a:cubicBezTo>
                <a:cubicBezTo>
                  <a:pt x="20017" y="12231"/>
                  <a:pt x="20092" y="12229"/>
                  <a:pt x="20166" y="12229"/>
                </a:cubicBezTo>
              </a:path>
              <a:path w="3399" h="3871">
                <a:moveTo>
                  <a:pt x="18554" y="12452"/>
                </a:moveTo>
                <a:lnTo>
                  <a:pt x="18554" y="12452"/>
                </a:lnTo>
              </a:path>
              <a:path w="3399" h="3871">
                <a:moveTo>
                  <a:pt x="18504" y="12551"/>
                </a:moveTo>
                <a:cubicBezTo>
                  <a:pt x="18577" y="12451"/>
                  <a:pt x="18603" y="12416"/>
                  <a:pt x="18728" y="12402"/>
                </a:cubicBezTo>
                <a:cubicBezTo>
                  <a:pt x="18758" y="12575"/>
                  <a:pt x="18698" y="12670"/>
                  <a:pt x="18579" y="12799"/>
                </a:cubicBezTo>
                <a:cubicBezTo>
                  <a:pt x="18546" y="12832"/>
                  <a:pt x="18512" y="12865"/>
                  <a:pt x="18479" y="12898"/>
                </a:cubicBezTo>
                <a:cubicBezTo>
                  <a:pt x="18457" y="12969"/>
                  <a:pt x="18559" y="12807"/>
                  <a:pt x="18703" y="12824"/>
                </a:cubicBezTo>
                <a:cubicBezTo>
                  <a:pt x="18719" y="12832"/>
                  <a:pt x="18736" y="12841"/>
                  <a:pt x="18752" y="12849"/>
                </a:cubicBezTo>
              </a:path>
              <a:path w="3399" h="3871">
                <a:moveTo>
                  <a:pt x="18901" y="12477"/>
                </a:moveTo>
                <a:cubicBezTo>
                  <a:pt x="18901" y="12562"/>
                  <a:pt x="18907" y="12582"/>
                  <a:pt x="18876" y="12626"/>
                </a:cubicBezTo>
                <a:cubicBezTo>
                  <a:pt x="18955" y="12687"/>
                  <a:pt x="18940" y="12666"/>
                  <a:pt x="19050" y="12650"/>
                </a:cubicBezTo>
              </a:path>
              <a:path w="3399" h="3871">
                <a:moveTo>
                  <a:pt x="19100" y="12353"/>
                </a:moveTo>
                <a:cubicBezTo>
                  <a:pt x="19078" y="12512"/>
                  <a:pt x="19075" y="12663"/>
                  <a:pt x="19075" y="12824"/>
                </a:cubicBezTo>
              </a:path>
              <a:path w="3399" h="3871">
                <a:moveTo>
                  <a:pt x="19323" y="12626"/>
                </a:moveTo>
                <a:cubicBezTo>
                  <a:pt x="19369" y="12598"/>
                  <a:pt x="19413" y="12592"/>
                  <a:pt x="19472" y="12576"/>
                </a:cubicBezTo>
              </a:path>
              <a:path w="3399" h="3871">
                <a:moveTo>
                  <a:pt x="19521" y="12452"/>
                </a:moveTo>
                <a:cubicBezTo>
                  <a:pt x="19566" y="12631"/>
                  <a:pt x="19577" y="12624"/>
                  <a:pt x="19769" y="12601"/>
                </a:cubicBezTo>
              </a:path>
              <a:path w="3399" h="3871">
                <a:moveTo>
                  <a:pt x="19819" y="12353"/>
                </a:moveTo>
                <a:cubicBezTo>
                  <a:pt x="19798" y="12496"/>
                  <a:pt x="19794" y="12630"/>
                  <a:pt x="19794" y="12774"/>
                </a:cubicBezTo>
              </a:path>
              <a:path w="3399" h="3871">
                <a:moveTo>
                  <a:pt x="20042" y="12353"/>
                </a:moveTo>
                <a:lnTo>
                  <a:pt x="20042" y="12353"/>
                </a:lnTo>
              </a:path>
              <a:path w="3399" h="3871">
                <a:moveTo>
                  <a:pt x="20042" y="12353"/>
                </a:moveTo>
                <a:cubicBezTo>
                  <a:pt x="20031" y="12437"/>
                  <a:pt x="20013" y="12544"/>
                  <a:pt x="19993" y="12626"/>
                </a:cubicBezTo>
                <a:cubicBezTo>
                  <a:pt x="19972" y="12714"/>
                  <a:pt x="19988" y="12743"/>
                  <a:pt x="19993" y="12824"/>
                </a:cubicBezTo>
                <a:cubicBezTo>
                  <a:pt x="19998" y="12910"/>
                  <a:pt x="19999" y="12917"/>
                  <a:pt x="20092" y="12948"/>
                </a:cubicBezTo>
              </a:path>
              <a:path w="3399" h="3871">
                <a:moveTo>
                  <a:pt x="20191" y="12502"/>
                </a:moveTo>
                <a:cubicBezTo>
                  <a:pt x="20191" y="12655"/>
                  <a:pt x="20171" y="12664"/>
                  <a:pt x="20315" y="12650"/>
                </a:cubicBezTo>
                <a:cubicBezTo>
                  <a:pt x="20332" y="12650"/>
                  <a:pt x="20348" y="12650"/>
                  <a:pt x="20365" y="12650"/>
                </a:cubicBezTo>
              </a:path>
              <a:path w="3399" h="3871">
                <a:moveTo>
                  <a:pt x="20389" y="12502"/>
                </a:moveTo>
                <a:cubicBezTo>
                  <a:pt x="20366" y="12579"/>
                  <a:pt x="20353" y="12674"/>
                  <a:pt x="20389" y="12750"/>
                </a:cubicBezTo>
                <a:cubicBezTo>
                  <a:pt x="20397" y="12758"/>
                  <a:pt x="20406" y="12766"/>
                  <a:pt x="20414" y="12774"/>
                </a:cubicBezTo>
              </a:path>
              <a:path w="3399" h="3871">
                <a:moveTo>
                  <a:pt x="20389" y="12204"/>
                </a:moveTo>
                <a:cubicBezTo>
                  <a:pt x="20533" y="12270"/>
                  <a:pt x="20612" y="12343"/>
                  <a:pt x="20662" y="12502"/>
                </a:cubicBezTo>
                <a:cubicBezTo>
                  <a:pt x="20711" y="12658"/>
                  <a:pt x="20719" y="12722"/>
                  <a:pt x="20638" y="12849"/>
                </a:cubicBezTo>
                <a:cubicBezTo>
                  <a:pt x="20616" y="12892"/>
                  <a:pt x="20612" y="12904"/>
                  <a:pt x="20588" y="12923"/>
                </a:cubicBezTo>
              </a:path>
              <a:path w="3399" h="3871">
                <a:moveTo>
                  <a:pt x="19844" y="13171"/>
                </a:moveTo>
                <a:cubicBezTo>
                  <a:pt x="19844" y="13136"/>
                  <a:pt x="19839" y="13119"/>
                  <a:pt x="19819" y="13097"/>
                </a:cubicBezTo>
                <a:cubicBezTo>
                  <a:pt x="19819" y="13213"/>
                  <a:pt x="19819" y="13328"/>
                  <a:pt x="19819" y="13444"/>
                </a:cubicBezTo>
              </a:path>
              <a:path w="3399" h="3871">
                <a:moveTo>
                  <a:pt x="20092" y="13097"/>
                </a:moveTo>
                <a:cubicBezTo>
                  <a:pt x="20104" y="13191"/>
                  <a:pt x="20113" y="13283"/>
                  <a:pt x="20141" y="13370"/>
                </a:cubicBezTo>
                <a:cubicBezTo>
                  <a:pt x="20276" y="13370"/>
                  <a:pt x="20421" y="13397"/>
                  <a:pt x="20439" y="13221"/>
                </a:cubicBezTo>
                <a:cubicBezTo>
                  <a:pt x="20431" y="13213"/>
                  <a:pt x="20422" y="13204"/>
                  <a:pt x="20414" y="13196"/>
                </a:cubicBezTo>
                <a:cubicBezTo>
                  <a:pt x="20314" y="13230"/>
                  <a:pt x="20287" y="13272"/>
                  <a:pt x="20265" y="13370"/>
                </a:cubicBezTo>
              </a:path>
              <a:path w="3399" h="3871">
                <a:moveTo>
                  <a:pt x="18479" y="13171"/>
                </a:moveTo>
                <a:cubicBezTo>
                  <a:pt x="18611" y="13131"/>
                  <a:pt x="18622" y="13131"/>
                  <a:pt x="18752" y="13171"/>
                </a:cubicBezTo>
                <a:cubicBezTo>
                  <a:pt x="18738" y="13336"/>
                  <a:pt x="18723" y="13589"/>
                  <a:pt x="18479" y="13568"/>
                </a:cubicBezTo>
                <a:cubicBezTo>
                  <a:pt x="18454" y="13552"/>
                  <a:pt x="18430" y="13535"/>
                  <a:pt x="18405" y="13519"/>
                </a:cubicBezTo>
                <a:cubicBezTo>
                  <a:pt x="18451" y="13417"/>
                  <a:pt x="18526" y="13327"/>
                  <a:pt x="18653" y="13419"/>
                </a:cubicBezTo>
                <a:cubicBezTo>
                  <a:pt x="18661" y="13436"/>
                  <a:pt x="18670" y="13452"/>
                  <a:pt x="18678" y="13469"/>
                </a:cubicBezTo>
              </a:path>
              <a:path w="3399" h="3871">
                <a:moveTo>
                  <a:pt x="18852" y="13146"/>
                </a:moveTo>
                <a:cubicBezTo>
                  <a:pt x="18852" y="13217"/>
                  <a:pt x="18813" y="13349"/>
                  <a:pt x="18901" y="13370"/>
                </a:cubicBezTo>
                <a:cubicBezTo>
                  <a:pt x="18974" y="13370"/>
                  <a:pt x="18998" y="13371"/>
                  <a:pt x="19025" y="13320"/>
                </a:cubicBezTo>
              </a:path>
              <a:path w="3399" h="3871">
                <a:moveTo>
                  <a:pt x="19050" y="13097"/>
                </a:moveTo>
                <a:cubicBezTo>
                  <a:pt x="19012" y="13241"/>
                  <a:pt x="18990" y="13371"/>
                  <a:pt x="18976" y="13519"/>
                </a:cubicBezTo>
              </a:path>
              <a:path w="3399" h="3871">
                <a:moveTo>
                  <a:pt x="19273" y="13295"/>
                </a:moveTo>
                <a:cubicBezTo>
                  <a:pt x="19315" y="13295"/>
                  <a:pt x="19323" y="13295"/>
                  <a:pt x="19348" y="13295"/>
                </a:cubicBezTo>
              </a:path>
              <a:path w="3399" h="3871">
                <a:moveTo>
                  <a:pt x="21208" y="13593"/>
                </a:moveTo>
                <a:cubicBezTo>
                  <a:pt x="21191" y="13585"/>
                  <a:pt x="21175" y="13576"/>
                  <a:pt x="21158" y="13568"/>
                </a:cubicBezTo>
              </a:path>
              <a:path w="3399" h="3871">
                <a:moveTo>
                  <a:pt x="21208" y="13618"/>
                </a:moveTo>
                <a:cubicBezTo>
                  <a:pt x="21157" y="13575"/>
                  <a:pt x="21108" y="13521"/>
                  <a:pt x="21034" y="13543"/>
                </a:cubicBezTo>
                <a:cubicBezTo>
                  <a:pt x="20985" y="13557"/>
                  <a:pt x="20870" y="13573"/>
                  <a:pt x="20836" y="13618"/>
                </a:cubicBezTo>
                <a:cubicBezTo>
                  <a:pt x="20741" y="13743"/>
                  <a:pt x="20813" y="13803"/>
                  <a:pt x="20935" y="13866"/>
                </a:cubicBezTo>
                <a:cubicBezTo>
                  <a:pt x="21035" y="13918"/>
                  <a:pt x="21150" y="13904"/>
                  <a:pt x="21208" y="14015"/>
                </a:cubicBezTo>
                <a:cubicBezTo>
                  <a:pt x="21241" y="14078"/>
                  <a:pt x="21215" y="14209"/>
                  <a:pt x="21134" y="14238"/>
                </a:cubicBezTo>
                <a:cubicBezTo>
                  <a:pt x="21034" y="14274"/>
                  <a:pt x="20870" y="14188"/>
                  <a:pt x="20935" y="14064"/>
                </a:cubicBezTo>
                <a:cubicBezTo>
                  <a:pt x="21000" y="13939"/>
                  <a:pt x="21152" y="13836"/>
                  <a:pt x="21233" y="13717"/>
                </a:cubicBezTo>
                <a:cubicBezTo>
                  <a:pt x="21257" y="13669"/>
                  <a:pt x="21265" y="13655"/>
                  <a:pt x="21258" y="13618"/>
                </a:cubicBezTo>
              </a:path>
              <a:path w="3399" h="3871">
                <a:moveTo>
                  <a:pt x="20638" y="14114"/>
                </a:moveTo>
                <a:cubicBezTo>
                  <a:pt x="20694" y="14249"/>
                  <a:pt x="20749" y="14322"/>
                  <a:pt x="20886" y="14387"/>
                </a:cubicBezTo>
                <a:cubicBezTo>
                  <a:pt x="21053" y="14466"/>
                  <a:pt x="21212" y="14492"/>
                  <a:pt x="21382" y="14412"/>
                </a:cubicBezTo>
                <a:cubicBezTo>
                  <a:pt x="21532" y="14342"/>
                  <a:pt x="21722" y="14153"/>
                  <a:pt x="21779" y="13990"/>
                </a:cubicBezTo>
                <a:cubicBezTo>
                  <a:pt x="21827" y="13853"/>
                  <a:pt x="21763" y="13728"/>
                  <a:pt x="21679" y="13618"/>
                </a:cubicBezTo>
                <a:cubicBezTo>
                  <a:pt x="21574" y="13481"/>
                  <a:pt x="21552" y="13468"/>
                  <a:pt x="21382" y="13419"/>
                </a:cubicBezTo>
                <a:cubicBezTo>
                  <a:pt x="21302" y="13396"/>
                  <a:pt x="21241" y="13395"/>
                  <a:pt x="21158" y="13395"/>
                </a:cubicBezTo>
                <a:cubicBezTo>
                  <a:pt x="21062" y="13395"/>
                  <a:pt x="20943" y="13441"/>
                  <a:pt x="20861" y="13494"/>
                </a:cubicBezTo>
                <a:cubicBezTo>
                  <a:pt x="20800" y="13533"/>
                  <a:pt x="20741" y="13567"/>
                  <a:pt x="20687" y="13618"/>
                </a:cubicBezTo>
                <a:cubicBezTo>
                  <a:pt x="20619" y="13683"/>
                  <a:pt x="20581" y="13745"/>
                  <a:pt x="20563" y="13841"/>
                </a:cubicBezTo>
                <a:cubicBezTo>
                  <a:pt x="20545" y="13941"/>
                  <a:pt x="20597" y="14056"/>
                  <a:pt x="20638" y="14139"/>
                </a:cubicBezTo>
                <a:cubicBezTo>
                  <a:pt x="20682" y="14228"/>
                  <a:pt x="20738" y="14347"/>
                  <a:pt x="20811" y="14412"/>
                </a:cubicBezTo>
                <a:cubicBezTo>
                  <a:pt x="20876" y="14455"/>
                  <a:pt x="20891" y="14466"/>
                  <a:pt x="20935" y="144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07080" y="5518080"/>
            <a:ext cx="777960" cy="546120"/>
          </a:xfrm>
          <a:custGeom>
            <a:avLst/>
            <a:gdLst/>
            <a:ahLst/>
            <a:rect l="l" t="t" r="r" b="b"/>
            <a:pathLst>
              <a:path w="2159" h="1514">
                <a:moveTo>
                  <a:pt x="19372" y="15503"/>
                </a:moveTo>
                <a:cubicBezTo>
                  <a:pt x="19428" y="15522"/>
                  <a:pt x="19460" y="15528"/>
                  <a:pt x="19521" y="15528"/>
                </a:cubicBezTo>
              </a:path>
              <a:path w="2159" h="1514">
                <a:moveTo>
                  <a:pt x="19869" y="15404"/>
                </a:moveTo>
                <a:cubicBezTo>
                  <a:pt x="19894" y="15387"/>
                  <a:pt x="19918" y="15371"/>
                  <a:pt x="19943" y="15354"/>
                </a:cubicBezTo>
                <a:cubicBezTo>
                  <a:pt x="19993" y="15516"/>
                  <a:pt x="19919" y="15552"/>
                  <a:pt x="19794" y="15677"/>
                </a:cubicBezTo>
                <a:cubicBezTo>
                  <a:pt x="19905" y="15671"/>
                  <a:pt x="19945" y="15671"/>
                  <a:pt x="20042" y="15627"/>
                </a:cubicBezTo>
              </a:path>
              <a:path w="2159" h="1514">
                <a:moveTo>
                  <a:pt x="20216" y="15379"/>
                </a:moveTo>
                <a:cubicBezTo>
                  <a:pt x="20199" y="15440"/>
                  <a:pt x="20191" y="15467"/>
                  <a:pt x="20191" y="15528"/>
                </a:cubicBezTo>
                <a:cubicBezTo>
                  <a:pt x="20308" y="15528"/>
                  <a:pt x="20342" y="15530"/>
                  <a:pt x="20414" y="15503"/>
                </a:cubicBezTo>
              </a:path>
              <a:path w="2159" h="1514">
                <a:moveTo>
                  <a:pt x="20389" y="15329"/>
                </a:moveTo>
                <a:cubicBezTo>
                  <a:pt x="20356" y="15449"/>
                  <a:pt x="20340" y="15553"/>
                  <a:pt x="20340" y="15677"/>
                </a:cubicBezTo>
              </a:path>
              <a:path w="2159" h="1514">
                <a:moveTo>
                  <a:pt x="18355" y="15503"/>
                </a:moveTo>
                <a:cubicBezTo>
                  <a:pt x="18452" y="15454"/>
                  <a:pt x="18482" y="15439"/>
                  <a:pt x="18554" y="15429"/>
                </a:cubicBezTo>
                <a:cubicBezTo>
                  <a:pt x="18613" y="15514"/>
                  <a:pt x="18700" y="15670"/>
                  <a:pt x="18554" y="15751"/>
                </a:cubicBezTo>
                <a:cubicBezTo>
                  <a:pt x="18462" y="15774"/>
                  <a:pt x="18437" y="15785"/>
                  <a:pt x="18380" y="15751"/>
                </a:cubicBezTo>
                <a:cubicBezTo>
                  <a:pt x="18436" y="15638"/>
                  <a:pt x="18482" y="15663"/>
                  <a:pt x="18604" y="15677"/>
                </a:cubicBezTo>
              </a:path>
              <a:path w="2159" h="1514">
                <a:moveTo>
                  <a:pt x="18777" y="15429"/>
                </a:moveTo>
                <a:cubicBezTo>
                  <a:pt x="18807" y="15537"/>
                  <a:pt x="18825" y="15622"/>
                  <a:pt x="18976" y="15577"/>
                </a:cubicBezTo>
                <a:cubicBezTo>
                  <a:pt x="19001" y="15561"/>
                  <a:pt x="19025" y="15544"/>
                  <a:pt x="19050" y="15528"/>
                </a:cubicBezTo>
              </a:path>
              <a:path w="2159" h="1514">
                <a:moveTo>
                  <a:pt x="18976" y="15354"/>
                </a:moveTo>
                <a:cubicBezTo>
                  <a:pt x="18976" y="15486"/>
                  <a:pt x="18976" y="15619"/>
                  <a:pt x="18976" y="15751"/>
                </a:cubicBezTo>
              </a:path>
              <a:path w="2159" h="1514">
                <a:moveTo>
                  <a:pt x="19769" y="16123"/>
                </a:moveTo>
                <a:cubicBezTo>
                  <a:pt x="19716" y="16220"/>
                  <a:pt x="19645" y="16311"/>
                  <a:pt x="19621" y="16421"/>
                </a:cubicBezTo>
                <a:cubicBezTo>
                  <a:pt x="19621" y="16437"/>
                  <a:pt x="19621" y="16454"/>
                  <a:pt x="19621" y="16470"/>
                </a:cubicBezTo>
                <a:cubicBezTo>
                  <a:pt x="19760" y="16530"/>
                  <a:pt x="19940" y="16559"/>
                  <a:pt x="20017" y="16371"/>
                </a:cubicBezTo>
                <a:cubicBezTo>
                  <a:pt x="20079" y="16220"/>
                  <a:pt x="19911" y="16205"/>
                  <a:pt x="19819" y="16197"/>
                </a:cubicBezTo>
              </a:path>
              <a:path w="2159" h="1514">
                <a:moveTo>
                  <a:pt x="19447" y="16644"/>
                </a:moveTo>
                <a:cubicBezTo>
                  <a:pt x="19462" y="16750"/>
                  <a:pt x="19557" y="16821"/>
                  <a:pt x="19670" y="16842"/>
                </a:cubicBezTo>
                <a:cubicBezTo>
                  <a:pt x="19854" y="16876"/>
                  <a:pt x="20095" y="16846"/>
                  <a:pt x="20265" y="16768"/>
                </a:cubicBezTo>
                <a:cubicBezTo>
                  <a:pt x="20451" y="16683"/>
                  <a:pt x="20530" y="16519"/>
                  <a:pt x="20513" y="16321"/>
                </a:cubicBezTo>
                <a:cubicBezTo>
                  <a:pt x="20499" y="16161"/>
                  <a:pt x="20407" y="15995"/>
                  <a:pt x="20241" y="15949"/>
                </a:cubicBezTo>
                <a:cubicBezTo>
                  <a:pt x="20108" y="15912"/>
                  <a:pt x="19933" y="15925"/>
                  <a:pt x="19794" y="15925"/>
                </a:cubicBezTo>
                <a:cubicBezTo>
                  <a:pt x="19642" y="15925"/>
                  <a:pt x="19528" y="15973"/>
                  <a:pt x="19397" y="16049"/>
                </a:cubicBezTo>
                <a:cubicBezTo>
                  <a:pt x="19302" y="16104"/>
                  <a:pt x="19205" y="16279"/>
                  <a:pt x="19224" y="16396"/>
                </a:cubicBezTo>
                <a:cubicBezTo>
                  <a:pt x="19255" y="16581"/>
                  <a:pt x="19478" y="16715"/>
                  <a:pt x="19645" y="16743"/>
                </a:cubicBezTo>
                <a:cubicBezTo>
                  <a:pt x="19768" y="16764"/>
                  <a:pt x="19898" y="16739"/>
                  <a:pt x="20017" y="167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43800" y="5295960"/>
            <a:ext cx="206280" cy="160200"/>
          </a:xfrm>
          <a:custGeom>
            <a:avLst/>
            <a:gdLst/>
            <a:ahLst/>
            <a:rect l="l" t="t" r="r" b="b"/>
            <a:pathLst>
              <a:path w="571" h="448">
                <a:moveTo>
                  <a:pt x="18529" y="14784"/>
                </a:moveTo>
                <a:cubicBezTo>
                  <a:pt x="18582" y="14739"/>
                  <a:pt x="18614" y="14723"/>
                  <a:pt x="18678" y="14709"/>
                </a:cubicBezTo>
                <a:cubicBezTo>
                  <a:pt x="18693" y="14844"/>
                  <a:pt x="18675" y="14895"/>
                  <a:pt x="18579" y="15007"/>
                </a:cubicBezTo>
                <a:cubicBezTo>
                  <a:pt x="18512" y="15073"/>
                  <a:pt x="18496" y="15089"/>
                  <a:pt x="18455" y="15131"/>
                </a:cubicBezTo>
                <a:cubicBezTo>
                  <a:pt x="18534" y="15126"/>
                  <a:pt x="18601" y="15115"/>
                  <a:pt x="18678" y="15106"/>
                </a:cubicBezTo>
              </a:path>
              <a:path w="571" h="448">
                <a:moveTo>
                  <a:pt x="18876" y="14808"/>
                </a:moveTo>
                <a:cubicBezTo>
                  <a:pt x="18876" y="14843"/>
                  <a:pt x="18857" y="14959"/>
                  <a:pt x="18901" y="14982"/>
                </a:cubicBezTo>
                <a:cubicBezTo>
                  <a:pt x="18918" y="14982"/>
                  <a:pt x="18934" y="14982"/>
                  <a:pt x="18951" y="14982"/>
                </a:cubicBezTo>
              </a:path>
              <a:path w="571" h="448">
                <a:moveTo>
                  <a:pt x="19025" y="14734"/>
                </a:moveTo>
                <a:cubicBezTo>
                  <a:pt x="19025" y="14861"/>
                  <a:pt x="19005" y="14980"/>
                  <a:pt x="19000" y="15106"/>
                </a:cubicBezTo>
                <a:cubicBezTo>
                  <a:pt x="19000" y="15123"/>
                  <a:pt x="19000" y="15139"/>
                  <a:pt x="19000" y="151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46920" y="5384880"/>
            <a:ext cx="27000" cy="9360"/>
          </a:xfrm>
          <a:custGeom>
            <a:avLst/>
            <a:gdLst/>
            <a:ahLst/>
            <a:rect l="l" t="t" r="r" b="b"/>
            <a:pathLst>
              <a:path w="75" h="26">
                <a:moveTo>
                  <a:pt x="19298" y="14982"/>
                </a:moveTo>
                <a:cubicBezTo>
                  <a:pt x="19323" y="14974"/>
                  <a:pt x="19347" y="14965"/>
                  <a:pt x="19372" y="149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62840" y="5214960"/>
            <a:ext cx="393480" cy="268200"/>
          </a:xfrm>
          <a:custGeom>
            <a:avLst/>
            <a:gdLst/>
            <a:ahLst/>
            <a:rect l="l" t="t" r="r" b="b"/>
            <a:pathLst>
              <a:path w="1092" h="745">
                <a:moveTo>
                  <a:pt x="19621" y="14709"/>
                </a:moveTo>
                <a:cubicBezTo>
                  <a:pt x="19621" y="14810"/>
                  <a:pt x="19578" y="14908"/>
                  <a:pt x="19720" y="14908"/>
                </a:cubicBezTo>
                <a:cubicBezTo>
                  <a:pt x="19802" y="14887"/>
                  <a:pt x="19818" y="14879"/>
                  <a:pt x="19869" y="14883"/>
                </a:cubicBezTo>
              </a:path>
              <a:path w="1092" h="745">
                <a:moveTo>
                  <a:pt x="19869" y="14684"/>
                </a:moveTo>
                <a:cubicBezTo>
                  <a:pt x="19857" y="14826"/>
                  <a:pt x="19844" y="14962"/>
                  <a:pt x="19844" y="15106"/>
                </a:cubicBezTo>
              </a:path>
              <a:path w="1092" h="745">
                <a:moveTo>
                  <a:pt x="20166" y="14536"/>
                </a:moveTo>
                <a:cubicBezTo>
                  <a:pt x="20096" y="14648"/>
                  <a:pt x="19986" y="14813"/>
                  <a:pt x="20017" y="14957"/>
                </a:cubicBezTo>
                <a:cubicBezTo>
                  <a:pt x="20039" y="15058"/>
                  <a:pt x="20127" y="15132"/>
                  <a:pt x="20141" y="15230"/>
                </a:cubicBezTo>
              </a:path>
              <a:path w="1092" h="745">
                <a:moveTo>
                  <a:pt x="20265" y="14759"/>
                </a:moveTo>
                <a:cubicBezTo>
                  <a:pt x="20256" y="14802"/>
                  <a:pt x="20170" y="15016"/>
                  <a:pt x="20191" y="15056"/>
                </a:cubicBezTo>
                <a:cubicBezTo>
                  <a:pt x="20232" y="15134"/>
                  <a:pt x="20350" y="15109"/>
                  <a:pt x="20414" y="15081"/>
                </a:cubicBezTo>
                <a:cubicBezTo>
                  <a:pt x="20469" y="15057"/>
                  <a:pt x="20459" y="14978"/>
                  <a:pt x="20464" y="14932"/>
                </a:cubicBezTo>
                <a:cubicBezTo>
                  <a:pt x="20399" y="14905"/>
                  <a:pt x="20341" y="14892"/>
                  <a:pt x="20315" y="14982"/>
                </a:cubicBezTo>
                <a:cubicBezTo>
                  <a:pt x="20315" y="15034"/>
                  <a:pt x="20316" y="15052"/>
                  <a:pt x="20340" y="15081"/>
                </a:cubicBezTo>
              </a:path>
              <a:path w="1092" h="745">
                <a:moveTo>
                  <a:pt x="20464" y="14486"/>
                </a:moveTo>
                <a:cubicBezTo>
                  <a:pt x="20576" y="14605"/>
                  <a:pt x="20712" y="14728"/>
                  <a:pt x="20712" y="14908"/>
                </a:cubicBezTo>
                <a:cubicBezTo>
                  <a:pt x="20712" y="14998"/>
                  <a:pt x="20670" y="15098"/>
                  <a:pt x="20638" y="151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13320" y="2313000"/>
            <a:ext cx="214560" cy="17280"/>
          </a:xfrm>
          <a:custGeom>
            <a:avLst/>
            <a:gdLst/>
            <a:ahLst/>
            <a:rect l="l" t="t" r="r" b="b"/>
            <a:pathLst>
              <a:path w="596" h="51">
                <a:moveTo>
                  <a:pt x="17686" y="6474"/>
                </a:moveTo>
                <a:cubicBezTo>
                  <a:pt x="17778" y="6433"/>
                  <a:pt x="17796" y="6427"/>
                  <a:pt x="17884" y="6449"/>
                </a:cubicBezTo>
                <a:cubicBezTo>
                  <a:pt x="17926" y="6460"/>
                  <a:pt x="17989" y="6449"/>
                  <a:pt x="18033" y="6449"/>
                </a:cubicBezTo>
                <a:cubicBezTo>
                  <a:pt x="17876" y="6449"/>
                  <a:pt x="17719" y="6449"/>
                  <a:pt x="17562" y="6449"/>
                </a:cubicBezTo>
                <a:cubicBezTo>
                  <a:pt x="17580" y="6467"/>
                  <a:pt x="17732" y="6433"/>
                  <a:pt x="17835" y="6424"/>
                </a:cubicBezTo>
                <a:cubicBezTo>
                  <a:pt x="17932" y="6415"/>
                  <a:pt x="18034" y="6424"/>
                  <a:pt x="18132" y="64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38200" y="68230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994" y="18951"/>
                </a:moveTo>
                <a:lnTo>
                  <a:pt x="3994" y="1895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82920" y="3483000"/>
            <a:ext cx="88920" cy="187200"/>
          </a:xfrm>
          <a:custGeom>
            <a:avLst/>
            <a:gdLst/>
            <a:ahLst/>
            <a:rect l="l" t="t" r="r" b="b"/>
            <a:pathLst>
              <a:path w="249" h="522">
                <a:moveTo>
                  <a:pt x="6945" y="9823"/>
                </a:moveTo>
                <a:cubicBezTo>
                  <a:pt x="6968" y="9763"/>
                  <a:pt x="6972" y="9693"/>
                  <a:pt x="7045" y="9674"/>
                </a:cubicBezTo>
                <a:cubicBezTo>
                  <a:pt x="7094" y="9674"/>
                  <a:pt x="7111" y="9674"/>
                  <a:pt x="7144" y="9674"/>
                </a:cubicBezTo>
                <a:cubicBezTo>
                  <a:pt x="7144" y="9817"/>
                  <a:pt x="7129" y="9853"/>
                  <a:pt x="7045" y="9971"/>
                </a:cubicBezTo>
                <a:cubicBezTo>
                  <a:pt x="6988" y="10051"/>
                  <a:pt x="6953" y="10121"/>
                  <a:pt x="6896" y="10195"/>
                </a:cubicBezTo>
                <a:cubicBezTo>
                  <a:pt x="6957" y="10141"/>
                  <a:pt x="7011" y="10076"/>
                  <a:pt x="7094" y="10120"/>
                </a:cubicBezTo>
                <a:cubicBezTo>
                  <a:pt x="7102" y="10128"/>
                  <a:pt x="7111" y="10137"/>
                  <a:pt x="7119" y="101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16120" y="3510000"/>
            <a:ext cx="98640" cy="125280"/>
          </a:xfrm>
          <a:custGeom>
            <a:avLst/>
            <a:gdLst/>
            <a:ahLst/>
            <a:rect l="l" t="t" r="r" b="b"/>
            <a:pathLst>
              <a:path w="274" h="349">
                <a:moveTo>
                  <a:pt x="7392" y="9748"/>
                </a:moveTo>
                <a:cubicBezTo>
                  <a:pt x="7322" y="9803"/>
                  <a:pt x="7255" y="9915"/>
                  <a:pt x="7268" y="10021"/>
                </a:cubicBezTo>
                <a:cubicBezTo>
                  <a:pt x="7277" y="10095"/>
                  <a:pt x="7415" y="10103"/>
                  <a:pt x="7466" y="10071"/>
                </a:cubicBezTo>
                <a:cubicBezTo>
                  <a:pt x="7564" y="10009"/>
                  <a:pt x="7553" y="9881"/>
                  <a:pt x="7491" y="9798"/>
                </a:cubicBezTo>
                <a:cubicBezTo>
                  <a:pt x="7446" y="9753"/>
                  <a:pt x="7437" y="9736"/>
                  <a:pt x="7392" y="97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73200" y="3714840"/>
            <a:ext cx="223920" cy="9360"/>
          </a:xfrm>
          <a:custGeom>
            <a:avLst/>
            <a:gdLst/>
            <a:ahLst/>
            <a:rect l="l" t="t" r="r" b="b"/>
            <a:pathLst>
              <a:path w="621" h="26">
                <a:moveTo>
                  <a:pt x="6871" y="10344"/>
                </a:moveTo>
                <a:cubicBezTo>
                  <a:pt x="7022" y="10344"/>
                  <a:pt x="7167" y="10327"/>
                  <a:pt x="7317" y="10319"/>
                </a:cubicBezTo>
                <a:cubicBezTo>
                  <a:pt x="7425" y="10319"/>
                  <a:pt x="7433" y="10319"/>
                  <a:pt x="7491" y="103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36920" y="3786120"/>
            <a:ext cx="115920" cy="135000"/>
          </a:xfrm>
          <a:custGeom>
            <a:avLst/>
            <a:gdLst/>
            <a:ahLst/>
            <a:rect l="l" t="t" r="r" b="b"/>
            <a:pathLst>
              <a:path w="323" h="373">
                <a:moveTo>
                  <a:pt x="7317" y="10542"/>
                </a:moveTo>
                <a:cubicBezTo>
                  <a:pt x="7165" y="10511"/>
                  <a:pt x="7122" y="10470"/>
                  <a:pt x="7069" y="10616"/>
                </a:cubicBezTo>
                <a:cubicBezTo>
                  <a:pt x="7050" y="10674"/>
                  <a:pt x="7042" y="10681"/>
                  <a:pt x="7045" y="10716"/>
                </a:cubicBezTo>
                <a:cubicBezTo>
                  <a:pt x="7114" y="10711"/>
                  <a:pt x="7288" y="10647"/>
                  <a:pt x="7342" y="10716"/>
                </a:cubicBezTo>
                <a:cubicBezTo>
                  <a:pt x="7433" y="10832"/>
                  <a:pt x="7281" y="10897"/>
                  <a:pt x="7193" y="10889"/>
                </a:cubicBezTo>
                <a:cubicBezTo>
                  <a:pt x="7111" y="10868"/>
                  <a:pt x="7096" y="10860"/>
                  <a:pt x="7045" y="108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13040" y="3670200"/>
            <a:ext cx="9360" cy="54000"/>
          </a:xfrm>
          <a:custGeom>
            <a:avLst/>
            <a:gdLst/>
            <a:ahLst/>
            <a:rect l="l" t="t" r="r" b="b"/>
            <a:pathLst>
              <a:path w="26" h="150">
                <a:moveTo>
                  <a:pt x="7813" y="10195"/>
                </a:moveTo>
                <a:cubicBezTo>
                  <a:pt x="7834" y="10277"/>
                  <a:pt x="7842" y="10293"/>
                  <a:pt x="7838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68760" y="3705120"/>
            <a:ext cx="88920" cy="27000"/>
          </a:xfrm>
          <a:custGeom>
            <a:avLst/>
            <a:gdLst/>
            <a:ahLst/>
            <a:rect l="l" t="t" r="r" b="b"/>
            <a:pathLst>
              <a:path w="250" h="75">
                <a:moveTo>
                  <a:pt x="7689" y="10368"/>
                </a:moveTo>
                <a:cubicBezTo>
                  <a:pt x="7755" y="10347"/>
                  <a:pt x="7825" y="10344"/>
                  <a:pt x="7888" y="10319"/>
                </a:cubicBezTo>
                <a:cubicBezTo>
                  <a:pt x="7905" y="10311"/>
                  <a:pt x="7921" y="10302"/>
                  <a:pt x="7938" y="102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46240" y="3571920"/>
            <a:ext cx="98640" cy="152280"/>
          </a:xfrm>
          <a:custGeom>
            <a:avLst/>
            <a:gdLst/>
            <a:ahLst/>
            <a:rect l="l" t="t" r="r" b="b"/>
            <a:pathLst>
              <a:path w="273" h="423">
                <a:moveTo>
                  <a:pt x="8186" y="10021"/>
                </a:moveTo>
                <a:cubicBezTo>
                  <a:pt x="8213" y="9990"/>
                  <a:pt x="8384" y="9832"/>
                  <a:pt x="8384" y="9996"/>
                </a:cubicBezTo>
                <a:cubicBezTo>
                  <a:pt x="8384" y="10081"/>
                  <a:pt x="8319" y="10109"/>
                  <a:pt x="8260" y="10145"/>
                </a:cubicBezTo>
                <a:cubicBezTo>
                  <a:pt x="8349" y="10123"/>
                  <a:pt x="8503" y="10094"/>
                  <a:pt x="8434" y="10244"/>
                </a:cubicBezTo>
                <a:cubicBezTo>
                  <a:pt x="8388" y="10345"/>
                  <a:pt x="8330" y="10334"/>
                  <a:pt x="8235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55920" y="4081320"/>
            <a:ext cx="71280" cy="61920"/>
          </a:xfrm>
          <a:custGeom>
            <a:avLst/>
            <a:gdLst/>
            <a:ahLst/>
            <a:rect l="l" t="t" r="r" b="b"/>
            <a:pathLst>
              <a:path w="200" h="174">
                <a:moveTo>
                  <a:pt x="6896" y="11336"/>
                </a:moveTo>
                <a:cubicBezTo>
                  <a:pt x="6848" y="11407"/>
                  <a:pt x="6832" y="11429"/>
                  <a:pt x="6821" y="11485"/>
                </a:cubicBezTo>
                <a:cubicBezTo>
                  <a:pt x="6974" y="11504"/>
                  <a:pt x="6912" y="11500"/>
                  <a:pt x="7020" y="114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920" y="4062240"/>
            <a:ext cx="7920" cy="162000"/>
          </a:xfrm>
          <a:custGeom>
            <a:avLst/>
            <a:gdLst/>
            <a:ahLst/>
            <a:rect l="l" t="t" r="r" b="b"/>
            <a:pathLst>
              <a:path w="26" h="448">
                <a:moveTo>
                  <a:pt x="6970" y="11286"/>
                </a:moveTo>
                <a:cubicBezTo>
                  <a:pt x="7007" y="11421"/>
                  <a:pt x="6995" y="11565"/>
                  <a:pt x="6995" y="11708"/>
                </a:cubicBezTo>
                <a:cubicBezTo>
                  <a:pt x="6995" y="11716"/>
                  <a:pt x="6995" y="11725"/>
                  <a:pt x="6995" y="117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16120" y="4089240"/>
            <a:ext cx="9720" cy="98640"/>
          </a:xfrm>
          <a:custGeom>
            <a:avLst/>
            <a:gdLst/>
            <a:ahLst/>
            <a:rect l="l" t="t" r="r" b="b"/>
            <a:pathLst>
              <a:path w="26" h="273">
                <a:moveTo>
                  <a:pt x="7268" y="11361"/>
                </a:moveTo>
                <a:cubicBezTo>
                  <a:pt x="7276" y="11463"/>
                  <a:pt x="7285" y="11534"/>
                  <a:pt x="7268" y="116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81200" y="4133880"/>
            <a:ext cx="71640" cy="19080"/>
          </a:xfrm>
          <a:custGeom>
            <a:avLst/>
            <a:gdLst/>
            <a:ahLst/>
            <a:rect l="l" t="t" r="r" b="b"/>
            <a:pathLst>
              <a:path w="199" h="50">
                <a:moveTo>
                  <a:pt x="7169" y="11534"/>
                </a:moveTo>
                <a:cubicBezTo>
                  <a:pt x="7234" y="11517"/>
                  <a:pt x="7301" y="11496"/>
                  <a:pt x="7367" y="114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5040" y="4054320"/>
            <a:ext cx="81000" cy="160560"/>
          </a:xfrm>
          <a:custGeom>
            <a:avLst/>
            <a:gdLst/>
            <a:ahLst/>
            <a:rect l="l" t="t" r="r" b="b"/>
            <a:pathLst>
              <a:path w="224" h="448">
                <a:moveTo>
                  <a:pt x="7590" y="11261"/>
                </a:moveTo>
                <a:cubicBezTo>
                  <a:pt x="7663" y="11285"/>
                  <a:pt x="7687" y="11294"/>
                  <a:pt x="7739" y="11286"/>
                </a:cubicBezTo>
                <a:cubicBezTo>
                  <a:pt x="7739" y="11396"/>
                  <a:pt x="7712" y="11428"/>
                  <a:pt x="7640" y="11509"/>
                </a:cubicBezTo>
                <a:cubicBezTo>
                  <a:pt x="7710" y="11468"/>
                  <a:pt x="7755" y="11483"/>
                  <a:pt x="7739" y="11584"/>
                </a:cubicBezTo>
                <a:cubicBezTo>
                  <a:pt x="7724" y="11679"/>
                  <a:pt x="7600" y="11689"/>
                  <a:pt x="7516" y="117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Writing Algebraic Expression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240" y="2743200"/>
            <a:ext cx="6629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Objective:  </a:t>
            </a:r>
            <a:r>
              <a:rPr b="0" lang="en-US" sz="3200" spc="-1" strike="noStrike">
                <a:solidFill>
                  <a:srgbClr val="4d4d4d"/>
                </a:solidFill>
                <a:latin typeface="Abadi MT Condensed Extra Bold"/>
              </a:rPr>
              <a:t>Students will Write an algebraic expression to represent unknown quantities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4582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bjective:  Students will write algebraic expressions to represent unknown quantiti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Baskerville Old Face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Baskerville Old Face"/>
              </a:rPr>
              <a:t>Translating verbal phrases:  Look for key words that indicate add, subtract, multiply, and divide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52280" y="2666880"/>
          <a:ext cx="8763120" cy="3557880"/>
        </p:xfrm>
        <a:graphic>
          <a:graphicData uri="http://schemas.openxmlformats.org/drawingml/2006/table">
            <a:tbl>
              <a:tblPr/>
              <a:tblGrid>
                <a:gridCol w="2190960"/>
                <a:gridCol w="2190600"/>
                <a:gridCol w="2190960"/>
                <a:gridCol w="2190600"/>
              </a:tblGrid>
              <a:tr h="63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Addition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Subtraction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Multiplication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Divsion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Plus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Minus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Times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Quotient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Sum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Difference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In each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Increased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Fewer than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Of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Less than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Twice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More than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How many mor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Altogether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Less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1438200" y="68486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994" y="19025"/>
                </a:moveTo>
                <a:lnTo>
                  <a:pt x="3994" y="1902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3120" y="2847960"/>
            <a:ext cx="1536840" cy="233280"/>
          </a:xfrm>
          <a:custGeom>
            <a:avLst/>
            <a:gdLst/>
            <a:ahLst/>
            <a:rect l="l" t="t" r="r" b="b"/>
            <a:pathLst>
              <a:path w="4268" h="646">
                <a:moveTo>
                  <a:pt x="843" y="8558"/>
                </a:moveTo>
                <a:cubicBezTo>
                  <a:pt x="921" y="8532"/>
                  <a:pt x="983" y="8533"/>
                  <a:pt x="1067" y="8533"/>
                </a:cubicBezTo>
                <a:cubicBezTo>
                  <a:pt x="1197" y="8533"/>
                  <a:pt x="1313" y="8540"/>
                  <a:pt x="1439" y="8558"/>
                </a:cubicBezTo>
                <a:cubicBezTo>
                  <a:pt x="1484" y="8565"/>
                  <a:pt x="1594" y="8568"/>
                  <a:pt x="1637" y="8558"/>
                </a:cubicBezTo>
                <a:cubicBezTo>
                  <a:pt x="1733" y="8537"/>
                  <a:pt x="1787" y="8553"/>
                  <a:pt x="1885" y="8558"/>
                </a:cubicBezTo>
                <a:cubicBezTo>
                  <a:pt x="2317" y="8581"/>
                  <a:pt x="2801" y="8589"/>
                  <a:pt x="3225" y="8533"/>
                </a:cubicBezTo>
                <a:cubicBezTo>
                  <a:pt x="3349" y="8517"/>
                  <a:pt x="3477" y="8528"/>
                  <a:pt x="3597" y="8508"/>
                </a:cubicBezTo>
                <a:cubicBezTo>
                  <a:pt x="3687" y="8493"/>
                  <a:pt x="3759" y="8512"/>
                  <a:pt x="3845" y="8483"/>
                </a:cubicBezTo>
              </a:path>
              <a:path w="4268" h="646">
                <a:moveTo>
                  <a:pt x="4837" y="7987"/>
                </a:moveTo>
                <a:cubicBezTo>
                  <a:pt x="4837" y="7954"/>
                  <a:pt x="4837" y="7938"/>
                  <a:pt x="4837" y="7913"/>
                </a:cubicBezTo>
                <a:cubicBezTo>
                  <a:pt x="4837" y="8043"/>
                  <a:pt x="4841" y="8160"/>
                  <a:pt x="4862" y="8285"/>
                </a:cubicBezTo>
                <a:cubicBezTo>
                  <a:pt x="4862" y="8318"/>
                  <a:pt x="4862" y="8334"/>
                  <a:pt x="4862" y="8359"/>
                </a:cubicBezTo>
              </a:path>
              <a:path w="4268" h="646">
                <a:moveTo>
                  <a:pt x="4638" y="8136"/>
                </a:moveTo>
                <a:cubicBezTo>
                  <a:pt x="4743" y="8112"/>
                  <a:pt x="4853" y="8090"/>
                  <a:pt x="4961" y="8086"/>
                </a:cubicBezTo>
                <a:cubicBezTo>
                  <a:pt x="5010" y="8084"/>
                  <a:pt x="5061" y="8086"/>
                  <a:pt x="5110" y="80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73200" y="2901960"/>
            <a:ext cx="4010040" cy="206280"/>
          </a:xfrm>
          <a:custGeom>
            <a:avLst/>
            <a:gdLst/>
            <a:ahLst/>
            <a:rect l="l" t="t" r="r" b="b"/>
            <a:pathLst>
              <a:path w="11138" h="571">
                <a:moveTo>
                  <a:pt x="6871" y="8607"/>
                </a:moveTo>
                <a:cubicBezTo>
                  <a:pt x="6949" y="8619"/>
                  <a:pt x="6980" y="8612"/>
                  <a:pt x="7069" y="8607"/>
                </a:cubicBezTo>
                <a:cubicBezTo>
                  <a:pt x="7140" y="8603"/>
                  <a:pt x="7201" y="8599"/>
                  <a:pt x="7268" y="8582"/>
                </a:cubicBezTo>
                <a:cubicBezTo>
                  <a:pt x="7328" y="8567"/>
                  <a:pt x="7430" y="8528"/>
                  <a:pt x="7491" y="8533"/>
                </a:cubicBezTo>
                <a:cubicBezTo>
                  <a:pt x="7557" y="8538"/>
                  <a:pt x="7617" y="8556"/>
                  <a:pt x="7689" y="8558"/>
                </a:cubicBezTo>
                <a:cubicBezTo>
                  <a:pt x="7766" y="8560"/>
                  <a:pt x="7849" y="8575"/>
                  <a:pt x="7913" y="8582"/>
                </a:cubicBezTo>
                <a:cubicBezTo>
                  <a:pt x="7969" y="8588"/>
                  <a:pt x="8035" y="8603"/>
                  <a:pt x="8086" y="8607"/>
                </a:cubicBezTo>
                <a:cubicBezTo>
                  <a:pt x="8194" y="8616"/>
                  <a:pt x="8304" y="8622"/>
                  <a:pt x="8409" y="8632"/>
                </a:cubicBezTo>
                <a:cubicBezTo>
                  <a:pt x="8515" y="8642"/>
                  <a:pt x="8610" y="8616"/>
                  <a:pt x="8706" y="8607"/>
                </a:cubicBezTo>
                <a:cubicBezTo>
                  <a:pt x="8830" y="8596"/>
                  <a:pt x="8961" y="8594"/>
                  <a:pt x="9079" y="8582"/>
                </a:cubicBezTo>
                <a:cubicBezTo>
                  <a:pt x="9140" y="8576"/>
                  <a:pt x="9237" y="8582"/>
                  <a:pt x="9277" y="8582"/>
                </a:cubicBezTo>
                <a:cubicBezTo>
                  <a:pt x="9356" y="8582"/>
                  <a:pt x="9424" y="8564"/>
                  <a:pt x="9500" y="8558"/>
                </a:cubicBezTo>
                <a:cubicBezTo>
                  <a:pt x="9583" y="8552"/>
                  <a:pt x="9671" y="8540"/>
                  <a:pt x="9748" y="8533"/>
                </a:cubicBezTo>
                <a:cubicBezTo>
                  <a:pt x="9888" y="8520"/>
                  <a:pt x="10032" y="8520"/>
                  <a:pt x="10170" y="8508"/>
                </a:cubicBezTo>
                <a:cubicBezTo>
                  <a:pt x="10353" y="8493"/>
                  <a:pt x="10537" y="8502"/>
                  <a:pt x="10716" y="8483"/>
                </a:cubicBezTo>
                <a:cubicBezTo>
                  <a:pt x="10800" y="8474"/>
                  <a:pt x="10882" y="8464"/>
                  <a:pt x="10964" y="8458"/>
                </a:cubicBezTo>
                <a:cubicBezTo>
                  <a:pt x="11086" y="8449"/>
                  <a:pt x="11213" y="8458"/>
                  <a:pt x="11336" y="8458"/>
                </a:cubicBezTo>
              </a:path>
              <a:path w="11138" h="571">
                <a:moveTo>
                  <a:pt x="11807" y="8086"/>
                </a:moveTo>
                <a:cubicBezTo>
                  <a:pt x="11890" y="8062"/>
                  <a:pt x="11967" y="8062"/>
                  <a:pt x="12055" y="8062"/>
                </a:cubicBezTo>
                <a:cubicBezTo>
                  <a:pt x="12125" y="8062"/>
                  <a:pt x="12184" y="8082"/>
                  <a:pt x="12254" y="8086"/>
                </a:cubicBezTo>
                <a:cubicBezTo>
                  <a:pt x="12270" y="8086"/>
                  <a:pt x="12287" y="8086"/>
                  <a:pt x="12303" y="8086"/>
                </a:cubicBezTo>
              </a:path>
              <a:path w="11138" h="571">
                <a:moveTo>
                  <a:pt x="13171" y="8483"/>
                </a:moveTo>
                <a:cubicBezTo>
                  <a:pt x="13255" y="8500"/>
                  <a:pt x="13336" y="8507"/>
                  <a:pt x="13419" y="8533"/>
                </a:cubicBezTo>
                <a:cubicBezTo>
                  <a:pt x="13484" y="8553"/>
                  <a:pt x="13544" y="8556"/>
                  <a:pt x="13618" y="8558"/>
                </a:cubicBezTo>
                <a:cubicBezTo>
                  <a:pt x="13802" y="8562"/>
                  <a:pt x="13984" y="8551"/>
                  <a:pt x="14163" y="8533"/>
                </a:cubicBezTo>
                <a:cubicBezTo>
                  <a:pt x="14263" y="8523"/>
                  <a:pt x="14355" y="8537"/>
                  <a:pt x="14461" y="8533"/>
                </a:cubicBezTo>
                <a:cubicBezTo>
                  <a:pt x="14523" y="8531"/>
                  <a:pt x="14552" y="8513"/>
                  <a:pt x="14610" y="8508"/>
                </a:cubicBezTo>
                <a:cubicBezTo>
                  <a:pt x="14699" y="8501"/>
                  <a:pt x="14772" y="8526"/>
                  <a:pt x="14858" y="8533"/>
                </a:cubicBezTo>
                <a:cubicBezTo>
                  <a:pt x="14954" y="8540"/>
                  <a:pt x="15072" y="8502"/>
                  <a:pt x="15156" y="8508"/>
                </a:cubicBezTo>
                <a:cubicBezTo>
                  <a:pt x="15234" y="8514"/>
                  <a:pt x="15269" y="8513"/>
                  <a:pt x="15354" y="8508"/>
                </a:cubicBezTo>
                <a:cubicBezTo>
                  <a:pt x="15449" y="8502"/>
                  <a:pt x="15529" y="8485"/>
                  <a:pt x="15627" y="8483"/>
                </a:cubicBezTo>
                <a:cubicBezTo>
                  <a:pt x="15724" y="8481"/>
                  <a:pt x="15806" y="8500"/>
                  <a:pt x="15900" y="8508"/>
                </a:cubicBezTo>
                <a:cubicBezTo>
                  <a:pt x="16049" y="8520"/>
                  <a:pt x="16198" y="8513"/>
                  <a:pt x="16346" y="8533"/>
                </a:cubicBezTo>
                <a:cubicBezTo>
                  <a:pt x="16481" y="8551"/>
                  <a:pt x="16609" y="8589"/>
                  <a:pt x="16743" y="8607"/>
                </a:cubicBezTo>
                <a:cubicBezTo>
                  <a:pt x="16836" y="8619"/>
                  <a:pt x="16975" y="8645"/>
                  <a:pt x="17066" y="8632"/>
                </a:cubicBezTo>
                <a:cubicBezTo>
                  <a:pt x="17166" y="8618"/>
                  <a:pt x="17260" y="8580"/>
                  <a:pt x="17363" y="8582"/>
                </a:cubicBezTo>
                <a:cubicBezTo>
                  <a:pt x="17509" y="8585"/>
                  <a:pt x="17657" y="8582"/>
                  <a:pt x="17810" y="8582"/>
                </a:cubicBezTo>
                <a:cubicBezTo>
                  <a:pt x="17876" y="8582"/>
                  <a:pt x="17942" y="8582"/>
                  <a:pt x="18008" y="85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92880" y="2840040"/>
            <a:ext cx="2036880" cy="473040"/>
          </a:xfrm>
          <a:custGeom>
            <a:avLst/>
            <a:gdLst/>
            <a:ahLst/>
            <a:rect l="l" t="t" r="r" b="b"/>
            <a:pathLst>
              <a:path w="5657" h="1316">
                <a:moveTo>
                  <a:pt x="17810" y="8806"/>
                </a:moveTo>
                <a:cubicBezTo>
                  <a:pt x="17793" y="8798"/>
                  <a:pt x="17777" y="8789"/>
                  <a:pt x="17760" y="8781"/>
                </a:cubicBezTo>
                <a:cubicBezTo>
                  <a:pt x="17832" y="8860"/>
                  <a:pt x="17885" y="8984"/>
                  <a:pt x="17959" y="9054"/>
                </a:cubicBezTo>
                <a:cubicBezTo>
                  <a:pt x="18013" y="9105"/>
                  <a:pt x="18060" y="9142"/>
                  <a:pt x="18107" y="9203"/>
                </a:cubicBezTo>
              </a:path>
              <a:path w="5657" h="1316">
                <a:moveTo>
                  <a:pt x="18107" y="8781"/>
                </a:moveTo>
                <a:cubicBezTo>
                  <a:pt x="18017" y="8780"/>
                  <a:pt x="17971" y="8921"/>
                  <a:pt x="17884" y="9004"/>
                </a:cubicBezTo>
                <a:cubicBezTo>
                  <a:pt x="17833" y="9053"/>
                  <a:pt x="17797" y="9086"/>
                  <a:pt x="17760" y="9153"/>
                </a:cubicBezTo>
              </a:path>
              <a:path w="5657" h="1316">
                <a:moveTo>
                  <a:pt x="19025" y="8533"/>
                </a:moveTo>
                <a:cubicBezTo>
                  <a:pt x="19126" y="8599"/>
                  <a:pt x="19155" y="8564"/>
                  <a:pt x="19273" y="8558"/>
                </a:cubicBezTo>
                <a:cubicBezTo>
                  <a:pt x="19331" y="8555"/>
                  <a:pt x="19360" y="8536"/>
                  <a:pt x="19422" y="8533"/>
                </a:cubicBezTo>
                <a:cubicBezTo>
                  <a:pt x="19525" y="8528"/>
                  <a:pt x="19617" y="8511"/>
                  <a:pt x="19720" y="8508"/>
                </a:cubicBezTo>
                <a:cubicBezTo>
                  <a:pt x="19846" y="8504"/>
                  <a:pt x="19964" y="8483"/>
                  <a:pt x="20092" y="8483"/>
                </a:cubicBezTo>
                <a:cubicBezTo>
                  <a:pt x="20226" y="8483"/>
                  <a:pt x="20353" y="8458"/>
                  <a:pt x="20489" y="8458"/>
                </a:cubicBezTo>
                <a:cubicBezTo>
                  <a:pt x="20644" y="8458"/>
                  <a:pt x="20809" y="8420"/>
                  <a:pt x="20960" y="8434"/>
                </a:cubicBezTo>
                <a:cubicBezTo>
                  <a:pt x="21045" y="8442"/>
                  <a:pt x="21126" y="8473"/>
                  <a:pt x="21208" y="8483"/>
                </a:cubicBezTo>
                <a:cubicBezTo>
                  <a:pt x="21392" y="8505"/>
                  <a:pt x="21576" y="8467"/>
                  <a:pt x="21754" y="8508"/>
                </a:cubicBezTo>
                <a:cubicBezTo>
                  <a:pt x="21762" y="8508"/>
                  <a:pt x="21771" y="8508"/>
                  <a:pt x="21779" y="8508"/>
                </a:cubicBezTo>
              </a:path>
              <a:path w="5657" h="1316">
                <a:moveTo>
                  <a:pt x="22721" y="8161"/>
                </a:moveTo>
                <a:cubicBezTo>
                  <a:pt x="22857" y="8161"/>
                  <a:pt x="22985" y="8147"/>
                  <a:pt x="23118" y="8136"/>
                </a:cubicBezTo>
                <a:cubicBezTo>
                  <a:pt x="23216" y="8128"/>
                  <a:pt x="23317" y="8136"/>
                  <a:pt x="23416" y="8136"/>
                </a:cubicBezTo>
              </a:path>
              <a:path w="5657" h="1316">
                <a:moveTo>
                  <a:pt x="23068" y="7888"/>
                </a:moveTo>
                <a:lnTo>
                  <a:pt x="23068" y="7888"/>
                </a:lnTo>
              </a:path>
              <a:path w="5657" h="1316">
                <a:moveTo>
                  <a:pt x="23068" y="8434"/>
                </a:moveTo>
                <a:lnTo>
                  <a:pt x="23068" y="8434"/>
                </a:lnTo>
              </a:path>
              <a:path w="5657" h="1316">
                <a:moveTo>
                  <a:pt x="23044" y="7888"/>
                </a:moveTo>
                <a:lnTo>
                  <a:pt x="23044" y="788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0" y="4394160"/>
            <a:ext cx="706320" cy="374760"/>
          </a:xfrm>
          <a:custGeom>
            <a:avLst/>
            <a:gdLst/>
            <a:ahLst/>
            <a:rect l="l" t="t" r="r" b="b"/>
            <a:pathLst>
              <a:path w="1961" h="1043">
                <a:moveTo>
                  <a:pt x="19149" y="12650"/>
                </a:moveTo>
                <a:cubicBezTo>
                  <a:pt x="19236" y="12631"/>
                  <a:pt x="19307" y="12626"/>
                  <a:pt x="19397" y="12626"/>
                </a:cubicBezTo>
                <a:cubicBezTo>
                  <a:pt x="19335" y="12545"/>
                  <a:pt x="19251" y="12375"/>
                  <a:pt x="19124" y="12452"/>
                </a:cubicBezTo>
                <a:cubicBezTo>
                  <a:pt x="18982" y="12538"/>
                  <a:pt x="19053" y="12784"/>
                  <a:pt x="19149" y="12874"/>
                </a:cubicBezTo>
                <a:cubicBezTo>
                  <a:pt x="19245" y="12963"/>
                  <a:pt x="19343" y="12903"/>
                  <a:pt x="19447" y="12874"/>
                </a:cubicBezTo>
              </a:path>
              <a:path w="1961" h="1043">
                <a:moveTo>
                  <a:pt x="19819" y="12626"/>
                </a:moveTo>
                <a:cubicBezTo>
                  <a:pt x="19764" y="12585"/>
                  <a:pt x="19725" y="12543"/>
                  <a:pt x="19670" y="12502"/>
                </a:cubicBezTo>
                <a:cubicBezTo>
                  <a:pt x="19608" y="12572"/>
                  <a:pt x="19520" y="12764"/>
                  <a:pt x="19596" y="12874"/>
                </a:cubicBezTo>
                <a:cubicBezTo>
                  <a:pt x="19671" y="12981"/>
                  <a:pt x="19844" y="12720"/>
                  <a:pt x="19844" y="12650"/>
                </a:cubicBezTo>
                <a:cubicBezTo>
                  <a:pt x="19810" y="12617"/>
                  <a:pt x="19801" y="12622"/>
                  <a:pt x="19819" y="12700"/>
                </a:cubicBezTo>
                <a:cubicBezTo>
                  <a:pt x="19842" y="12882"/>
                  <a:pt x="19866" y="13064"/>
                  <a:pt x="19893" y="13246"/>
                </a:cubicBezTo>
                <a:cubicBezTo>
                  <a:pt x="20065" y="13168"/>
                  <a:pt x="20045" y="13066"/>
                  <a:pt x="19918" y="12948"/>
                </a:cubicBezTo>
              </a:path>
              <a:path w="1961" h="1043">
                <a:moveTo>
                  <a:pt x="20067" y="12551"/>
                </a:moveTo>
                <a:cubicBezTo>
                  <a:pt x="20058" y="12624"/>
                  <a:pt x="20014" y="12886"/>
                  <a:pt x="20141" y="12898"/>
                </a:cubicBezTo>
                <a:cubicBezTo>
                  <a:pt x="20292" y="12912"/>
                  <a:pt x="20258" y="12702"/>
                  <a:pt x="20265" y="12626"/>
                </a:cubicBezTo>
                <a:cubicBezTo>
                  <a:pt x="20164" y="12467"/>
                  <a:pt x="20284" y="12812"/>
                  <a:pt x="20290" y="12898"/>
                </a:cubicBezTo>
              </a:path>
              <a:path w="1961" h="1043">
                <a:moveTo>
                  <a:pt x="20613" y="12675"/>
                </a:moveTo>
                <a:cubicBezTo>
                  <a:pt x="20670" y="12598"/>
                  <a:pt x="20670" y="12616"/>
                  <a:pt x="20638" y="12526"/>
                </a:cubicBezTo>
                <a:cubicBezTo>
                  <a:pt x="20557" y="12553"/>
                  <a:pt x="20342" y="12757"/>
                  <a:pt x="20464" y="12874"/>
                </a:cubicBezTo>
                <a:cubicBezTo>
                  <a:pt x="20579" y="12984"/>
                  <a:pt x="20668" y="12712"/>
                  <a:pt x="20687" y="12675"/>
                </a:cubicBezTo>
                <a:cubicBezTo>
                  <a:pt x="20687" y="12689"/>
                  <a:pt x="20698" y="12769"/>
                  <a:pt x="20786" y="12824"/>
                </a:cubicBezTo>
              </a:path>
              <a:path w="1961" h="1043">
                <a:moveTo>
                  <a:pt x="20836" y="12204"/>
                </a:moveTo>
                <a:cubicBezTo>
                  <a:pt x="20870" y="12355"/>
                  <a:pt x="20944" y="12515"/>
                  <a:pt x="20985" y="12675"/>
                </a:cubicBezTo>
                <a:cubicBezTo>
                  <a:pt x="20993" y="12716"/>
                  <a:pt x="21002" y="12758"/>
                  <a:pt x="21010" y="127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777080" y="4419720"/>
            <a:ext cx="839880" cy="339480"/>
          </a:xfrm>
          <a:custGeom>
            <a:avLst/>
            <a:gdLst/>
            <a:ahLst/>
            <a:rect l="l" t="t" r="r" b="b"/>
            <a:pathLst>
              <a:path w="2333" h="944">
                <a:moveTo>
                  <a:pt x="21630" y="12700"/>
                </a:moveTo>
                <a:cubicBezTo>
                  <a:pt x="21700" y="12876"/>
                  <a:pt x="21778" y="13038"/>
                  <a:pt x="21828" y="13221"/>
                </a:cubicBezTo>
                <a:cubicBezTo>
                  <a:pt x="21720" y="13131"/>
                  <a:pt x="21618" y="12906"/>
                  <a:pt x="21605" y="12750"/>
                </a:cubicBezTo>
                <a:cubicBezTo>
                  <a:pt x="21628" y="12658"/>
                  <a:pt x="21634" y="12633"/>
                  <a:pt x="21654" y="12576"/>
                </a:cubicBezTo>
                <a:cubicBezTo>
                  <a:pt x="21764" y="12592"/>
                  <a:pt x="22100" y="12640"/>
                  <a:pt x="22002" y="12849"/>
                </a:cubicBezTo>
                <a:cubicBezTo>
                  <a:pt x="21949" y="12962"/>
                  <a:pt x="21763" y="12907"/>
                  <a:pt x="21679" y="12898"/>
                </a:cubicBezTo>
              </a:path>
              <a:path w="2333" h="944">
                <a:moveTo>
                  <a:pt x="22423" y="12725"/>
                </a:moveTo>
                <a:cubicBezTo>
                  <a:pt x="22401" y="12657"/>
                  <a:pt x="22400" y="12636"/>
                  <a:pt x="22349" y="12626"/>
                </a:cubicBezTo>
                <a:cubicBezTo>
                  <a:pt x="22229" y="12591"/>
                  <a:pt x="22159" y="12750"/>
                  <a:pt x="22200" y="12874"/>
                </a:cubicBezTo>
                <a:cubicBezTo>
                  <a:pt x="22263" y="13067"/>
                  <a:pt x="22468" y="12903"/>
                  <a:pt x="22473" y="12774"/>
                </a:cubicBezTo>
                <a:cubicBezTo>
                  <a:pt x="22475" y="12715"/>
                  <a:pt x="22456" y="12876"/>
                  <a:pt x="22597" y="12923"/>
                </a:cubicBezTo>
              </a:path>
              <a:path w="2333" h="944">
                <a:moveTo>
                  <a:pt x="22647" y="12700"/>
                </a:moveTo>
                <a:cubicBezTo>
                  <a:pt x="22669" y="12789"/>
                  <a:pt x="22669" y="12815"/>
                  <a:pt x="22721" y="12849"/>
                </a:cubicBezTo>
                <a:cubicBezTo>
                  <a:pt x="22670" y="12735"/>
                  <a:pt x="22644" y="12672"/>
                  <a:pt x="22771" y="12601"/>
                </a:cubicBezTo>
                <a:cubicBezTo>
                  <a:pt x="22845" y="12576"/>
                  <a:pt x="22870" y="12568"/>
                  <a:pt x="22920" y="12601"/>
                </a:cubicBezTo>
              </a:path>
              <a:path w="2333" h="944">
                <a:moveTo>
                  <a:pt x="23019" y="12278"/>
                </a:moveTo>
                <a:cubicBezTo>
                  <a:pt x="23080" y="12438"/>
                  <a:pt x="23134" y="12581"/>
                  <a:pt x="23168" y="12750"/>
                </a:cubicBezTo>
                <a:cubicBezTo>
                  <a:pt x="23194" y="12878"/>
                  <a:pt x="23213" y="12946"/>
                  <a:pt x="23366" y="12923"/>
                </a:cubicBezTo>
                <a:cubicBezTo>
                  <a:pt x="23391" y="12915"/>
                  <a:pt x="23415" y="12906"/>
                  <a:pt x="23440" y="12898"/>
                </a:cubicBezTo>
              </a:path>
              <a:path w="2333" h="944">
                <a:moveTo>
                  <a:pt x="22870" y="12626"/>
                </a:moveTo>
                <a:cubicBezTo>
                  <a:pt x="23037" y="12617"/>
                  <a:pt x="23199" y="12585"/>
                  <a:pt x="23366" y="12576"/>
                </a:cubicBezTo>
              </a:path>
              <a:path w="2333" h="944">
                <a:moveTo>
                  <a:pt x="23763" y="12576"/>
                </a:moveTo>
                <a:cubicBezTo>
                  <a:pt x="23667" y="12528"/>
                  <a:pt x="23610" y="12557"/>
                  <a:pt x="23540" y="12626"/>
                </a:cubicBezTo>
                <a:cubicBezTo>
                  <a:pt x="23510" y="12655"/>
                  <a:pt x="23505" y="12669"/>
                  <a:pt x="23540" y="12700"/>
                </a:cubicBezTo>
                <a:cubicBezTo>
                  <a:pt x="23647" y="12733"/>
                  <a:pt x="23754" y="12701"/>
                  <a:pt x="23862" y="12725"/>
                </a:cubicBezTo>
                <a:cubicBezTo>
                  <a:pt x="23955" y="12745"/>
                  <a:pt x="23981" y="12886"/>
                  <a:pt x="23887" y="12923"/>
                </a:cubicBezTo>
                <a:cubicBezTo>
                  <a:pt x="23786" y="12962"/>
                  <a:pt x="23708" y="12951"/>
                  <a:pt x="23614" y="129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67360" y="4991040"/>
            <a:ext cx="919440" cy="268200"/>
          </a:xfrm>
          <a:custGeom>
            <a:avLst/>
            <a:gdLst/>
            <a:ahLst/>
            <a:rect l="l" t="t" r="r" b="b"/>
            <a:pathLst>
              <a:path w="2556" h="745">
                <a:moveTo>
                  <a:pt x="19372" y="14089"/>
                </a:moveTo>
                <a:cubicBezTo>
                  <a:pt x="19455" y="14076"/>
                  <a:pt x="19442" y="13909"/>
                  <a:pt x="19323" y="13866"/>
                </a:cubicBezTo>
                <a:cubicBezTo>
                  <a:pt x="19107" y="13789"/>
                  <a:pt x="19137" y="14106"/>
                  <a:pt x="19149" y="14213"/>
                </a:cubicBezTo>
                <a:cubicBezTo>
                  <a:pt x="19289" y="14185"/>
                  <a:pt x="19335" y="14160"/>
                  <a:pt x="19397" y="14015"/>
                </a:cubicBezTo>
                <a:cubicBezTo>
                  <a:pt x="19488" y="14205"/>
                  <a:pt x="19634" y="14454"/>
                  <a:pt x="19372" y="14585"/>
                </a:cubicBezTo>
                <a:cubicBezTo>
                  <a:pt x="19194" y="14674"/>
                  <a:pt x="19152" y="14553"/>
                  <a:pt x="19075" y="14436"/>
                </a:cubicBezTo>
              </a:path>
              <a:path w="2556" h="745">
                <a:moveTo>
                  <a:pt x="19670" y="14064"/>
                </a:moveTo>
                <a:cubicBezTo>
                  <a:pt x="19679" y="14136"/>
                  <a:pt x="19696" y="14197"/>
                  <a:pt x="19720" y="14263"/>
                </a:cubicBezTo>
                <a:cubicBezTo>
                  <a:pt x="19654" y="14104"/>
                  <a:pt x="19564" y="13943"/>
                  <a:pt x="19794" y="13866"/>
                </a:cubicBezTo>
                <a:cubicBezTo>
                  <a:pt x="19894" y="13866"/>
                  <a:pt x="19929" y="13866"/>
                  <a:pt x="19993" y="13891"/>
                </a:cubicBezTo>
              </a:path>
              <a:path w="2556" h="745">
                <a:moveTo>
                  <a:pt x="20241" y="13990"/>
                </a:moveTo>
                <a:cubicBezTo>
                  <a:pt x="20123" y="13931"/>
                  <a:pt x="20068" y="13944"/>
                  <a:pt x="20017" y="14089"/>
                </a:cubicBezTo>
                <a:cubicBezTo>
                  <a:pt x="19995" y="14201"/>
                  <a:pt x="19981" y="14232"/>
                  <a:pt x="20042" y="14288"/>
                </a:cubicBezTo>
                <a:cubicBezTo>
                  <a:pt x="20144" y="14245"/>
                  <a:pt x="20421" y="14138"/>
                  <a:pt x="20265" y="13990"/>
                </a:cubicBezTo>
                <a:cubicBezTo>
                  <a:pt x="20240" y="13982"/>
                  <a:pt x="20216" y="13973"/>
                  <a:pt x="20191" y="13965"/>
                </a:cubicBezTo>
              </a:path>
              <a:path w="2556" h="745">
                <a:moveTo>
                  <a:pt x="20513" y="13965"/>
                </a:moveTo>
                <a:cubicBezTo>
                  <a:pt x="20520" y="14096"/>
                  <a:pt x="20505" y="14186"/>
                  <a:pt x="20613" y="14263"/>
                </a:cubicBezTo>
                <a:cubicBezTo>
                  <a:pt x="20706" y="14177"/>
                  <a:pt x="20723" y="14139"/>
                  <a:pt x="20762" y="14015"/>
                </a:cubicBezTo>
                <a:cubicBezTo>
                  <a:pt x="20769" y="14132"/>
                  <a:pt x="20771" y="14170"/>
                  <a:pt x="20836" y="14263"/>
                </a:cubicBezTo>
              </a:path>
              <a:path w="2556" h="745">
                <a:moveTo>
                  <a:pt x="21059" y="14015"/>
                </a:moveTo>
                <a:cubicBezTo>
                  <a:pt x="21059" y="14173"/>
                  <a:pt x="21068" y="14332"/>
                  <a:pt x="21109" y="14486"/>
                </a:cubicBezTo>
                <a:cubicBezTo>
                  <a:pt x="21117" y="14503"/>
                  <a:pt x="21126" y="14519"/>
                  <a:pt x="21134" y="14536"/>
                </a:cubicBezTo>
                <a:cubicBezTo>
                  <a:pt x="21085" y="14400"/>
                  <a:pt x="20987" y="14166"/>
                  <a:pt x="21034" y="14015"/>
                </a:cubicBezTo>
                <a:cubicBezTo>
                  <a:pt x="21091" y="13958"/>
                  <a:pt x="21118" y="13938"/>
                  <a:pt x="21183" y="13940"/>
                </a:cubicBezTo>
                <a:cubicBezTo>
                  <a:pt x="21242" y="13999"/>
                  <a:pt x="21363" y="14169"/>
                  <a:pt x="21208" y="14238"/>
                </a:cubicBezTo>
                <a:cubicBezTo>
                  <a:pt x="21105" y="14238"/>
                  <a:pt x="21068" y="14236"/>
                  <a:pt x="21010" y="14188"/>
                </a:cubicBezTo>
              </a:path>
              <a:path w="2556" h="745">
                <a:moveTo>
                  <a:pt x="21605" y="13990"/>
                </a:moveTo>
                <a:cubicBezTo>
                  <a:pt x="21502" y="13990"/>
                  <a:pt x="21463" y="13995"/>
                  <a:pt x="21382" y="14064"/>
                </a:cubicBezTo>
                <a:cubicBezTo>
                  <a:pt x="21473" y="14118"/>
                  <a:pt x="21562" y="14154"/>
                  <a:pt x="21630" y="14213"/>
                </a:cubicBezTo>
                <a:cubicBezTo>
                  <a:pt x="21541" y="14317"/>
                  <a:pt x="21465" y="14288"/>
                  <a:pt x="21332" y="142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045280" y="4973760"/>
            <a:ext cx="339840" cy="223560"/>
          </a:xfrm>
          <a:custGeom>
            <a:avLst/>
            <a:gdLst/>
            <a:ahLst/>
            <a:rect l="l" t="t" r="r" b="b"/>
            <a:pathLst>
              <a:path w="944" h="621">
                <a:moveTo>
                  <a:pt x="22498" y="14114"/>
                </a:moveTo>
                <a:cubicBezTo>
                  <a:pt x="22359" y="14222"/>
                  <a:pt x="22343" y="14281"/>
                  <a:pt x="22399" y="14436"/>
                </a:cubicBezTo>
                <a:cubicBezTo>
                  <a:pt x="22505" y="14418"/>
                  <a:pt x="22832" y="14353"/>
                  <a:pt x="22696" y="14163"/>
                </a:cubicBezTo>
                <a:cubicBezTo>
                  <a:pt x="22623" y="14139"/>
                  <a:pt x="22599" y="14131"/>
                  <a:pt x="22547" y="14139"/>
                </a:cubicBezTo>
              </a:path>
              <a:path w="944" h="621">
                <a:moveTo>
                  <a:pt x="23168" y="13915"/>
                </a:moveTo>
                <a:cubicBezTo>
                  <a:pt x="23124" y="13844"/>
                  <a:pt x="23036" y="13787"/>
                  <a:pt x="22944" y="13841"/>
                </a:cubicBezTo>
                <a:cubicBezTo>
                  <a:pt x="22861" y="13889"/>
                  <a:pt x="22998" y="14171"/>
                  <a:pt x="23019" y="14213"/>
                </a:cubicBezTo>
                <a:cubicBezTo>
                  <a:pt x="23077" y="14310"/>
                  <a:pt x="23102" y="14320"/>
                  <a:pt x="23093" y="14387"/>
                </a:cubicBezTo>
              </a:path>
              <a:path w="944" h="621">
                <a:moveTo>
                  <a:pt x="22820" y="14139"/>
                </a:moveTo>
                <a:cubicBezTo>
                  <a:pt x="22977" y="14139"/>
                  <a:pt x="23135" y="14139"/>
                  <a:pt x="23292" y="141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bjective:  Students will write algebraic expressions to represent unknown quantiti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ff"/>
                </a:solidFill>
                <a:latin typeface="Times New Roman"/>
              </a:rPr>
              <a:t>Less than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Less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Three 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less than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 a number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Three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less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 a number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1589040"/>
            <a:ext cx="4680000" cy="679320"/>
          </a:xfrm>
          <a:custGeom>
            <a:avLst/>
            <a:gdLst/>
            <a:ahLst/>
            <a:rect l="l" t="t" r="r" b="b"/>
            <a:pathLst>
              <a:path w="12999" h="1886">
                <a:moveTo>
                  <a:pt x="8558" y="4663"/>
                </a:moveTo>
                <a:cubicBezTo>
                  <a:pt x="8677" y="4675"/>
                  <a:pt x="8789" y="4712"/>
                  <a:pt x="8905" y="4738"/>
                </a:cubicBezTo>
                <a:cubicBezTo>
                  <a:pt x="9064" y="4774"/>
                  <a:pt x="9218" y="4790"/>
                  <a:pt x="9376" y="4812"/>
                </a:cubicBezTo>
                <a:cubicBezTo>
                  <a:pt x="9510" y="4830"/>
                  <a:pt x="9640" y="4845"/>
                  <a:pt x="9773" y="4862"/>
                </a:cubicBezTo>
                <a:cubicBezTo>
                  <a:pt x="9978" y="4888"/>
                  <a:pt x="10187" y="4907"/>
                  <a:pt x="10393" y="4911"/>
                </a:cubicBezTo>
                <a:cubicBezTo>
                  <a:pt x="10569" y="4915"/>
                  <a:pt x="10739" y="4932"/>
                  <a:pt x="10914" y="4936"/>
                </a:cubicBezTo>
                <a:cubicBezTo>
                  <a:pt x="11063" y="4939"/>
                  <a:pt x="11212" y="4936"/>
                  <a:pt x="11361" y="4936"/>
                </a:cubicBezTo>
              </a:path>
              <a:path w="12999" h="1886">
                <a:moveTo>
                  <a:pt x="14585" y="4713"/>
                </a:moveTo>
                <a:cubicBezTo>
                  <a:pt x="14711" y="4675"/>
                  <a:pt x="14827" y="4685"/>
                  <a:pt x="14957" y="4713"/>
                </a:cubicBezTo>
                <a:cubicBezTo>
                  <a:pt x="15101" y="4744"/>
                  <a:pt x="15238" y="4739"/>
                  <a:pt x="15379" y="4762"/>
                </a:cubicBezTo>
                <a:cubicBezTo>
                  <a:pt x="15500" y="4782"/>
                  <a:pt x="15628" y="4802"/>
                  <a:pt x="15751" y="4812"/>
                </a:cubicBezTo>
                <a:cubicBezTo>
                  <a:pt x="15894" y="4824"/>
                  <a:pt x="16028" y="4837"/>
                  <a:pt x="16173" y="4837"/>
                </a:cubicBezTo>
                <a:cubicBezTo>
                  <a:pt x="16239" y="4837"/>
                  <a:pt x="16256" y="4837"/>
                  <a:pt x="16297" y="4837"/>
                </a:cubicBezTo>
              </a:path>
              <a:path w="12999" h="1886">
                <a:moveTo>
                  <a:pt x="3373" y="4762"/>
                </a:moveTo>
                <a:cubicBezTo>
                  <a:pt x="3447" y="4738"/>
                  <a:pt x="3552" y="4668"/>
                  <a:pt x="3621" y="4713"/>
                </a:cubicBezTo>
                <a:cubicBezTo>
                  <a:pt x="3709" y="4771"/>
                  <a:pt x="3638" y="4868"/>
                  <a:pt x="3572" y="4911"/>
                </a:cubicBezTo>
                <a:cubicBezTo>
                  <a:pt x="3555" y="4919"/>
                  <a:pt x="3539" y="4928"/>
                  <a:pt x="3522" y="4936"/>
                </a:cubicBezTo>
                <a:cubicBezTo>
                  <a:pt x="3566" y="4960"/>
                  <a:pt x="3717" y="5018"/>
                  <a:pt x="3671" y="5110"/>
                </a:cubicBezTo>
                <a:cubicBezTo>
                  <a:pt x="3613" y="5223"/>
                  <a:pt x="3440" y="5187"/>
                  <a:pt x="3349" y="5159"/>
                </a:cubicBezTo>
                <a:cubicBezTo>
                  <a:pt x="3332" y="5151"/>
                  <a:pt x="3316" y="5143"/>
                  <a:pt x="3299" y="5135"/>
                </a:cubicBezTo>
              </a:path>
              <a:path w="12999" h="1886">
                <a:moveTo>
                  <a:pt x="6896" y="5035"/>
                </a:moveTo>
                <a:cubicBezTo>
                  <a:pt x="6995" y="5078"/>
                  <a:pt x="7108" y="5037"/>
                  <a:pt x="7218" y="5060"/>
                </a:cubicBezTo>
                <a:cubicBezTo>
                  <a:pt x="7276" y="5072"/>
                  <a:pt x="7304" y="5085"/>
                  <a:pt x="7367" y="5085"/>
                </a:cubicBezTo>
              </a:path>
              <a:path w="12999" h="1886">
                <a:moveTo>
                  <a:pt x="9847" y="6201"/>
                </a:moveTo>
                <a:cubicBezTo>
                  <a:pt x="9949" y="6220"/>
                  <a:pt x="10039" y="6226"/>
                  <a:pt x="10145" y="6226"/>
                </a:cubicBezTo>
                <a:cubicBezTo>
                  <a:pt x="10290" y="6226"/>
                  <a:pt x="10427" y="6238"/>
                  <a:pt x="10567" y="6251"/>
                </a:cubicBezTo>
                <a:cubicBezTo>
                  <a:pt x="10846" y="6277"/>
                  <a:pt x="11134" y="6250"/>
                  <a:pt x="11410" y="6276"/>
                </a:cubicBezTo>
                <a:cubicBezTo>
                  <a:pt x="11557" y="6290"/>
                  <a:pt x="11710" y="6296"/>
                  <a:pt x="11857" y="6300"/>
                </a:cubicBezTo>
                <a:cubicBezTo>
                  <a:pt x="12497" y="6319"/>
                  <a:pt x="13155" y="6323"/>
                  <a:pt x="13791" y="6276"/>
                </a:cubicBezTo>
                <a:cubicBezTo>
                  <a:pt x="13897" y="6268"/>
                  <a:pt x="14007" y="6276"/>
                  <a:pt x="14114" y="6276"/>
                </a:cubicBezTo>
              </a:path>
              <a:path w="12999" h="1886">
                <a:moveTo>
                  <a:pt x="12055" y="5035"/>
                </a:moveTo>
                <a:cubicBezTo>
                  <a:pt x="12079" y="4987"/>
                  <a:pt x="12088" y="4973"/>
                  <a:pt x="12080" y="4936"/>
                </a:cubicBezTo>
                <a:cubicBezTo>
                  <a:pt x="12000" y="4891"/>
                  <a:pt x="11968" y="4879"/>
                  <a:pt x="11881" y="4936"/>
                </a:cubicBezTo>
                <a:cubicBezTo>
                  <a:pt x="11798" y="4990"/>
                  <a:pt x="11839" y="5087"/>
                  <a:pt x="11857" y="5159"/>
                </a:cubicBezTo>
                <a:cubicBezTo>
                  <a:pt x="11947" y="5174"/>
                  <a:pt x="12053" y="5184"/>
                  <a:pt x="12080" y="5060"/>
                </a:cubicBezTo>
                <a:cubicBezTo>
                  <a:pt x="12091" y="5011"/>
                  <a:pt x="12080" y="4961"/>
                  <a:pt x="12080" y="5011"/>
                </a:cubicBezTo>
                <a:cubicBezTo>
                  <a:pt x="12106" y="5112"/>
                  <a:pt x="12114" y="5209"/>
                  <a:pt x="12154" y="5308"/>
                </a:cubicBezTo>
                <a:cubicBezTo>
                  <a:pt x="12177" y="5363"/>
                  <a:pt x="12240" y="5490"/>
                  <a:pt x="12328" y="5432"/>
                </a:cubicBezTo>
                <a:cubicBezTo>
                  <a:pt x="12394" y="5389"/>
                  <a:pt x="12443" y="5254"/>
                  <a:pt x="12353" y="5209"/>
                </a:cubicBezTo>
                <a:cubicBezTo>
                  <a:pt x="12305" y="5185"/>
                  <a:pt x="12210" y="5166"/>
                  <a:pt x="12154" y="5159"/>
                </a:cubicBezTo>
                <a:cubicBezTo>
                  <a:pt x="12077" y="5159"/>
                  <a:pt x="12284" y="5129"/>
                  <a:pt x="12353" y="5060"/>
                </a:cubicBezTo>
                <a:cubicBezTo>
                  <a:pt x="12402" y="4986"/>
                  <a:pt x="12419" y="4961"/>
                  <a:pt x="12452" y="4911"/>
                </a:cubicBezTo>
              </a:path>
              <a:path w="12999" h="1886">
                <a:moveTo>
                  <a:pt x="4862" y="4837"/>
                </a:moveTo>
                <a:cubicBezTo>
                  <a:pt x="4970" y="4740"/>
                  <a:pt x="5057" y="4686"/>
                  <a:pt x="5184" y="4614"/>
                </a:cubicBezTo>
                <a:cubicBezTo>
                  <a:pt x="5333" y="4530"/>
                  <a:pt x="5507" y="4483"/>
                  <a:pt x="5680" y="4465"/>
                </a:cubicBezTo>
                <a:cubicBezTo>
                  <a:pt x="5881" y="4444"/>
                  <a:pt x="6072" y="4415"/>
                  <a:pt x="6276" y="4415"/>
                </a:cubicBezTo>
                <a:cubicBezTo>
                  <a:pt x="6426" y="4415"/>
                  <a:pt x="6553" y="4447"/>
                  <a:pt x="6697" y="4465"/>
                </a:cubicBezTo>
                <a:cubicBezTo>
                  <a:pt x="6821" y="4480"/>
                  <a:pt x="6943" y="4487"/>
                  <a:pt x="7069" y="4490"/>
                </a:cubicBezTo>
                <a:cubicBezTo>
                  <a:pt x="7196" y="4493"/>
                  <a:pt x="7316" y="4504"/>
                  <a:pt x="7441" y="4514"/>
                </a:cubicBezTo>
                <a:cubicBezTo>
                  <a:pt x="7596" y="4526"/>
                  <a:pt x="7760" y="4531"/>
                  <a:pt x="7913" y="4539"/>
                </a:cubicBezTo>
                <a:cubicBezTo>
                  <a:pt x="8062" y="4547"/>
                  <a:pt x="8187" y="4562"/>
                  <a:pt x="8334" y="4589"/>
                </a:cubicBezTo>
                <a:cubicBezTo>
                  <a:pt x="8590" y="4636"/>
                  <a:pt x="8848" y="4678"/>
                  <a:pt x="9103" y="4713"/>
                </a:cubicBezTo>
                <a:cubicBezTo>
                  <a:pt x="9293" y="4739"/>
                  <a:pt x="9487" y="4781"/>
                  <a:pt x="9674" y="4812"/>
                </a:cubicBezTo>
                <a:cubicBezTo>
                  <a:pt x="9778" y="4830"/>
                  <a:pt x="9827" y="4880"/>
                  <a:pt x="9922" y="4911"/>
                </a:cubicBezTo>
                <a:cubicBezTo>
                  <a:pt x="10048" y="4952"/>
                  <a:pt x="10172" y="5024"/>
                  <a:pt x="10294" y="5060"/>
                </a:cubicBezTo>
                <a:cubicBezTo>
                  <a:pt x="10335" y="5060"/>
                  <a:pt x="10343" y="5060"/>
                  <a:pt x="10368" y="5060"/>
                </a:cubicBezTo>
              </a:path>
              <a:path w="12999" h="1886">
                <a:moveTo>
                  <a:pt x="10244" y="4713"/>
                </a:moveTo>
                <a:cubicBezTo>
                  <a:pt x="10278" y="4832"/>
                  <a:pt x="10355" y="4928"/>
                  <a:pt x="10418" y="5035"/>
                </a:cubicBezTo>
                <a:cubicBezTo>
                  <a:pt x="10501" y="5177"/>
                  <a:pt x="10252" y="5175"/>
                  <a:pt x="10170" y="5184"/>
                </a:cubicBezTo>
                <a:cubicBezTo>
                  <a:pt x="10091" y="5192"/>
                  <a:pt x="10067" y="5199"/>
                  <a:pt x="9996" y="5234"/>
                </a:cubicBezTo>
              </a:path>
              <a:path w="12999" h="1886">
                <a:moveTo>
                  <a:pt x="4787" y="4663"/>
                </a:moveTo>
                <a:cubicBezTo>
                  <a:pt x="4819" y="4759"/>
                  <a:pt x="4831" y="4862"/>
                  <a:pt x="4787" y="4961"/>
                </a:cubicBezTo>
                <a:cubicBezTo>
                  <a:pt x="4779" y="4969"/>
                  <a:pt x="4770" y="4978"/>
                  <a:pt x="4762" y="4986"/>
                </a:cubicBezTo>
                <a:cubicBezTo>
                  <a:pt x="4843" y="5013"/>
                  <a:pt x="4961" y="4975"/>
                  <a:pt x="5060" y="4961"/>
                </a:cubicBezTo>
                <a:cubicBezTo>
                  <a:pt x="5068" y="4961"/>
                  <a:pt x="5077" y="4961"/>
                  <a:pt x="5085" y="49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1768320"/>
            <a:ext cx="1652760" cy="357480"/>
          </a:xfrm>
          <a:custGeom>
            <a:avLst/>
            <a:gdLst/>
            <a:ahLst/>
            <a:rect l="l" t="t" r="r" b="b"/>
            <a:pathLst>
              <a:path w="4590" h="994">
                <a:moveTo>
                  <a:pt x="18554" y="5457"/>
                </a:moveTo>
                <a:cubicBezTo>
                  <a:pt x="18465" y="5386"/>
                  <a:pt x="18348" y="5210"/>
                  <a:pt x="18256" y="5383"/>
                </a:cubicBezTo>
                <a:cubicBezTo>
                  <a:pt x="18156" y="5572"/>
                  <a:pt x="18174" y="5671"/>
                  <a:pt x="18231" y="5854"/>
                </a:cubicBezTo>
                <a:cubicBezTo>
                  <a:pt x="18422" y="5723"/>
                  <a:pt x="18478" y="5621"/>
                  <a:pt x="18504" y="5383"/>
                </a:cubicBezTo>
                <a:cubicBezTo>
                  <a:pt x="18566" y="5516"/>
                  <a:pt x="18608" y="5640"/>
                  <a:pt x="18653" y="5779"/>
                </a:cubicBezTo>
              </a:path>
              <a:path w="4590" h="994">
                <a:moveTo>
                  <a:pt x="19323" y="5432"/>
                </a:moveTo>
                <a:cubicBezTo>
                  <a:pt x="19339" y="5558"/>
                  <a:pt x="19348" y="5681"/>
                  <a:pt x="19372" y="5804"/>
                </a:cubicBezTo>
                <a:cubicBezTo>
                  <a:pt x="19330" y="5640"/>
                  <a:pt x="19267" y="5432"/>
                  <a:pt x="19496" y="5358"/>
                </a:cubicBezTo>
                <a:cubicBezTo>
                  <a:pt x="19737" y="5280"/>
                  <a:pt x="19783" y="5656"/>
                  <a:pt x="19819" y="5804"/>
                </a:cubicBezTo>
                <a:cubicBezTo>
                  <a:pt x="19839" y="5882"/>
                  <a:pt x="19863" y="5931"/>
                  <a:pt x="19819" y="5879"/>
                </a:cubicBezTo>
              </a:path>
              <a:path w="4590" h="994">
                <a:moveTo>
                  <a:pt x="19968" y="5383"/>
                </a:moveTo>
                <a:cubicBezTo>
                  <a:pt x="19976" y="5432"/>
                  <a:pt x="20021" y="5788"/>
                  <a:pt x="20067" y="5804"/>
                </a:cubicBezTo>
                <a:cubicBezTo>
                  <a:pt x="20249" y="5866"/>
                  <a:pt x="20265" y="5623"/>
                  <a:pt x="20290" y="5531"/>
                </a:cubicBezTo>
                <a:cubicBezTo>
                  <a:pt x="20282" y="5498"/>
                  <a:pt x="20273" y="5465"/>
                  <a:pt x="20265" y="5432"/>
                </a:cubicBezTo>
                <a:cubicBezTo>
                  <a:pt x="20304" y="5586"/>
                  <a:pt x="20304" y="5837"/>
                  <a:pt x="20439" y="5854"/>
                </a:cubicBezTo>
              </a:path>
              <a:path w="4590" h="994">
                <a:moveTo>
                  <a:pt x="20538" y="5432"/>
                </a:moveTo>
                <a:cubicBezTo>
                  <a:pt x="20556" y="5556"/>
                  <a:pt x="20578" y="5680"/>
                  <a:pt x="20588" y="5804"/>
                </a:cubicBezTo>
                <a:cubicBezTo>
                  <a:pt x="20588" y="5684"/>
                  <a:pt x="20593" y="5575"/>
                  <a:pt x="20613" y="5457"/>
                </a:cubicBezTo>
                <a:cubicBezTo>
                  <a:pt x="20798" y="5457"/>
                  <a:pt x="20829" y="5550"/>
                  <a:pt x="20861" y="5730"/>
                </a:cubicBezTo>
                <a:cubicBezTo>
                  <a:pt x="20865" y="5667"/>
                  <a:pt x="20855" y="5406"/>
                  <a:pt x="20935" y="5383"/>
                </a:cubicBezTo>
                <a:cubicBezTo>
                  <a:pt x="21153" y="5320"/>
                  <a:pt x="21117" y="5637"/>
                  <a:pt x="21158" y="5755"/>
                </a:cubicBezTo>
                <a:cubicBezTo>
                  <a:pt x="21166" y="5763"/>
                  <a:pt x="21175" y="5771"/>
                  <a:pt x="21183" y="5779"/>
                </a:cubicBezTo>
              </a:path>
              <a:path w="4590" h="994">
                <a:moveTo>
                  <a:pt x="21332" y="4911"/>
                </a:moveTo>
                <a:cubicBezTo>
                  <a:pt x="21354" y="5143"/>
                  <a:pt x="21412" y="5358"/>
                  <a:pt x="21481" y="5581"/>
                </a:cubicBezTo>
                <a:cubicBezTo>
                  <a:pt x="21481" y="5663"/>
                  <a:pt x="21456" y="5368"/>
                  <a:pt x="21605" y="5333"/>
                </a:cubicBezTo>
                <a:cubicBezTo>
                  <a:pt x="21871" y="5271"/>
                  <a:pt x="21833" y="5589"/>
                  <a:pt x="21779" y="5705"/>
                </a:cubicBezTo>
                <a:cubicBezTo>
                  <a:pt x="21669" y="5732"/>
                  <a:pt x="21626" y="5737"/>
                  <a:pt x="21555" y="5680"/>
                </a:cubicBezTo>
              </a:path>
              <a:path w="4590" h="994">
                <a:moveTo>
                  <a:pt x="22027" y="5457"/>
                </a:moveTo>
                <a:cubicBezTo>
                  <a:pt x="22136" y="5445"/>
                  <a:pt x="22185" y="5420"/>
                  <a:pt x="22250" y="5333"/>
                </a:cubicBezTo>
                <a:cubicBezTo>
                  <a:pt x="22028" y="5365"/>
                  <a:pt x="22023" y="5419"/>
                  <a:pt x="22002" y="5631"/>
                </a:cubicBezTo>
                <a:cubicBezTo>
                  <a:pt x="22233" y="5692"/>
                  <a:pt x="22224" y="5491"/>
                  <a:pt x="22399" y="5457"/>
                </a:cubicBezTo>
                <a:cubicBezTo>
                  <a:pt x="22431" y="5524"/>
                  <a:pt x="22447" y="5557"/>
                  <a:pt x="22473" y="5606"/>
                </a:cubicBezTo>
                <a:cubicBezTo>
                  <a:pt x="22482" y="5433"/>
                  <a:pt x="22466" y="5294"/>
                  <a:pt x="22671" y="5259"/>
                </a:cubicBezTo>
                <a:cubicBezTo>
                  <a:pt x="22704" y="5259"/>
                  <a:pt x="22738" y="5259"/>
                  <a:pt x="22771" y="52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45160" y="2251080"/>
            <a:ext cx="911160" cy="150840"/>
          </a:xfrm>
          <a:custGeom>
            <a:avLst/>
            <a:gdLst/>
            <a:ahLst/>
            <a:rect l="l" t="t" r="r" b="b"/>
            <a:pathLst>
              <a:path w="2531" h="422">
                <a:moveTo>
                  <a:pt x="18207" y="6350"/>
                </a:moveTo>
                <a:cubicBezTo>
                  <a:pt x="18226" y="6454"/>
                  <a:pt x="18245" y="6540"/>
                  <a:pt x="18256" y="6648"/>
                </a:cubicBezTo>
                <a:cubicBezTo>
                  <a:pt x="18204" y="6504"/>
                  <a:pt x="18102" y="6171"/>
                  <a:pt x="18405" y="6300"/>
                </a:cubicBezTo>
                <a:cubicBezTo>
                  <a:pt x="18564" y="6413"/>
                  <a:pt x="18611" y="6440"/>
                  <a:pt x="18678" y="6548"/>
                </a:cubicBezTo>
                <a:cubicBezTo>
                  <a:pt x="18678" y="6556"/>
                  <a:pt x="18678" y="6565"/>
                  <a:pt x="18678" y="6573"/>
                </a:cubicBezTo>
                <a:cubicBezTo>
                  <a:pt x="18674" y="6554"/>
                  <a:pt x="18570" y="6194"/>
                  <a:pt x="18752" y="6300"/>
                </a:cubicBezTo>
                <a:cubicBezTo>
                  <a:pt x="18872" y="6420"/>
                  <a:pt x="18911" y="6455"/>
                  <a:pt x="18926" y="6573"/>
                </a:cubicBezTo>
              </a:path>
              <a:path w="2531" h="422">
                <a:moveTo>
                  <a:pt x="19124" y="6474"/>
                </a:moveTo>
                <a:cubicBezTo>
                  <a:pt x="19237" y="6429"/>
                  <a:pt x="19260" y="6439"/>
                  <a:pt x="19298" y="6325"/>
                </a:cubicBezTo>
                <a:cubicBezTo>
                  <a:pt x="19193" y="6221"/>
                  <a:pt x="19089" y="6317"/>
                  <a:pt x="19075" y="6474"/>
                </a:cubicBezTo>
                <a:cubicBezTo>
                  <a:pt x="19099" y="6591"/>
                  <a:pt x="19102" y="6627"/>
                  <a:pt x="19174" y="6672"/>
                </a:cubicBezTo>
              </a:path>
              <a:path w="2531" h="422">
                <a:moveTo>
                  <a:pt x="19720" y="6375"/>
                </a:moveTo>
                <a:cubicBezTo>
                  <a:pt x="19736" y="6359"/>
                  <a:pt x="19622" y="6151"/>
                  <a:pt x="19521" y="6300"/>
                </a:cubicBezTo>
                <a:cubicBezTo>
                  <a:pt x="19416" y="6454"/>
                  <a:pt x="19427" y="6540"/>
                  <a:pt x="19521" y="6648"/>
                </a:cubicBezTo>
                <a:cubicBezTo>
                  <a:pt x="19620" y="6541"/>
                  <a:pt x="19632" y="6552"/>
                  <a:pt x="19645" y="6400"/>
                </a:cubicBezTo>
                <a:cubicBezTo>
                  <a:pt x="19695" y="6507"/>
                  <a:pt x="19764" y="6720"/>
                  <a:pt x="19893" y="6548"/>
                </a:cubicBezTo>
                <a:cubicBezTo>
                  <a:pt x="20000" y="6405"/>
                  <a:pt x="19944" y="6354"/>
                  <a:pt x="19993" y="6548"/>
                </a:cubicBezTo>
                <a:cubicBezTo>
                  <a:pt x="19993" y="6366"/>
                  <a:pt x="20002" y="6350"/>
                  <a:pt x="20141" y="6251"/>
                </a:cubicBezTo>
                <a:cubicBezTo>
                  <a:pt x="20291" y="6360"/>
                  <a:pt x="20292" y="6388"/>
                  <a:pt x="20340" y="6573"/>
                </a:cubicBezTo>
              </a:path>
              <a:path w="2531" h="422">
                <a:moveTo>
                  <a:pt x="20538" y="6251"/>
                </a:moveTo>
                <a:cubicBezTo>
                  <a:pt x="20474" y="6264"/>
                  <a:pt x="20476" y="6273"/>
                  <a:pt x="20439" y="6325"/>
                </a:cubicBezTo>
                <a:cubicBezTo>
                  <a:pt x="20470" y="6340"/>
                  <a:pt x="20848" y="6485"/>
                  <a:pt x="20687" y="6573"/>
                </a:cubicBezTo>
                <a:cubicBezTo>
                  <a:pt x="20637" y="6581"/>
                  <a:pt x="20588" y="6590"/>
                  <a:pt x="20538" y="65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97880" y="2224080"/>
            <a:ext cx="187200" cy="133200"/>
          </a:xfrm>
          <a:custGeom>
            <a:avLst/>
            <a:gdLst/>
            <a:ahLst/>
            <a:rect l="l" t="t" r="r" b="b"/>
            <a:pathLst>
              <a:path w="522" h="373">
                <a:moveTo>
                  <a:pt x="21555" y="6276"/>
                </a:moveTo>
                <a:cubicBezTo>
                  <a:pt x="21517" y="6238"/>
                  <a:pt x="21499" y="6215"/>
                  <a:pt x="21481" y="6176"/>
                </a:cubicBezTo>
                <a:cubicBezTo>
                  <a:pt x="21478" y="6181"/>
                  <a:pt x="21303" y="6584"/>
                  <a:pt x="21406" y="6548"/>
                </a:cubicBezTo>
                <a:cubicBezTo>
                  <a:pt x="21503" y="6452"/>
                  <a:pt x="21535" y="6424"/>
                  <a:pt x="21530" y="6325"/>
                </a:cubicBezTo>
                <a:cubicBezTo>
                  <a:pt x="21538" y="6309"/>
                  <a:pt x="21547" y="6292"/>
                  <a:pt x="21555" y="6276"/>
                </a:cubicBezTo>
                <a:cubicBezTo>
                  <a:pt x="21618" y="6504"/>
                  <a:pt x="21701" y="6488"/>
                  <a:pt x="21903" y="64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80160" y="2490840"/>
            <a:ext cx="1133640" cy="268200"/>
          </a:xfrm>
          <a:custGeom>
            <a:avLst/>
            <a:gdLst/>
            <a:ahLst/>
            <a:rect l="l" t="t" r="r" b="b"/>
            <a:pathLst>
              <a:path w="3151" h="745">
                <a:moveTo>
                  <a:pt x="18554" y="7218"/>
                </a:moveTo>
                <a:cubicBezTo>
                  <a:pt x="18636" y="7368"/>
                  <a:pt x="18716" y="7518"/>
                  <a:pt x="18802" y="7665"/>
                </a:cubicBezTo>
                <a:cubicBezTo>
                  <a:pt x="18810" y="7514"/>
                  <a:pt x="18829" y="7368"/>
                  <a:pt x="18852" y="7218"/>
                </a:cubicBezTo>
              </a:path>
              <a:path w="3151" h="745">
                <a:moveTo>
                  <a:pt x="19248" y="7268"/>
                </a:moveTo>
                <a:cubicBezTo>
                  <a:pt x="19248" y="7251"/>
                  <a:pt x="19248" y="7235"/>
                  <a:pt x="19248" y="7218"/>
                </a:cubicBezTo>
                <a:cubicBezTo>
                  <a:pt x="19191" y="7238"/>
                  <a:pt x="18942" y="7547"/>
                  <a:pt x="19075" y="7541"/>
                </a:cubicBezTo>
                <a:cubicBezTo>
                  <a:pt x="19228" y="7534"/>
                  <a:pt x="19223" y="7387"/>
                  <a:pt x="19224" y="7293"/>
                </a:cubicBezTo>
                <a:cubicBezTo>
                  <a:pt x="19254" y="7422"/>
                  <a:pt x="19290" y="7648"/>
                  <a:pt x="19422" y="7417"/>
                </a:cubicBezTo>
                <a:cubicBezTo>
                  <a:pt x="19439" y="7376"/>
                  <a:pt x="19455" y="7334"/>
                  <a:pt x="19472" y="7293"/>
                </a:cubicBezTo>
                <a:cubicBezTo>
                  <a:pt x="19496" y="7367"/>
                  <a:pt x="19504" y="7392"/>
                  <a:pt x="19521" y="7441"/>
                </a:cubicBezTo>
                <a:cubicBezTo>
                  <a:pt x="19541" y="7229"/>
                  <a:pt x="19544" y="7196"/>
                  <a:pt x="19745" y="7119"/>
                </a:cubicBezTo>
              </a:path>
              <a:path w="3151" h="745">
                <a:moveTo>
                  <a:pt x="19943" y="7218"/>
                </a:moveTo>
                <a:cubicBezTo>
                  <a:pt x="19978" y="7351"/>
                  <a:pt x="19993" y="7430"/>
                  <a:pt x="19993" y="7565"/>
                </a:cubicBezTo>
              </a:path>
              <a:path w="3151" h="745">
                <a:moveTo>
                  <a:pt x="19869" y="7020"/>
                </a:moveTo>
                <a:lnTo>
                  <a:pt x="19869" y="7020"/>
                </a:lnTo>
              </a:path>
              <a:path w="3151" h="745">
                <a:moveTo>
                  <a:pt x="20489" y="7268"/>
                </a:moveTo>
                <a:cubicBezTo>
                  <a:pt x="20497" y="7276"/>
                  <a:pt x="20505" y="7285"/>
                  <a:pt x="20513" y="7293"/>
                </a:cubicBezTo>
                <a:cubicBezTo>
                  <a:pt x="20459" y="7193"/>
                  <a:pt x="20318" y="7084"/>
                  <a:pt x="20265" y="7293"/>
                </a:cubicBezTo>
                <a:cubicBezTo>
                  <a:pt x="20265" y="7438"/>
                  <a:pt x="20250" y="7473"/>
                  <a:pt x="20315" y="7541"/>
                </a:cubicBezTo>
                <a:cubicBezTo>
                  <a:pt x="20434" y="7422"/>
                  <a:pt x="20377" y="7310"/>
                  <a:pt x="20439" y="7392"/>
                </a:cubicBezTo>
                <a:cubicBezTo>
                  <a:pt x="20609" y="7616"/>
                  <a:pt x="20693" y="7394"/>
                  <a:pt x="20712" y="7218"/>
                </a:cubicBezTo>
                <a:cubicBezTo>
                  <a:pt x="20712" y="7092"/>
                  <a:pt x="20719" y="7021"/>
                  <a:pt x="20687" y="7144"/>
                </a:cubicBezTo>
                <a:cubicBezTo>
                  <a:pt x="20721" y="7284"/>
                  <a:pt x="20777" y="7506"/>
                  <a:pt x="20737" y="7367"/>
                </a:cubicBezTo>
                <a:cubicBezTo>
                  <a:pt x="20816" y="7240"/>
                  <a:pt x="20975" y="7133"/>
                  <a:pt x="21010" y="7392"/>
                </a:cubicBezTo>
                <a:cubicBezTo>
                  <a:pt x="21032" y="7553"/>
                  <a:pt x="20773" y="7471"/>
                  <a:pt x="20712" y="7466"/>
                </a:cubicBezTo>
              </a:path>
              <a:path w="3151" h="745">
                <a:moveTo>
                  <a:pt x="21134" y="6921"/>
                </a:moveTo>
                <a:cubicBezTo>
                  <a:pt x="21163" y="7103"/>
                  <a:pt x="21219" y="7281"/>
                  <a:pt x="21258" y="7466"/>
                </a:cubicBezTo>
              </a:path>
              <a:path w="3151" h="745">
                <a:moveTo>
                  <a:pt x="21406" y="7218"/>
                </a:moveTo>
                <a:cubicBezTo>
                  <a:pt x="21514" y="7240"/>
                  <a:pt x="21589" y="7228"/>
                  <a:pt x="21679" y="7169"/>
                </a:cubicBezTo>
                <a:cubicBezTo>
                  <a:pt x="21600" y="7058"/>
                  <a:pt x="21467" y="7074"/>
                  <a:pt x="21406" y="7218"/>
                </a:cubicBezTo>
                <a:cubicBezTo>
                  <a:pt x="21315" y="7431"/>
                  <a:pt x="21596" y="7447"/>
                  <a:pt x="21704" y="74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30280" y="2473200"/>
            <a:ext cx="233640" cy="366840"/>
          </a:xfrm>
          <a:custGeom>
            <a:avLst/>
            <a:gdLst/>
            <a:ahLst/>
            <a:rect l="l" t="t" r="r" b="b"/>
            <a:pathLst>
              <a:path w="646" h="1018">
                <a:moveTo>
                  <a:pt x="6921" y="6995"/>
                </a:moveTo>
                <a:cubicBezTo>
                  <a:pt x="6859" y="6944"/>
                  <a:pt x="6768" y="6853"/>
                  <a:pt x="6672" y="6871"/>
                </a:cubicBezTo>
                <a:cubicBezTo>
                  <a:pt x="6518" y="6901"/>
                  <a:pt x="6481" y="7036"/>
                  <a:pt x="6474" y="7169"/>
                </a:cubicBezTo>
                <a:cubicBezTo>
                  <a:pt x="6468" y="7284"/>
                  <a:pt x="6463" y="7286"/>
                  <a:pt x="6524" y="7367"/>
                </a:cubicBezTo>
                <a:cubicBezTo>
                  <a:pt x="6632" y="7345"/>
                  <a:pt x="6756" y="7290"/>
                  <a:pt x="6796" y="7169"/>
                </a:cubicBezTo>
                <a:cubicBezTo>
                  <a:pt x="6796" y="7103"/>
                  <a:pt x="6796" y="7086"/>
                  <a:pt x="6796" y="7045"/>
                </a:cubicBezTo>
                <a:cubicBezTo>
                  <a:pt x="6796" y="7221"/>
                  <a:pt x="6783" y="7391"/>
                  <a:pt x="6772" y="7565"/>
                </a:cubicBezTo>
                <a:cubicBezTo>
                  <a:pt x="6767" y="7645"/>
                  <a:pt x="6744" y="7798"/>
                  <a:pt x="6796" y="7863"/>
                </a:cubicBezTo>
                <a:cubicBezTo>
                  <a:pt x="6804" y="7871"/>
                  <a:pt x="6813" y="7880"/>
                  <a:pt x="6821" y="7888"/>
                </a:cubicBezTo>
                <a:cubicBezTo>
                  <a:pt x="6952" y="7855"/>
                  <a:pt x="6941" y="7769"/>
                  <a:pt x="6945" y="7640"/>
                </a:cubicBezTo>
                <a:cubicBezTo>
                  <a:pt x="6949" y="7521"/>
                  <a:pt x="6925" y="7505"/>
                  <a:pt x="6846" y="7441"/>
                </a:cubicBezTo>
                <a:cubicBezTo>
                  <a:pt x="6786" y="7392"/>
                  <a:pt x="6768" y="7394"/>
                  <a:pt x="6697" y="7367"/>
                </a:cubicBezTo>
                <a:cubicBezTo>
                  <a:pt x="6823" y="7367"/>
                  <a:pt x="6898" y="7379"/>
                  <a:pt x="6995" y="7293"/>
                </a:cubicBezTo>
                <a:cubicBezTo>
                  <a:pt x="7082" y="7216"/>
                  <a:pt x="7090" y="7151"/>
                  <a:pt x="7119" y="70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41760" y="2562120"/>
            <a:ext cx="107640" cy="1800"/>
          </a:xfrm>
          <a:custGeom>
            <a:avLst/>
            <a:gdLst/>
            <a:ahLst/>
            <a:rect l="l" t="t" r="r" b="b"/>
            <a:pathLst>
              <a:path w="299" h="1">
                <a:moveTo>
                  <a:pt x="7615" y="7119"/>
                </a:moveTo>
                <a:cubicBezTo>
                  <a:pt x="7714" y="7119"/>
                  <a:pt x="7814" y="7119"/>
                  <a:pt x="7913" y="71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62160" y="2411280"/>
            <a:ext cx="125640" cy="231840"/>
          </a:xfrm>
          <a:custGeom>
            <a:avLst/>
            <a:gdLst/>
            <a:ahLst/>
            <a:rect l="l" t="t" r="r" b="b"/>
            <a:pathLst>
              <a:path w="348" h="646">
                <a:moveTo>
                  <a:pt x="8533" y="6821"/>
                </a:moveTo>
                <a:cubicBezTo>
                  <a:pt x="8548" y="6703"/>
                  <a:pt x="8608" y="6672"/>
                  <a:pt x="8731" y="6722"/>
                </a:cubicBezTo>
                <a:cubicBezTo>
                  <a:pt x="8883" y="6783"/>
                  <a:pt x="8790" y="6943"/>
                  <a:pt x="8706" y="7020"/>
                </a:cubicBezTo>
                <a:cubicBezTo>
                  <a:pt x="8643" y="7062"/>
                  <a:pt x="8631" y="7078"/>
                  <a:pt x="8582" y="7069"/>
                </a:cubicBezTo>
                <a:cubicBezTo>
                  <a:pt x="8713" y="7016"/>
                  <a:pt x="8738" y="6991"/>
                  <a:pt x="8855" y="7045"/>
                </a:cubicBezTo>
                <a:cubicBezTo>
                  <a:pt x="8832" y="7234"/>
                  <a:pt x="8784" y="7306"/>
                  <a:pt x="8582" y="7342"/>
                </a:cubicBezTo>
                <a:cubicBezTo>
                  <a:pt x="8557" y="7342"/>
                  <a:pt x="8533" y="7342"/>
                  <a:pt x="8508" y="73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04920" y="3456000"/>
            <a:ext cx="135000" cy="169920"/>
          </a:xfrm>
          <a:custGeom>
            <a:avLst/>
            <a:gdLst/>
            <a:ahLst/>
            <a:rect l="l" t="t" r="r" b="b"/>
            <a:pathLst>
              <a:path w="373" h="473">
                <a:moveTo>
                  <a:pt x="3522" y="9649"/>
                </a:moveTo>
                <a:cubicBezTo>
                  <a:pt x="3588" y="9620"/>
                  <a:pt x="3612" y="9604"/>
                  <a:pt x="3671" y="9624"/>
                </a:cubicBezTo>
                <a:cubicBezTo>
                  <a:pt x="3694" y="9725"/>
                  <a:pt x="3671" y="9747"/>
                  <a:pt x="3597" y="9823"/>
                </a:cubicBezTo>
                <a:cubicBezTo>
                  <a:pt x="3677" y="9841"/>
                  <a:pt x="3790" y="9890"/>
                  <a:pt x="3696" y="9996"/>
                </a:cubicBezTo>
                <a:cubicBezTo>
                  <a:pt x="3599" y="10106"/>
                  <a:pt x="3470" y="10083"/>
                  <a:pt x="3349" y="100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25800" y="3571920"/>
            <a:ext cx="125280" cy="36360"/>
          </a:xfrm>
          <a:custGeom>
            <a:avLst/>
            <a:gdLst/>
            <a:ahLst/>
            <a:rect l="l" t="t" r="r" b="b"/>
            <a:pathLst>
              <a:path w="348" h="100">
                <a:moveTo>
                  <a:pt x="5928" y="9922"/>
                </a:moveTo>
                <a:cubicBezTo>
                  <a:pt x="5929" y="9983"/>
                  <a:pt x="6104" y="10006"/>
                  <a:pt x="6201" y="10021"/>
                </a:cubicBezTo>
                <a:cubicBezTo>
                  <a:pt x="6218" y="10021"/>
                  <a:pt x="6234" y="10021"/>
                  <a:pt x="6251" y="100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44800" y="4160880"/>
            <a:ext cx="687240" cy="393480"/>
          </a:xfrm>
          <a:custGeom>
            <a:avLst/>
            <a:gdLst/>
            <a:ahLst/>
            <a:rect l="l" t="t" r="r" b="b"/>
            <a:pathLst>
              <a:path w="1911" h="1092">
                <a:moveTo>
                  <a:pt x="5879" y="11559"/>
                </a:moveTo>
                <a:cubicBezTo>
                  <a:pt x="5947" y="11559"/>
                  <a:pt x="6097" y="11565"/>
                  <a:pt x="6077" y="11683"/>
                </a:cubicBezTo>
                <a:cubicBezTo>
                  <a:pt x="6054" y="11817"/>
                  <a:pt x="5933" y="11820"/>
                  <a:pt x="5829" y="11857"/>
                </a:cubicBezTo>
                <a:cubicBezTo>
                  <a:pt x="5937" y="11870"/>
                  <a:pt x="6167" y="11916"/>
                  <a:pt x="6003" y="12080"/>
                </a:cubicBezTo>
                <a:cubicBezTo>
                  <a:pt x="5899" y="12184"/>
                  <a:pt x="5783" y="12121"/>
                  <a:pt x="5680" y="12080"/>
                </a:cubicBezTo>
              </a:path>
              <a:path w="1911" h="1092">
                <a:moveTo>
                  <a:pt x="6449" y="11881"/>
                </a:moveTo>
                <a:cubicBezTo>
                  <a:pt x="6573" y="11881"/>
                  <a:pt x="6598" y="11881"/>
                  <a:pt x="6672" y="11881"/>
                </a:cubicBezTo>
              </a:path>
              <a:path w="1911" h="1092">
                <a:moveTo>
                  <a:pt x="7193" y="12030"/>
                </a:moveTo>
                <a:cubicBezTo>
                  <a:pt x="7193" y="11954"/>
                  <a:pt x="7219" y="11892"/>
                  <a:pt x="7144" y="11857"/>
                </a:cubicBezTo>
                <a:cubicBezTo>
                  <a:pt x="6996" y="11787"/>
                  <a:pt x="6938" y="11949"/>
                  <a:pt x="6896" y="12055"/>
                </a:cubicBezTo>
                <a:cubicBezTo>
                  <a:pt x="6970" y="12130"/>
                  <a:pt x="7077" y="12117"/>
                  <a:pt x="7169" y="12030"/>
                </a:cubicBezTo>
                <a:cubicBezTo>
                  <a:pt x="7177" y="12014"/>
                  <a:pt x="7185" y="11997"/>
                  <a:pt x="7193" y="11981"/>
                </a:cubicBezTo>
                <a:cubicBezTo>
                  <a:pt x="7155" y="12172"/>
                  <a:pt x="7016" y="12337"/>
                  <a:pt x="6970" y="12526"/>
                </a:cubicBezTo>
                <a:cubicBezTo>
                  <a:pt x="6970" y="12567"/>
                  <a:pt x="6970" y="12609"/>
                  <a:pt x="6970" y="12650"/>
                </a:cubicBezTo>
                <a:cubicBezTo>
                  <a:pt x="7095" y="12609"/>
                  <a:pt x="7197" y="12481"/>
                  <a:pt x="7169" y="12328"/>
                </a:cubicBezTo>
                <a:cubicBezTo>
                  <a:pt x="7122" y="12235"/>
                  <a:pt x="7109" y="12208"/>
                  <a:pt x="7069" y="12154"/>
                </a:cubicBezTo>
                <a:cubicBezTo>
                  <a:pt x="7308" y="12089"/>
                  <a:pt x="7416" y="12006"/>
                  <a:pt x="7590" y="118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87760" y="3384720"/>
            <a:ext cx="1492200" cy="660240"/>
          </a:xfrm>
          <a:custGeom>
            <a:avLst/>
            <a:gdLst/>
            <a:ahLst/>
            <a:rect l="l" t="t" r="r" b="b"/>
            <a:pathLst>
              <a:path w="4144" h="1837">
                <a:moveTo>
                  <a:pt x="7466" y="11088"/>
                </a:moveTo>
                <a:cubicBezTo>
                  <a:pt x="7641" y="11112"/>
                  <a:pt x="7831" y="11139"/>
                  <a:pt x="8012" y="11162"/>
                </a:cubicBezTo>
                <a:cubicBezTo>
                  <a:pt x="8235" y="11190"/>
                  <a:pt x="8459" y="11223"/>
                  <a:pt x="8682" y="11237"/>
                </a:cubicBezTo>
                <a:cubicBezTo>
                  <a:pt x="8819" y="11245"/>
                  <a:pt x="8940" y="11195"/>
                  <a:pt x="9079" y="11212"/>
                </a:cubicBezTo>
                <a:cubicBezTo>
                  <a:pt x="9271" y="11236"/>
                  <a:pt x="9454" y="11237"/>
                  <a:pt x="9649" y="11237"/>
                </a:cubicBezTo>
                <a:cubicBezTo>
                  <a:pt x="9875" y="11237"/>
                  <a:pt x="10094" y="11215"/>
                  <a:pt x="10319" y="11212"/>
                </a:cubicBezTo>
                <a:cubicBezTo>
                  <a:pt x="10586" y="11208"/>
                  <a:pt x="10847" y="11225"/>
                  <a:pt x="11112" y="11237"/>
                </a:cubicBezTo>
                <a:cubicBezTo>
                  <a:pt x="11277" y="11244"/>
                  <a:pt x="11444" y="11237"/>
                  <a:pt x="11609" y="11237"/>
                </a:cubicBezTo>
              </a:path>
              <a:path w="4144" h="1837">
                <a:moveTo>
                  <a:pt x="9128" y="9624"/>
                </a:moveTo>
                <a:cubicBezTo>
                  <a:pt x="9115" y="9528"/>
                  <a:pt x="9089" y="9341"/>
                  <a:pt x="8930" y="9401"/>
                </a:cubicBezTo>
                <a:cubicBezTo>
                  <a:pt x="8790" y="9454"/>
                  <a:pt x="8778" y="9556"/>
                  <a:pt x="8756" y="9674"/>
                </a:cubicBezTo>
                <a:cubicBezTo>
                  <a:pt x="8920" y="9695"/>
                  <a:pt x="8989" y="9679"/>
                  <a:pt x="9103" y="9550"/>
                </a:cubicBezTo>
                <a:cubicBezTo>
                  <a:pt x="9104" y="9761"/>
                  <a:pt x="8959" y="9910"/>
                  <a:pt x="8880" y="10120"/>
                </a:cubicBezTo>
                <a:cubicBezTo>
                  <a:pt x="8861" y="10198"/>
                  <a:pt x="8836" y="10215"/>
                  <a:pt x="8880" y="10244"/>
                </a:cubicBezTo>
                <a:cubicBezTo>
                  <a:pt x="9012" y="10167"/>
                  <a:pt x="9099" y="10047"/>
                  <a:pt x="9054" y="9872"/>
                </a:cubicBezTo>
                <a:cubicBezTo>
                  <a:pt x="9010" y="9807"/>
                  <a:pt x="9004" y="9788"/>
                  <a:pt x="8954" y="9773"/>
                </a:cubicBezTo>
                <a:cubicBezTo>
                  <a:pt x="9184" y="9684"/>
                  <a:pt x="9376" y="9599"/>
                  <a:pt x="9550" y="94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693396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bjective:  Students will write algebraic expressions to represent unknown quantities</a:t>
            </a:r>
            <a:endParaRPr b="0" lang="en-US" sz="2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Translate each into an algebraic expression or equation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The sum of six and a number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A number less eight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The difference of a number and two increased by nine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The quotient of a number and six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The product of a number and two is eight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88520" y="831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15720" y="-458640"/>
            <a:ext cx="480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Grande"/>
              </a:rPr>
              <a:t>Arial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929280" y="590220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9248" y="16396"/>
                </a:moveTo>
                <a:lnTo>
                  <a:pt x="19248" y="1639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57240" y="1677960"/>
            <a:ext cx="1795680" cy="420840"/>
          </a:xfrm>
          <a:custGeom>
            <a:avLst/>
            <a:gdLst/>
            <a:ahLst/>
            <a:rect l="l" t="t" r="r" b="b"/>
            <a:pathLst>
              <a:path w="4987" h="1167">
                <a:moveTo>
                  <a:pt x="5829" y="5283"/>
                </a:moveTo>
                <a:cubicBezTo>
                  <a:pt x="5795" y="5429"/>
                  <a:pt x="5779" y="5556"/>
                  <a:pt x="5779" y="5705"/>
                </a:cubicBezTo>
              </a:path>
              <a:path w="4987" h="1167">
                <a:moveTo>
                  <a:pt x="5556" y="5432"/>
                </a:moveTo>
                <a:cubicBezTo>
                  <a:pt x="5668" y="5395"/>
                  <a:pt x="5784" y="5407"/>
                  <a:pt x="5904" y="5407"/>
                </a:cubicBezTo>
                <a:cubicBezTo>
                  <a:pt x="5945" y="5407"/>
                  <a:pt x="5987" y="5407"/>
                  <a:pt x="6028" y="5407"/>
                </a:cubicBezTo>
              </a:path>
              <a:path w="4987" h="1167">
                <a:moveTo>
                  <a:pt x="8434" y="5135"/>
                </a:moveTo>
                <a:cubicBezTo>
                  <a:pt x="8350" y="5257"/>
                  <a:pt x="8310" y="5340"/>
                  <a:pt x="8285" y="5482"/>
                </a:cubicBezTo>
                <a:cubicBezTo>
                  <a:pt x="8271" y="5563"/>
                  <a:pt x="8305" y="5624"/>
                  <a:pt x="8384" y="5655"/>
                </a:cubicBezTo>
                <a:cubicBezTo>
                  <a:pt x="8480" y="5693"/>
                  <a:pt x="8581" y="5623"/>
                  <a:pt x="8657" y="5581"/>
                </a:cubicBezTo>
                <a:cubicBezTo>
                  <a:pt x="8729" y="5541"/>
                  <a:pt x="8767" y="5532"/>
                  <a:pt x="8806" y="5457"/>
                </a:cubicBezTo>
                <a:cubicBezTo>
                  <a:pt x="8837" y="5398"/>
                  <a:pt x="8835" y="5313"/>
                  <a:pt x="8731" y="5333"/>
                </a:cubicBezTo>
                <a:cubicBezTo>
                  <a:pt x="8657" y="5347"/>
                  <a:pt x="8638" y="5446"/>
                  <a:pt x="8632" y="5507"/>
                </a:cubicBezTo>
                <a:cubicBezTo>
                  <a:pt x="8632" y="5556"/>
                  <a:pt x="8632" y="5573"/>
                  <a:pt x="8632" y="5606"/>
                </a:cubicBezTo>
              </a:path>
              <a:path w="4987" h="1167">
                <a:moveTo>
                  <a:pt x="5184" y="5606"/>
                </a:moveTo>
                <a:cubicBezTo>
                  <a:pt x="5249" y="5657"/>
                  <a:pt x="5318" y="5702"/>
                  <a:pt x="5383" y="5755"/>
                </a:cubicBezTo>
                <a:cubicBezTo>
                  <a:pt x="5423" y="5788"/>
                  <a:pt x="5479" y="5818"/>
                  <a:pt x="5531" y="5829"/>
                </a:cubicBezTo>
                <a:cubicBezTo>
                  <a:pt x="5570" y="5837"/>
                  <a:pt x="5689" y="5815"/>
                  <a:pt x="5730" y="5804"/>
                </a:cubicBezTo>
                <a:cubicBezTo>
                  <a:pt x="5800" y="5784"/>
                  <a:pt x="5884" y="5777"/>
                  <a:pt x="5953" y="5755"/>
                </a:cubicBezTo>
                <a:cubicBezTo>
                  <a:pt x="6024" y="5733"/>
                  <a:pt x="6121" y="5702"/>
                  <a:pt x="6176" y="5655"/>
                </a:cubicBezTo>
                <a:cubicBezTo>
                  <a:pt x="6237" y="5602"/>
                  <a:pt x="6310" y="5569"/>
                  <a:pt x="6350" y="5507"/>
                </a:cubicBezTo>
                <a:cubicBezTo>
                  <a:pt x="6388" y="5448"/>
                  <a:pt x="6397" y="5376"/>
                  <a:pt x="6400" y="5308"/>
                </a:cubicBezTo>
                <a:cubicBezTo>
                  <a:pt x="6404" y="5232"/>
                  <a:pt x="6387" y="5179"/>
                  <a:pt x="6375" y="5110"/>
                </a:cubicBezTo>
                <a:cubicBezTo>
                  <a:pt x="6358" y="5010"/>
                  <a:pt x="6330" y="4997"/>
                  <a:pt x="6251" y="4936"/>
                </a:cubicBezTo>
                <a:cubicBezTo>
                  <a:pt x="6195" y="4893"/>
                  <a:pt x="6149" y="4865"/>
                  <a:pt x="6077" y="4862"/>
                </a:cubicBezTo>
                <a:cubicBezTo>
                  <a:pt x="5973" y="4857"/>
                  <a:pt x="5849" y="4846"/>
                  <a:pt x="5755" y="4887"/>
                </a:cubicBezTo>
                <a:cubicBezTo>
                  <a:pt x="5694" y="4913"/>
                  <a:pt x="5638" y="4960"/>
                  <a:pt x="5581" y="4986"/>
                </a:cubicBezTo>
                <a:cubicBezTo>
                  <a:pt x="5486" y="5029"/>
                  <a:pt x="5412" y="5086"/>
                  <a:pt x="5333" y="5159"/>
                </a:cubicBezTo>
                <a:cubicBezTo>
                  <a:pt x="5278" y="5209"/>
                  <a:pt x="5243" y="5268"/>
                  <a:pt x="5209" y="5333"/>
                </a:cubicBezTo>
                <a:cubicBezTo>
                  <a:pt x="5168" y="5410"/>
                  <a:pt x="5143" y="5524"/>
                  <a:pt x="5184" y="5606"/>
                </a:cubicBezTo>
                <a:cubicBezTo>
                  <a:pt x="5217" y="5671"/>
                  <a:pt x="5278" y="5714"/>
                  <a:pt x="5333" y="5755"/>
                </a:cubicBezTo>
                <a:cubicBezTo>
                  <a:pt x="5341" y="5763"/>
                  <a:pt x="5350" y="5771"/>
                  <a:pt x="5358" y="5779"/>
                </a:cubicBezTo>
              </a:path>
              <a:path w="4987" h="1167">
                <a:moveTo>
                  <a:pt x="6449" y="5234"/>
                </a:moveTo>
                <a:cubicBezTo>
                  <a:pt x="6532" y="5146"/>
                  <a:pt x="6580" y="5090"/>
                  <a:pt x="6697" y="5035"/>
                </a:cubicBezTo>
                <a:cubicBezTo>
                  <a:pt x="6792" y="4990"/>
                  <a:pt x="6897" y="4948"/>
                  <a:pt x="6995" y="4911"/>
                </a:cubicBezTo>
                <a:cubicBezTo>
                  <a:pt x="7085" y="4877"/>
                  <a:pt x="7179" y="4861"/>
                  <a:pt x="7268" y="4837"/>
                </a:cubicBezTo>
                <a:cubicBezTo>
                  <a:pt x="7369" y="4809"/>
                  <a:pt x="7466" y="4791"/>
                  <a:pt x="7565" y="4762"/>
                </a:cubicBezTo>
                <a:cubicBezTo>
                  <a:pt x="7622" y="4745"/>
                  <a:pt x="7714" y="4718"/>
                  <a:pt x="7764" y="4713"/>
                </a:cubicBezTo>
                <a:cubicBezTo>
                  <a:pt x="7870" y="4702"/>
                  <a:pt x="7981" y="4692"/>
                  <a:pt x="8086" y="4688"/>
                </a:cubicBezTo>
                <a:cubicBezTo>
                  <a:pt x="8159" y="4685"/>
                  <a:pt x="8211" y="4666"/>
                  <a:pt x="8285" y="4663"/>
                </a:cubicBezTo>
                <a:cubicBezTo>
                  <a:pt x="8414" y="4658"/>
                  <a:pt x="8533" y="4674"/>
                  <a:pt x="8657" y="4688"/>
                </a:cubicBezTo>
                <a:cubicBezTo>
                  <a:pt x="8751" y="4699"/>
                  <a:pt x="8861" y="4695"/>
                  <a:pt x="8954" y="4713"/>
                </a:cubicBezTo>
                <a:cubicBezTo>
                  <a:pt x="9052" y="4731"/>
                  <a:pt x="9156" y="4766"/>
                  <a:pt x="9252" y="4787"/>
                </a:cubicBezTo>
                <a:cubicBezTo>
                  <a:pt x="9337" y="4806"/>
                  <a:pt x="9430" y="4825"/>
                  <a:pt x="9500" y="4862"/>
                </a:cubicBezTo>
                <a:cubicBezTo>
                  <a:pt x="9583" y="4906"/>
                  <a:pt x="9653" y="4945"/>
                  <a:pt x="9723" y="5011"/>
                </a:cubicBezTo>
                <a:cubicBezTo>
                  <a:pt x="9776" y="5062"/>
                  <a:pt x="9824" y="5111"/>
                  <a:pt x="9872" y="5159"/>
                </a:cubicBezTo>
                <a:cubicBezTo>
                  <a:pt x="9914" y="5201"/>
                  <a:pt x="9975" y="5253"/>
                  <a:pt x="9996" y="5308"/>
                </a:cubicBezTo>
                <a:cubicBezTo>
                  <a:pt x="9996" y="5325"/>
                  <a:pt x="9996" y="5341"/>
                  <a:pt x="9996" y="5358"/>
                </a:cubicBezTo>
              </a:path>
              <a:path w="4987" h="1167">
                <a:moveTo>
                  <a:pt x="9723" y="5184"/>
                </a:moveTo>
                <a:cubicBezTo>
                  <a:pt x="9827" y="5281"/>
                  <a:pt x="9895" y="5327"/>
                  <a:pt x="10021" y="5383"/>
                </a:cubicBezTo>
                <a:cubicBezTo>
                  <a:pt x="10066" y="5280"/>
                  <a:pt x="10079" y="5157"/>
                  <a:pt x="10120" y="5060"/>
                </a:cubicBezTo>
                <a:cubicBezTo>
                  <a:pt x="10128" y="5052"/>
                  <a:pt x="10137" y="5043"/>
                  <a:pt x="10145" y="50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17960" y="1724040"/>
            <a:ext cx="1224000" cy="633240"/>
          </a:xfrm>
          <a:custGeom>
            <a:avLst/>
            <a:gdLst/>
            <a:ahLst/>
            <a:rect l="l" t="t" r="r" b="b"/>
            <a:pathLst>
              <a:path w="3399" h="1762">
                <a:moveTo>
                  <a:pt x="11187" y="6548"/>
                </a:moveTo>
                <a:cubicBezTo>
                  <a:pt x="11197" y="6542"/>
                  <a:pt x="11338" y="6482"/>
                  <a:pt x="11435" y="6474"/>
                </a:cubicBezTo>
                <a:cubicBezTo>
                  <a:pt x="11551" y="6464"/>
                  <a:pt x="11668" y="6453"/>
                  <a:pt x="11782" y="6449"/>
                </a:cubicBezTo>
                <a:cubicBezTo>
                  <a:pt x="11896" y="6445"/>
                  <a:pt x="11994" y="6428"/>
                  <a:pt x="12105" y="6424"/>
                </a:cubicBezTo>
                <a:cubicBezTo>
                  <a:pt x="12338" y="6416"/>
                  <a:pt x="12572" y="6427"/>
                  <a:pt x="12799" y="6449"/>
                </a:cubicBezTo>
                <a:cubicBezTo>
                  <a:pt x="12915" y="6460"/>
                  <a:pt x="13033" y="6462"/>
                  <a:pt x="13146" y="6474"/>
                </a:cubicBezTo>
                <a:cubicBezTo>
                  <a:pt x="13482" y="6510"/>
                  <a:pt x="13857" y="6479"/>
                  <a:pt x="14188" y="6449"/>
                </a:cubicBezTo>
                <a:cubicBezTo>
                  <a:pt x="14310" y="6438"/>
                  <a:pt x="14438" y="6449"/>
                  <a:pt x="14560" y="6449"/>
                </a:cubicBezTo>
              </a:path>
              <a:path w="3399" h="1762">
                <a:moveTo>
                  <a:pt x="12650" y="5358"/>
                </a:moveTo>
                <a:cubicBezTo>
                  <a:pt x="12634" y="5271"/>
                  <a:pt x="12599" y="5169"/>
                  <a:pt x="12477" y="5184"/>
                </a:cubicBezTo>
                <a:cubicBezTo>
                  <a:pt x="12331" y="5202"/>
                  <a:pt x="12239" y="5321"/>
                  <a:pt x="12204" y="5457"/>
                </a:cubicBezTo>
                <a:cubicBezTo>
                  <a:pt x="12167" y="5598"/>
                  <a:pt x="12320" y="5630"/>
                  <a:pt x="12427" y="5606"/>
                </a:cubicBezTo>
                <a:cubicBezTo>
                  <a:pt x="12576" y="5573"/>
                  <a:pt x="12605" y="5500"/>
                  <a:pt x="12675" y="5383"/>
                </a:cubicBezTo>
              </a:path>
              <a:path w="3399" h="1762">
                <a:moveTo>
                  <a:pt x="12526" y="4787"/>
                </a:moveTo>
                <a:cubicBezTo>
                  <a:pt x="12611" y="4920"/>
                  <a:pt x="12603" y="5030"/>
                  <a:pt x="12626" y="5184"/>
                </a:cubicBezTo>
                <a:cubicBezTo>
                  <a:pt x="12642" y="5294"/>
                  <a:pt x="12652" y="5403"/>
                  <a:pt x="12675" y="5507"/>
                </a:cubicBezTo>
                <a:cubicBezTo>
                  <a:pt x="12693" y="5590"/>
                  <a:pt x="12816" y="5558"/>
                  <a:pt x="12874" y="5531"/>
                </a:cubicBezTo>
                <a:cubicBezTo>
                  <a:pt x="12915" y="5512"/>
                  <a:pt x="12949" y="5490"/>
                  <a:pt x="12998" y="54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96000" y="1928880"/>
            <a:ext cx="1892160" cy="652320"/>
          </a:xfrm>
          <a:custGeom>
            <a:avLst/>
            <a:gdLst/>
            <a:ahLst/>
            <a:rect l="l" t="t" r="r" b="b"/>
            <a:pathLst>
              <a:path w="5260" h="1812">
                <a:moveTo>
                  <a:pt x="16173" y="5581"/>
                </a:moveTo>
                <a:cubicBezTo>
                  <a:pt x="16208" y="5780"/>
                  <a:pt x="16247" y="5980"/>
                  <a:pt x="16222" y="6176"/>
                </a:cubicBezTo>
              </a:path>
              <a:path w="5260" h="1812">
                <a:moveTo>
                  <a:pt x="16098" y="5358"/>
                </a:moveTo>
                <a:lnTo>
                  <a:pt x="16098" y="5358"/>
                </a:lnTo>
              </a:path>
              <a:path w="5260" h="1812">
                <a:moveTo>
                  <a:pt x="16793" y="5680"/>
                </a:moveTo>
                <a:cubicBezTo>
                  <a:pt x="16631" y="5630"/>
                  <a:pt x="16595" y="5630"/>
                  <a:pt x="16495" y="5779"/>
                </a:cubicBezTo>
                <a:cubicBezTo>
                  <a:pt x="16642" y="5835"/>
                  <a:pt x="16791" y="5878"/>
                  <a:pt x="16942" y="5928"/>
                </a:cubicBezTo>
                <a:cubicBezTo>
                  <a:pt x="16941" y="6079"/>
                  <a:pt x="16852" y="6262"/>
                  <a:pt x="16644" y="6152"/>
                </a:cubicBezTo>
                <a:cubicBezTo>
                  <a:pt x="16611" y="6119"/>
                  <a:pt x="16578" y="6085"/>
                  <a:pt x="16545" y="6052"/>
                </a:cubicBezTo>
              </a:path>
              <a:path w="5260" h="1812">
                <a:moveTo>
                  <a:pt x="17835" y="5680"/>
                </a:moveTo>
                <a:cubicBezTo>
                  <a:pt x="17841" y="5821"/>
                  <a:pt x="17853" y="5961"/>
                  <a:pt x="17859" y="6102"/>
                </a:cubicBezTo>
                <a:cubicBezTo>
                  <a:pt x="17849" y="5973"/>
                  <a:pt x="17817" y="5544"/>
                  <a:pt x="18107" y="5655"/>
                </a:cubicBezTo>
                <a:cubicBezTo>
                  <a:pt x="18241" y="5706"/>
                  <a:pt x="18290" y="5888"/>
                  <a:pt x="18331" y="6003"/>
                </a:cubicBezTo>
                <a:cubicBezTo>
                  <a:pt x="18339" y="5934"/>
                  <a:pt x="18428" y="5397"/>
                  <a:pt x="18579" y="5730"/>
                </a:cubicBezTo>
                <a:cubicBezTo>
                  <a:pt x="18622" y="5927"/>
                  <a:pt x="18639" y="5975"/>
                  <a:pt x="18628" y="6102"/>
                </a:cubicBezTo>
              </a:path>
              <a:path w="5260" h="1812">
                <a:moveTo>
                  <a:pt x="18852" y="5755"/>
                </a:moveTo>
                <a:cubicBezTo>
                  <a:pt x="18957" y="5799"/>
                  <a:pt x="19012" y="5758"/>
                  <a:pt x="19124" y="5730"/>
                </a:cubicBezTo>
                <a:cubicBezTo>
                  <a:pt x="19071" y="5631"/>
                  <a:pt x="18989" y="5526"/>
                  <a:pt x="18926" y="5680"/>
                </a:cubicBezTo>
                <a:cubicBezTo>
                  <a:pt x="18861" y="5837"/>
                  <a:pt x="18866" y="5887"/>
                  <a:pt x="18926" y="6028"/>
                </a:cubicBezTo>
              </a:path>
              <a:path w="5260" h="1812">
                <a:moveTo>
                  <a:pt x="19596" y="5730"/>
                </a:moveTo>
                <a:cubicBezTo>
                  <a:pt x="19612" y="5746"/>
                  <a:pt x="19629" y="5763"/>
                  <a:pt x="19645" y="5779"/>
                </a:cubicBezTo>
                <a:cubicBezTo>
                  <a:pt x="19615" y="5638"/>
                  <a:pt x="19480" y="5519"/>
                  <a:pt x="19372" y="5755"/>
                </a:cubicBezTo>
                <a:cubicBezTo>
                  <a:pt x="19253" y="6014"/>
                  <a:pt x="19449" y="6095"/>
                  <a:pt x="19596" y="5879"/>
                </a:cubicBezTo>
                <a:cubicBezTo>
                  <a:pt x="19604" y="5854"/>
                  <a:pt x="19613" y="5829"/>
                  <a:pt x="19621" y="5804"/>
                </a:cubicBezTo>
                <a:cubicBezTo>
                  <a:pt x="19645" y="5953"/>
                  <a:pt x="19687" y="6020"/>
                  <a:pt x="19819" y="5904"/>
                </a:cubicBezTo>
                <a:cubicBezTo>
                  <a:pt x="19998" y="5747"/>
                  <a:pt x="19918" y="5849"/>
                  <a:pt x="19918" y="6003"/>
                </a:cubicBezTo>
                <a:cubicBezTo>
                  <a:pt x="19930" y="5821"/>
                  <a:pt x="19956" y="5722"/>
                  <a:pt x="20067" y="5581"/>
                </a:cubicBezTo>
                <a:cubicBezTo>
                  <a:pt x="20248" y="5683"/>
                  <a:pt x="20294" y="5763"/>
                  <a:pt x="20265" y="5978"/>
                </a:cubicBezTo>
              </a:path>
              <a:path w="5260" h="1812">
                <a:moveTo>
                  <a:pt x="20737" y="5457"/>
                </a:moveTo>
                <a:cubicBezTo>
                  <a:pt x="20616" y="5489"/>
                  <a:pt x="20560" y="5504"/>
                  <a:pt x="20464" y="5581"/>
                </a:cubicBezTo>
                <a:cubicBezTo>
                  <a:pt x="20598" y="5671"/>
                  <a:pt x="20741" y="5688"/>
                  <a:pt x="20836" y="5804"/>
                </a:cubicBezTo>
                <a:cubicBezTo>
                  <a:pt x="20757" y="5911"/>
                  <a:pt x="20723" y="5946"/>
                  <a:pt x="20613" y="5928"/>
                </a:cubicBezTo>
              </a:path>
              <a:path w="5260" h="1812">
                <a:moveTo>
                  <a:pt x="18579" y="6573"/>
                </a:moveTo>
                <a:cubicBezTo>
                  <a:pt x="18697" y="6573"/>
                  <a:pt x="18824" y="6560"/>
                  <a:pt x="18926" y="6598"/>
                </a:cubicBezTo>
                <a:cubicBezTo>
                  <a:pt x="18865" y="6485"/>
                  <a:pt x="18751" y="6297"/>
                  <a:pt x="18628" y="6474"/>
                </a:cubicBezTo>
                <a:cubicBezTo>
                  <a:pt x="18429" y="6761"/>
                  <a:pt x="18752" y="6766"/>
                  <a:pt x="18926" y="6747"/>
                </a:cubicBezTo>
              </a:path>
              <a:path w="5260" h="1812">
                <a:moveTo>
                  <a:pt x="19546" y="6499"/>
                </a:moveTo>
                <a:cubicBezTo>
                  <a:pt x="19560" y="6347"/>
                  <a:pt x="19418" y="6311"/>
                  <a:pt x="19298" y="6449"/>
                </a:cubicBezTo>
                <a:cubicBezTo>
                  <a:pt x="19237" y="6572"/>
                  <a:pt x="19203" y="6593"/>
                  <a:pt x="19248" y="6672"/>
                </a:cubicBezTo>
                <a:cubicBezTo>
                  <a:pt x="19371" y="6651"/>
                  <a:pt x="19421" y="6631"/>
                  <a:pt x="19521" y="6548"/>
                </a:cubicBezTo>
                <a:cubicBezTo>
                  <a:pt x="19477" y="6715"/>
                  <a:pt x="19438" y="6896"/>
                  <a:pt x="19422" y="7069"/>
                </a:cubicBezTo>
                <a:cubicBezTo>
                  <a:pt x="19422" y="7102"/>
                  <a:pt x="19422" y="7136"/>
                  <a:pt x="19422" y="7169"/>
                </a:cubicBezTo>
                <a:cubicBezTo>
                  <a:pt x="19606" y="7125"/>
                  <a:pt x="19915" y="6966"/>
                  <a:pt x="19695" y="6722"/>
                </a:cubicBezTo>
                <a:cubicBezTo>
                  <a:pt x="19549" y="6649"/>
                  <a:pt x="19502" y="6626"/>
                  <a:pt x="19397" y="6598"/>
                </a:cubicBezTo>
              </a:path>
              <a:path w="5260" h="1812">
                <a:moveTo>
                  <a:pt x="19769" y="6375"/>
                </a:moveTo>
                <a:cubicBezTo>
                  <a:pt x="19769" y="6459"/>
                  <a:pt x="19732" y="6715"/>
                  <a:pt x="19893" y="6697"/>
                </a:cubicBezTo>
                <a:cubicBezTo>
                  <a:pt x="20003" y="6685"/>
                  <a:pt x="20052" y="6529"/>
                  <a:pt x="20092" y="6449"/>
                </a:cubicBezTo>
                <a:cubicBezTo>
                  <a:pt x="20103" y="6574"/>
                  <a:pt x="20122" y="6600"/>
                  <a:pt x="20191" y="6697"/>
                </a:cubicBezTo>
              </a:path>
              <a:path w="5260" h="1812">
                <a:moveTo>
                  <a:pt x="20687" y="6424"/>
                </a:moveTo>
                <a:cubicBezTo>
                  <a:pt x="20549" y="6374"/>
                  <a:pt x="20480" y="6439"/>
                  <a:pt x="20414" y="6573"/>
                </a:cubicBezTo>
                <a:cubicBezTo>
                  <a:pt x="20406" y="6606"/>
                  <a:pt x="20397" y="6639"/>
                  <a:pt x="20389" y="6672"/>
                </a:cubicBezTo>
                <a:cubicBezTo>
                  <a:pt x="20541" y="6659"/>
                  <a:pt x="20542" y="6640"/>
                  <a:pt x="20662" y="6548"/>
                </a:cubicBezTo>
                <a:cubicBezTo>
                  <a:pt x="20724" y="6491"/>
                  <a:pt x="20661" y="6778"/>
                  <a:pt x="20861" y="6648"/>
                </a:cubicBezTo>
                <a:cubicBezTo>
                  <a:pt x="21063" y="6517"/>
                  <a:pt x="21102" y="6314"/>
                  <a:pt x="21059" y="6102"/>
                </a:cubicBezTo>
                <a:cubicBezTo>
                  <a:pt x="21036" y="6254"/>
                  <a:pt x="20987" y="6528"/>
                  <a:pt x="21134" y="6648"/>
                </a:cubicBezTo>
                <a:cubicBezTo>
                  <a:pt x="21240" y="6674"/>
                  <a:pt x="21281" y="6682"/>
                  <a:pt x="21357" y="66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946240" y="2295360"/>
            <a:ext cx="1144800" cy="490680"/>
          </a:xfrm>
          <a:custGeom>
            <a:avLst/>
            <a:gdLst/>
            <a:ahLst/>
            <a:rect l="l" t="t" r="r" b="b"/>
            <a:pathLst>
              <a:path w="3176" h="1365">
                <a:moveTo>
                  <a:pt x="8880" y="6722"/>
                </a:moveTo>
                <a:cubicBezTo>
                  <a:pt x="8776" y="6826"/>
                  <a:pt x="8799" y="6926"/>
                  <a:pt x="8806" y="7069"/>
                </a:cubicBezTo>
                <a:cubicBezTo>
                  <a:pt x="8811" y="7172"/>
                  <a:pt x="8773" y="7289"/>
                  <a:pt x="8880" y="7342"/>
                </a:cubicBezTo>
                <a:cubicBezTo>
                  <a:pt x="8955" y="7379"/>
                  <a:pt x="9073" y="7310"/>
                  <a:pt x="9128" y="7268"/>
                </a:cubicBezTo>
                <a:cubicBezTo>
                  <a:pt x="9187" y="7223"/>
                  <a:pt x="9194" y="7159"/>
                  <a:pt x="9203" y="7094"/>
                </a:cubicBezTo>
                <a:cubicBezTo>
                  <a:pt x="9160" y="7073"/>
                  <a:pt x="9066" y="7002"/>
                  <a:pt x="9029" y="7069"/>
                </a:cubicBezTo>
                <a:cubicBezTo>
                  <a:pt x="8990" y="7139"/>
                  <a:pt x="8985" y="7217"/>
                  <a:pt x="8979" y="7293"/>
                </a:cubicBezTo>
              </a:path>
              <a:path w="3176" h="1365">
                <a:moveTo>
                  <a:pt x="9723" y="6846"/>
                </a:moveTo>
                <a:cubicBezTo>
                  <a:pt x="9734" y="6878"/>
                  <a:pt x="9730" y="7101"/>
                  <a:pt x="9723" y="7218"/>
                </a:cubicBezTo>
              </a:path>
              <a:path w="3176" h="1365">
                <a:moveTo>
                  <a:pt x="9599" y="7045"/>
                </a:moveTo>
                <a:cubicBezTo>
                  <a:pt x="9707" y="7045"/>
                  <a:pt x="9814" y="7045"/>
                  <a:pt x="9922" y="7045"/>
                </a:cubicBezTo>
              </a:path>
              <a:path w="3176" h="1365">
                <a:moveTo>
                  <a:pt x="10443" y="7020"/>
                </a:moveTo>
                <a:cubicBezTo>
                  <a:pt x="10459" y="7020"/>
                  <a:pt x="10476" y="7020"/>
                  <a:pt x="10492" y="7020"/>
                </a:cubicBezTo>
                <a:cubicBezTo>
                  <a:pt x="10476" y="6961"/>
                  <a:pt x="10408" y="6883"/>
                  <a:pt x="10319" y="6921"/>
                </a:cubicBezTo>
                <a:cubicBezTo>
                  <a:pt x="10249" y="6951"/>
                  <a:pt x="10120" y="7137"/>
                  <a:pt x="10120" y="7218"/>
                </a:cubicBezTo>
                <a:cubicBezTo>
                  <a:pt x="10120" y="7380"/>
                  <a:pt x="10334" y="7291"/>
                  <a:pt x="10393" y="7243"/>
                </a:cubicBezTo>
                <a:cubicBezTo>
                  <a:pt x="10467" y="7170"/>
                  <a:pt x="10492" y="7147"/>
                  <a:pt x="10468" y="7069"/>
                </a:cubicBezTo>
              </a:path>
              <a:path w="3176" h="1365">
                <a:moveTo>
                  <a:pt x="10418" y="6722"/>
                </a:moveTo>
                <a:cubicBezTo>
                  <a:pt x="10427" y="6840"/>
                  <a:pt x="10443" y="6949"/>
                  <a:pt x="10443" y="7069"/>
                </a:cubicBezTo>
                <a:cubicBezTo>
                  <a:pt x="10443" y="7163"/>
                  <a:pt x="10469" y="7253"/>
                  <a:pt x="10567" y="7293"/>
                </a:cubicBezTo>
                <a:cubicBezTo>
                  <a:pt x="10613" y="7312"/>
                  <a:pt x="10691" y="7274"/>
                  <a:pt x="10740" y="7268"/>
                </a:cubicBezTo>
              </a:path>
              <a:path w="3176" h="1365">
                <a:moveTo>
                  <a:pt x="8781" y="7739"/>
                </a:moveTo>
                <a:cubicBezTo>
                  <a:pt x="8971" y="7713"/>
                  <a:pt x="9159" y="7704"/>
                  <a:pt x="9351" y="7689"/>
                </a:cubicBezTo>
                <a:cubicBezTo>
                  <a:pt x="9709" y="7662"/>
                  <a:pt x="10067" y="7613"/>
                  <a:pt x="10418" y="7541"/>
                </a:cubicBezTo>
                <a:cubicBezTo>
                  <a:pt x="10605" y="7503"/>
                  <a:pt x="10867" y="7491"/>
                  <a:pt x="11038" y="7392"/>
                </a:cubicBezTo>
                <a:cubicBezTo>
                  <a:pt x="11154" y="7325"/>
                  <a:pt x="11282" y="7220"/>
                  <a:pt x="11336" y="7094"/>
                </a:cubicBezTo>
                <a:cubicBezTo>
                  <a:pt x="11429" y="6875"/>
                  <a:pt x="11310" y="6623"/>
                  <a:pt x="11112" y="6524"/>
                </a:cubicBezTo>
                <a:cubicBezTo>
                  <a:pt x="10955" y="6446"/>
                  <a:pt x="10741" y="6411"/>
                  <a:pt x="10567" y="6400"/>
                </a:cubicBezTo>
                <a:cubicBezTo>
                  <a:pt x="10343" y="6386"/>
                  <a:pt x="10122" y="6375"/>
                  <a:pt x="9897" y="6375"/>
                </a:cubicBezTo>
                <a:cubicBezTo>
                  <a:pt x="9671" y="6375"/>
                  <a:pt x="9450" y="6368"/>
                  <a:pt x="9227" y="6400"/>
                </a:cubicBezTo>
                <a:cubicBezTo>
                  <a:pt x="9036" y="6427"/>
                  <a:pt x="8864" y="6454"/>
                  <a:pt x="8706" y="6573"/>
                </a:cubicBezTo>
                <a:cubicBezTo>
                  <a:pt x="8591" y="6659"/>
                  <a:pt x="8486" y="6769"/>
                  <a:pt x="8384" y="6871"/>
                </a:cubicBezTo>
                <a:cubicBezTo>
                  <a:pt x="8293" y="6962"/>
                  <a:pt x="8183" y="7104"/>
                  <a:pt x="8186" y="7243"/>
                </a:cubicBezTo>
                <a:cubicBezTo>
                  <a:pt x="8188" y="7345"/>
                  <a:pt x="8230" y="7403"/>
                  <a:pt x="8310" y="7466"/>
                </a:cubicBezTo>
                <a:cubicBezTo>
                  <a:pt x="8402" y="7538"/>
                  <a:pt x="8541" y="7579"/>
                  <a:pt x="8657" y="7590"/>
                </a:cubicBezTo>
                <a:cubicBezTo>
                  <a:pt x="8801" y="7603"/>
                  <a:pt x="8917" y="7576"/>
                  <a:pt x="9054" y="7541"/>
                </a:cubicBezTo>
                <a:cubicBezTo>
                  <a:pt x="9145" y="7518"/>
                  <a:pt x="9262" y="7499"/>
                  <a:pt x="9351" y="7491"/>
                </a:cubicBezTo>
                <a:cubicBezTo>
                  <a:pt x="9393" y="7491"/>
                  <a:pt x="9401" y="7491"/>
                  <a:pt x="9426" y="74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0040" y="2894040"/>
            <a:ext cx="142920" cy="17280"/>
          </a:xfrm>
          <a:custGeom>
            <a:avLst/>
            <a:gdLst/>
            <a:ahLst/>
            <a:rect l="l" t="t" r="r" b="b"/>
            <a:pathLst>
              <a:path w="398" h="50">
                <a:moveTo>
                  <a:pt x="7888" y="8037"/>
                </a:moveTo>
                <a:cubicBezTo>
                  <a:pt x="8007" y="8105"/>
                  <a:pt x="8080" y="8074"/>
                  <a:pt x="8210" y="8062"/>
                </a:cubicBezTo>
                <a:cubicBezTo>
                  <a:pt x="8235" y="8062"/>
                  <a:pt x="8260" y="8062"/>
                  <a:pt x="8285" y="80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89200" y="2776680"/>
            <a:ext cx="135000" cy="179280"/>
          </a:xfrm>
          <a:custGeom>
            <a:avLst/>
            <a:gdLst/>
            <a:ahLst/>
            <a:rect l="l" t="t" r="r" b="b"/>
            <a:pathLst>
              <a:path w="374" h="497">
                <a:moveTo>
                  <a:pt x="10319" y="7739"/>
                </a:moveTo>
                <a:cubicBezTo>
                  <a:pt x="10319" y="7669"/>
                  <a:pt x="10100" y="7744"/>
                  <a:pt x="10021" y="7789"/>
                </a:cubicBezTo>
                <a:cubicBezTo>
                  <a:pt x="9982" y="7827"/>
                  <a:pt x="9965" y="7829"/>
                  <a:pt x="9971" y="7863"/>
                </a:cubicBezTo>
                <a:cubicBezTo>
                  <a:pt x="10097" y="7973"/>
                  <a:pt x="10230" y="8030"/>
                  <a:pt x="10269" y="8186"/>
                </a:cubicBezTo>
                <a:cubicBezTo>
                  <a:pt x="10146" y="8222"/>
                  <a:pt x="10032" y="8210"/>
                  <a:pt x="10071" y="8037"/>
                </a:cubicBezTo>
                <a:cubicBezTo>
                  <a:pt x="10098" y="7917"/>
                  <a:pt x="10205" y="7857"/>
                  <a:pt x="10294" y="77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76200" y="2786040"/>
            <a:ext cx="2108520" cy="1089000"/>
          </a:xfrm>
          <a:custGeom>
            <a:avLst/>
            <a:gdLst/>
            <a:ahLst/>
            <a:rect l="l" t="t" r="r" b="b"/>
            <a:pathLst>
              <a:path w="5855" h="3027">
                <a:moveTo>
                  <a:pt x="3547" y="9103"/>
                </a:moveTo>
                <a:cubicBezTo>
                  <a:pt x="3978" y="9103"/>
                  <a:pt x="4410" y="9109"/>
                  <a:pt x="4837" y="9079"/>
                </a:cubicBezTo>
                <a:cubicBezTo>
                  <a:pt x="4956" y="9071"/>
                  <a:pt x="5065" y="9103"/>
                  <a:pt x="5184" y="9103"/>
                </a:cubicBezTo>
                <a:cubicBezTo>
                  <a:pt x="5500" y="9103"/>
                  <a:pt x="5815" y="9106"/>
                  <a:pt x="6127" y="9128"/>
                </a:cubicBezTo>
                <a:cubicBezTo>
                  <a:pt x="6374" y="9146"/>
                  <a:pt x="6630" y="9130"/>
                  <a:pt x="6871" y="9103"/>
                </a:cubicBezTo>
                <a:cubicBezTo>
                  <a:pt x="6929" y="9103"/>
                  <a:pt x="6937" y="9103"/>
                  <a:pt x="6970" y="9103"/>
                </a:cubicBezTo>
              </a:path>
              <a:path w="5855" h="3027">
                <a:moveTo>
                  <a:pt x="4862" y="7987"/>
                </a:moveTo>
                <a:cubicBezTo>
                  <a:pt x="4875" y="8118"/>
                  <a:pt x="4898" y="8228"/>
                  <a:pt x="4911" y="8359"/>
                </a:cubicBezTo>
                <a:cubicBezTo>
                  <a:pt x="4919" y="8367"/>
                  <a:pt x="4814" y="8093"/>
                  <a:pt x="4837" y="7913"/>
                </a:cubicBezTo>
                <a:cubicBezTo>
                  <a:pt x="4862" y="7812"/>
                  <a:pt x="4871" y="7779"/>
                  <a:pt x="4936" y="7739"/>
                </a:cubicBezTo>
                <a:cubicBezTo>
                  <a:pt x="5057" y="7759"/>
                  <a:pt x="5250" y="7798"/>
                  <a:pt x="5135" y="7962"/>
                </a:cubicBezTo>
                <a:cubicBezTo>
                  <a:pt x="5059" y="8070"/>
                  <a:pt x="4978" y="8037"/>
                  <a:pt x="4862" y="8037"/>
                </a:cubicBezTo>
              </a:path>
              <a:path w="5855" h="3027">
                <a:moveTo>
                  <a:pt x="7045" y="9500"/>
                </a:moveTo>
                <a:cubicBezTo>
                  <a:pt x="7023" y="9721"/>
                  <a:pt x="7083" y="9922"/>
                  <a:pt x="7094" y="10145"/>
                </a:cubicBezTo>
                <a:cubicBezTo>
                  <a:pt x="7094" y="10212"/>
                  <a:pt x="7094" y="10245"/>
                  <a:pt x="7094" y="10170"/>
                </a:cubicBezTo>
              </a:path>
              <a:path w="5855" h="3027">
                <a:moveTo>
                  <a:pt x="6921" y="9550"/>
                </a:moveTo>
                <a:cubicBezTo>
                  <a:pt x="7030" y="9397"/>
                  <a:pt x="7196" y="9372"/>
                  <a:pt x="7367" y="9500"/>
                </a:cubicBezTo>
                <a:cubicBezTo>
                  <a:pt x="7543" y="9632"/>
                  <a:pt x="7290" y="9789"/>
                  <a:pt x="7169" y="9798"/>
                </a:cubicBezTo>
                <a:cubicBezTo>
                  <a:pt x="7084" y="9777"/>
                  <a:pt x="7058" y="9783"/>
                  <a:pt x="7045" y="9723"/>
                </a:cubicBezTo>
              </a:path>
              <a:path w="5855" h="3027">
                <a:moveTo>
                  <a:pt x="7665" y="9500"/>
                </a:moveTo>
                <a:cubicBezTo>
                  <a:pt x="7749" y="9491"/>
                  <a:pt x="7828" y="9480"/>
                  <a:pt x="7913" y="9475"/>
                </a:cubicBezTo>
              </a:path>
              <a:path w="5855" h="3027">
                <a:moveTo>
                  <a:pt x="8806" y="9401"/>
                </a:moveTo>
                <a:cubicBezTo>
                  <a:pt x="8672" y="9268"/>
                  <a:pt x="8574" y="9291"/>
                  <a:pt x="8409" y="9401"/>
                </a:cubicBezTo>
                <a:cubicBezTo>
                  <a:pt x="8243" y="9512"/>
                  <a:pt x="8457" y="9606"/>
                  <a:pt x="8533" y="9649"/>
                </a:cubicBezTo>
                <a:cubicBezTo>
                  <a:pt x="8646" y="9716"/>
                  <a:pt x="8678" y="9732"/>
                  <a:pt x="8731" y="9798"/>
                </a:cubicBezTo>
                <a:cubicBezTo>
                  <a:pt x="8674" y="9864"/>
                  <a:pt x="8491" y="9959"/>
                  <a:pt x="8458" y="9798"/>
                </a:cubicBezTo>
                <a:cubicBezTo>
                  <a:pt x="8438" y="9702"/>
                  <a:pt x="8590" y="9535"/>
                  <a:pt x="8632" y="9451"/>
                </a:cubicBezTo>
              </a:path>
              <a:path w="5855" h="3027">
                <a:moveTo>
                  <a:pt x="7293" y="10344"/>
                </a:moveTo>
                <a:cubicBezTo>
                  <a:pt x="7532" y="10290"/>
                  <a:pt x="7770" y="10279"/>
                  <a:pt x="8012" y="10244"/>
                </a:cubicBezTo>
                <a:cubicBezTo>
                  <a:pt x="8332" y="10198"/>
                  <a:pt x="8680" y="10146"/>
                  <a:pt x="8979" y="10021"/>
                </a:cubicBezTo>
                <a:cubicBezTo>
                  <a:pt x="9199" y="9929"/>
                  <a:pt x="9352" y="9818"/>
                  <a:pt x="9401" y="9575"/>
                </a:cubicBezTo>
                <a:cubicBezTo>
                  <a:pt x="9425" y="9455"/>
                  <a:pt x="9302" y="9288"/>
                  <a:pt x="9203" y="9227"/>
                </a:cubicBezTo>
                <a:cubicBezTo>
                  <a:pt x="9039" y="9125"/>
                  <a:pt x="8749" y="9071"/>
                  <a:pt x="8558" y="9054"/>
                </a:cubicBezTo>
                <a:cubicBezTo>
                  <a:pt x="8294" y="9030"/>
                  <a:pt x="8025" y="9064"/>
                  <a:pt x="7764" y="9079"/>
                </a:cubicBezTo>
                <a:cubicBezTo>
                  <a:pt x="7490" y="9095"/>
                  <a:pt x="7252" y="9181"/>
                  <a:pt x="6995" y="9277"/>
                </a:cubicBezTo>
                <a:cubicBezTo>
                  <a:pt x="6757" y="9366"/>
                  <a:pt x="6604" y="9468"/>
                  <a:pt x="6499" y="9699"/>
                </a:cubicBezTo>
                <a:cubicBezTo>
                  <a:pt x="6442" y="9825"/>
                  <a:pt x="6343" y="10005"/>
                  <a:pt x="6424" y="10145"/>
                </a:cubicBezTo>
                <a:cubicBezTo>
                  <a:pt x="6537" y="10340"/>
                  <a:pt x="6785" y="10334"/>
                  <a:pt x="6970" y="10319"/>
                </a:cubicBezTo>
                <a:cubicBezTo>
                  <a:pt x="7203" y="10300"/>
                  <a:pt x="7435" y="10257"/>
                  <a:pt x="7665" y="10220"/>
                </a:cubicBezTo>
              </a:path>
              <a:path w="5855" h="3027">
                <a:moveTo>
                  <a:pt x="6697" y="10740"/>
                </a:moveTo>
                <a:cubicBezTo>
                  <a:pt x="6830" y="10740"/>
                  <a:pt x="6912" y="10740"/>
                  <a:pt x="7045" y="10740"/>
                </a:cubicBezTo>
                <a:cubicBezTo>
                  <a:pt x="7149" y="10740"/>
                  <a:pt x="7240" y="10765"/>
                  <a:pt x="7342" y="107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51200" y="3660840"/>
            <a:ext cx="1187640" cy="571320"/>
          </a:xfrm>
          <a:custGeom>
            <a:avLst/>
            <a:gdLst/>
            <a:ahLst/>
            <a:rect l="l" t="t" r="r" b="b"/>
            <a:pathLst>
              <a:path w="3300" h="1588">
                <a:moveTo>
                  <a:pt x="10418" y="11658"/>
                </a:moveTo>
                <a:cubicBezTo>
                  <a:pt x="10494" y="11675"/>
                  <a:pt x="10630" y="11675"/>
                  <a:pt x="10716" y="11658"/>
                </a:cubicBezTo>
                <a:cubicBezTo>
                  <a:pt x="10786" y="11644"/>
                  <a:pt x="10865" y="11616"/>
                  <a:pt x="10939" y="11609"/>
                </a:cubicBezTo>
                <a:cubicBezTo>
                  <a:pt x="11032" y="11601"/>
                  <a:pt x="11118" y="11586"/>
                  <a:pt x="11212" y="11584"/>
                </a:cubicBezTo>
                <a:cubicBezTo>
                  <a:pt x="11431" y="11578"/>
                  <a:pt x="11645" y="11585"/>
                  <a:pt x="11857" y="11609"/>
                </a:cubicBezTo>
                <a:cubicBezTo>
                  <a:pt x="11932" y="11617"/>
                  <a:pt x="12007" y="11613"/>
                  <a:pt x="12080" y="11633"/>
                </a:cubicBezTo>
                <a:cubicBezTo>
                  <a:pt x="12181" y="11661"/>
                  <a:pt x="12274" y="11684"/>
                  <a:pt x="12378" y="11708"/>
                </a:cubicBezTo>
                <a:cubicBezTo>
                  <a:pt x="12515" y="11739"/>
                  <a:pt x="12659" y="11753"/>
                  <a:pt x="12799" y="11757"/>
                </a:cubicBezTo>
                <a:cubicBezTo>
                  <a:pt x="12968" y="11762"/>
                  <a:pt x="13132" y="11750"/>
                  <a:pt x="13295" y="11733"/>
                </a:cubicBezTo>
                <a:cubicBezTo>
                  <a:pt x="13398" y="11722"/>
                  <a:pt x="13519" y="11709"/>
                  <a:pt x="13618" y="11683"/>
                </a:cubicBezTo>
                <a:cubicBezTo>
                  <a:pt x="13659" y="11672"/>
                  <a:pt x="13678" y="11666"/>
                  <a:pt x="13717" y="11658"/>
                </a:cubicBezTo>
              </a:path>
              <a:path w="3300" h="1588">
                <a:moveTo>
                  <a:pt x="11584" y="10319"/>
                </a:moveTo>
                <a:cubicBezTo>
                  <a:pt x="11559" y="10453"/>
                  <a:pt x="11584" y="10618"/>
                  <a:pt x="11584" y="10765"/>
                </a:cubicBezTo>
                <a:cubicBezTo>
                  <a:pt x="11584" y="10773"/>
                  <a:pt x="11584" y="10782"/>
                  <a:pt x="11584" y="10790"/>
                </a:cubicBezTo>
                <a:cubicBezTo>
                  <a:pt x="11584" y="10658"/>
                  <a:pt x="11597" y="10585"/>
                  <a:pt x="11658" y="10468"/>
                </a:cubicBezTo>
                <a:cubicBezTo>
                  <a:pt x="11718" y="10352"/>
                  <a:pt x="11868" y="10393"/>
                  <a:pt x="11956" y="10468"/>
                </a:cubicBezTo>
                <a:cubicBezTo>
                  <a:pt x="12071" y="10566"/>
                  <a:pt x="11992" y="10679"/>
                  <a:pt x="11881" y="10716"/>
                </a:cubicBezTo>
                <a:cubicBezTo>
                  <a:pt x="11766" y="10755"/>
                  <a:pt x="11657" y="10756"/>
                  <a:pt x="11559" y="10691"/>
                </a:cubicBezTo>
              </a:path>
              <a:path w="3300" h="1588">
                <a:moveTo>
                  <a:pt x="11683" y="10269"/>
                </a:moveTo>
                <a:cubicBezTo>
                  <a:pt x="11618" y="10226"/>
                  <a:pt x="11598" y="10220"/>
                  <a:pt x="11584" y="10170"/>
                </a:cubicBezTo>
                <a:cubicBezTo>
                  <a:pt x="11584" y="10283"/>
                  <a:pt x="11572" y="10408"/>
                  <a:pt x="11609" y="10517"/>
                </a:cubicBezTo>
                <a:cubicBezTo>
                  <a:pt x="11617" y="10534"/>
                  <a:pt x="11625" y="10550"/>
                  <a:pt x="11633" y="10567"/>
                </a:cubicBezTo>
                <a:cubicBezTo>
                  <a:pt x="11599" y="10444"/>
                  <a:pt x="11573" y="10323"/>
                  <a:pt x="11559" y="101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28840" y="3402000"/>
            <a:ext cx="3438360" cy="992160"/>
          </a:xfrm>
          <a:custGeom>
            <a:avLst/>
            <a:gdLst/>
            <a:ahLst/>
            <a:rect l="l" t="t" r="r" b="b"/>
            <a:pathLst>
              <a:path w="9551" h="2754">
                <a:moveTo>
                  <a:pt x="4390" y="11857"/>
                </a:moveTo>
                <a:cubicBezTo>
                  <a:pt x="4348" y="11771"/>
                  <a:pt x="4322" y="11724"/>
                  <a:pt x="4217" y="11708"/>
                </a:cubicBezTo>
                <a:cubicBezTo>
                  <a:pt x="4106" y="11691"/>
                  <a:pt x="4052" y="11690"/>
                  <a:pt x="3994" y="11782"/>
                </a:cubicBezTo>
                <a:cubicBezTo>
                  <a:pt x="3957" y="11840"/>
                  <a:pt x="3958" y="11892"/>
                  <a:pt x="4018" y="11931"/>
                </a:cubicBezTo>
                <a:cubicBezTo>
                  <a:pt x="4108" y="11989"/>
                  <a:pt x="4212" y="11902"/>
                  <a:pt x="4266" y="11832"/>
                </a:cubicBezTo>
                <a:cubicBezTo>
                  <a:pt x="4266" y="11799"/>
                  <a:pt x="4266" y="11782"/>
                  <a:pt x="4266" y="11757"/>
                </a:cubicBezTo>
                <a:cubicBezTo>
                  <a:pt x="4335" y="11895"/>
                  <a:pt x="4341" y="11998"/>
                  <a:pt x="4341" y="12154"/>
                </a:cubicBezTo>
                <a:cubicBezTo>
                  <a:pt x="4341" y="12171"/>
                  <a:pt x="4341" y="12187"/>
                  <a:pt x="4341" y="12204"/>
                </a:cubicBezTo>
              </a:path>
              <a:path w="9551" h="2754">
                <a:moveTo>
                  <a:pt x="6300" y="10815"/>
                </a:moveTo>
                <a:cubicBezTo>
                  <a:pt x="6366" y="10919"/>
                  <a:pt x="6385" y="10947"/>
                  <a:pt x="6499" y="10988"/>
                </a:cubicBezTo>
                <a:cubicBezTo>
                  <a:pt x="6605" y="11026"/>
                  <a:pt x="6684" y="11038"/>
                  <a:pt x="6796" y="11038"/>
                </a:cubicBezTo>
                <a:cubicBezTo>
                  <a:pt x="6891" y="11038"/>
                  <a:pt x="7005" y="11024"/>
                  <a:pt x="7094" y="10988"/>
                </a:cubicBezTo>
                <a:cubicBezTo>
                  <a:pt x="7226" y="10935"/>
                  <a:pt x="7358" y="10858"/>
                  <a:pt x="7466" y="10765"/>
                </a:cubicBezTo>
                <a:cubicBezTo>
                  <a:pt x="7550" y="10692"/>
                  <a:pt x="7640" y="10579"/>
                  <a:pt x="7665" y="10468"/>
                </a:cubicBezTo>
                <a:cubicBezTo>
                  <a:pt x="7679" y="10405"/>
                  <a:pt x="7666" y="10311"/>
                  <a:pt x="7615" y="10269"/>
                </a:cubicBezTo>
                <a:cubicBezTo>
                  <a:pt x="7523" y="10192"/>
                  <a:pt x="7403" y="10196"/>
                  <a:pt x="7293" y="10220"/>
                </a:cubicBezTo>
                <a:cubicBezTo>
                  <a:pt x="7171" y="10247"/>
                  <a:pt x="7032" y="10287"/>
                  <a:pt x="6921" y="10344"/>
                </a:cubicBezTo>
                <a:cubicBezTo>
                  <a:pt x="6822" y="10395"/>
                  <a:pt x="6657" y="10423"/>
                  <a:pt x="6573" y="10492"/>
                </a:cubicBezTo>
                <a:cubicBezTo>
                  <a:pt x="6510" y="10544"/>
                  <a:pt x="6415" y="10637"/>
                  <a:pt x="6375" y="10716"/>
                </a:cubicBezTo>
                <a:cubicBezTo>
                  <a:pt x="6328" y="10809"/>
                  <a:pt x="6303" y="10916"/>
                  <a:pt x="6350" y="11013"/>
                </a:cubicBezTo>
                <a:cubicBezTo>
                  <a:pt x="6410" y="11138"/>
                  <a:pt x="6477" y="11129"/>
                  <a:pt x="6598" y="11137"/>
                </a:cubicBezTo>
                <a:cubicBezTo>
                  <a:pt x="6643" y="11137"/>
                  <a:pt x="6656" y="11141"/>
                  <a:pt x="6672" y="11112"/>
                </a:cubicBezTo>
              </a:path>
              <a:path w="9551" h="2754">
                <a:moveTo>
                  <a:pt x="7764" y="10468"/>
                </a:moveTo>
                <a:cubicBezTo>
                  <a:pt x="7722" y="10501"/>
                  <a:pt x="7682" y="10534"/>
                  <a:pt x="7640" y="10567"/>
                </a:cubicBezTo>
                <a:cubicBezTo>
                  <a:pt x="7738" y="10482"/>
                  <a:pt x="7802" y="10391"/>
                  <a:pt x="7938" y="10344"/>
                </a:cubicBezTo>
                <a:cubicBezTo>
                  <a:pt x="8086" y="10293"/>
                  <a:pt x="8235" y="10249"/>
                  <a:pt x="8384" y="10195"/>
                </a:cubicBezTo>
                <a:cubicBezTo>
                  <a:pt x="8595" y="10119"/>
                  <a:pt x="8815" y="10067"/>
                  <a:pt x="9029" y="9996"/>
                </a:cubicBezTo>
                <a:cubicBezTo>
                  <a:pt x="9273" y="9915"/>
                  <a:pt x="9494" y="9800"/>
                  <a:pt x="9748" y="9748"/>
                </a:cubicBezTo>
                <a:cubicBezTo>
                  <a:pt x="10092" y="9678"/>
                  <a:pt x="10420" y="9544"/>
                  <a:pt x="10765" y="9475"/>
                </a:cubicBezTo>
                <a:cubicBezTo>
                  <a:pt x="10976" y="9432"/>
                  <a:pt x="11271" y="9419"/>
                  <a:pt x="11485" y="9451"/>
                </a:cubicBezTo>
                <a:cubicBezTo>
                  <a:pt x="11664" y="9478"/>
                  <a:pt x="11829" y="9540"/>
                  <a:pt x="12005" y="9599"/>
                </a:cubicBezTo>
                <a:cubicBezTo>
                  <a:pt x="12240" y="9678"/>
                  <a:pt x="12480" y="9757"/>
                  <a:pt x="12700" y="9872"/>
                </a:cubicBezTo>
                <a:cubicBezTo>
                  <a:pt x="12872" y="9962"/>
                  <a:pt x="13008" y="10094"/>
                  <a:pt x="13171" y="10195"/>
                </a:cubicBezTo>
                <a:cubicBezTo>
                  <a:pt x="13272" y="10257"/>
                  <a:pt x="13331" y="10315"/>
                  <a:pt x="13419" y="10393"/>
                </a:cubicBezTo>
                <a:cubicBezTo>
                  <a:pt x="13339" y="10365"/>
                  <a:pt x="13266" y="10338"/>
                  <a:pt x="13171" y="10319"/>
                </a:cubicBezTo>
                <a:cubicBezTo>
                  <a:pt x="13163" y="10319"/>
                  <a:pt x="13154" y="10319"/>
                  <a:pt x="13146" y="10319"/>
                </a:cubicBezTo>
                <a:cubicBezTo>
                  <a:pt x="13224" y="10374"/>
                  <a:pt x="13254" y="10447"/>
                  <a:pt x="13345" y="10418"/>
                </a:cubicBezTo>
                <a:cubicBezTo>
                  <a:pt x="13448" y="10385"/>
                  <a:pt x="13486" y="10319"/>
                  <a:pt x="13519" y="10195"/>
                </a:cubicBezTo>
                <a:cubicBezTo>
                  <a:pt x="13519" y="10170"/>
                  <a:pt x="13519" y="10145"/>
                  <a:pt x="13519" y="101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19840" y="3724200"/>
            <a:ext cx="206280" cy="169920"/>
          </a:xfrm>
          <a:custGeom>
            <a:avLst/>
            <a:gdLst/>
            <a:ahLst/>
            <a:rect l="l" t="t" r="r" b="b"/>
            <a:pathLst>
              <a:path w="571" h="472">
                <a:moveTo>
                  <a:pt x="16520" y="10492"/>
                </a:moveTo>
                <a:cubicBezTo>
                  <a:pt x="16534" y="10423"/>
                  <a:pt x="16595" y="10364"/>
                  <a:pt x="16669" y="10344"/>
                </a:cubicBezTo>
                <a:cubicBezTo>
                  <a:pt x="16746" y="10324"/>
                  <a:pt x="16842" y="10348"/>
                  <a:pt x="16842" y="10443"/>
                </a:cubicBezTo>
                <a:cubicBezTo>
                  <a:pt x="16842" y="10538"/>
                  <a:pt x="16670" y="10624"/>
                  <a:pt x="16594" y="10641"/>
                </a:cubicBezTo>
                <a:cubicBezTo>
                  <a:pt x="16492" y="10664"/>
                  <a:pt x="16522" y="10697"/>
                  <a:pt x="16470" y="10790"/>
                </a:cubicBezTo>
                <a:cubicBezTo>
                  <a:pt x="16462" y="10798"/>
                  <a:pt x="16454" y="10807"/>
                  <a:pt x="16446" y="10815"/>
                </a:cubicBezTo>
                <a:cubicBezTo>
                  <a:pt x="16527" y="10742"/>
                  <a:pt x="16583" y="10699"/>
                  <a:pt x="16694" y="10691"/>
                </a:cubicBezTo>
                <a:cubicBezTo>
                  <a:pt x="16763" y="10686"/>
                  <a:pt x="16797" y="10762"/>
                  <a:pt x="16867" y="10765"/>
                </a:cubicBezTo>
                <a:cubicBezTo>
                  <a:pt x="16947" y="10765"/>
                  <a:pt x="16975" y="10762"/>
                  <a:pt x="17016" y="107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48040" y="4259160"/>
            <a:ext cx="1662120" cy="554040"/>
          </a:xfrm>
          <a:custGeom>
            <a:avLst/>
            <a:gdLst/>
            <a:ahLst/>
            <a:rect l="l" t="t" r="r" b="b"/>
            <a:pathLst>
              <a:path w="4614" h="1539">
                <a:moveTo>
                  <a:pt x="11261" y="12254"/>
                </a:moveTo>
                <a:cubicBezTo>
                  <a:pt x="11275" y="12431"/>
                  <a:pt x="11328" y="12597"/>
                  <a:pt x="11336" y="12774"/>
                </a:cubicBezTo>
                <a:cubicBezTo>
                  <a:pt x="11336" y="12791"/>
                  <a:pt x="11336" y="12807"/>
                  <a:pt x="11336" y="12824"/>
                </a:cubicBezTo>
              </a:path>
              <a:path w="4614" h="1539">
                <a:moveTo>
                  <a:pt x="11509" y="12526"/>
                </a:moveTo>
                <a:cubicBezTo>
                  <a:pt x="11501" y="12526"/>
                  <a:pt x="11493" y="12526"/>
                  <a:pt x="11485" y="12526"/>
                </a:cubicBezTo>
                <a:cubicBezTo>
                  <a:pt x="11563" y="12560"/>
                  <a:pt x="11703" y="12539"/>
                  <a:pt x="11708" y="12675"/>
                </a:cubicBezTo>
                <a:cubicBezTo>
                  <a:pt x="11713" y="12821"/>
                  <a:pt x="11534" y="12843"/>
                  <a:pt x="11435" y="12874"/>
                </a:cubicBezTo>
              </a:path>
              <a:path w="4614" h="1539">
                <a:moveTo>
                  <a:pt x="12179" y="12502"/>
                </a:moveTo>
                <a:cubicBezTo>
                  <a:pt x="12162" y="12510"/>
                  <a:pt x="12146" y="12518"/>
                  <a:pt x="12129" y="12526"/>
                </a:cubicBezTo>
                <a:cubicBezTo>
                  <a:pt x="12240" y="12526"/>
                  <a:pt x="12343" y="12512"/>
                  <a:pt x="12452" y="12502"/>
                </a:cubicBezTo>
              </a:path>
              <a:path w="4614" h="1539">
                <a:moveTo>
                  <a:pt x="12675" y="12229"/>
                </a:moveTo>
                <a:cubicBezTo>
                  <a:pt x="12795" y="12197"/>
                  <a:pt x="12899" y="12129"/>
                  <a:pt x="12998" y="12204"/>
                </a:cubicBezTo>
                <a:cubicBezTo>
                  <a:pt x="13095" y="12278"/>
                  <a:pt x="13053" y="12418"/>
                  <a:pt x="12998" y="12502"/>
                </a:cubicBezTo>
                <a:cubicBezTo>
                  <a:pt x="12922" y="12618"/>
                  <a:pt x="12821" y="12704"/>
                  <a:pt x="12750" y="12824"/>
                </a:cubicBezTo>
                <a:cubicBezTo>
                  <a:pt x="12689" y="12885"/>
                  <a:pt x="12824" y="12732"/>
                  <a:pt x="12849" y="12700"/>
                </a:cubicBezTo>
                <a:cubicBezTo>
                  <a:pt x="12926" y="12602"/>
                  <a:pt x="13002" y="12760"/>
                  <a:pt x="13047" y="12799"/>
                </a:cubicBezTo>
                <a:cubicBezTo>
                  <a:pt x="13133" y="12874"/>
                  <a:pt x="13173" y="12848"/>
                  <a:pt x="13271" y="12824"/>
                </a:cubicBezTo>
              </a:path>
              <a:path w="4614" h="1539">
                <a:moveTo>
                  <a:pt x="13767" y="12353"/>
                </a:moveTo>
                <a:cubicBezTo>
                  <a:pt x="13775" y="12479"/>
                  <a:pt x="13800" y="12600"/>
                  <a:pt x="13816" y="12725"/>
                </a:cubicBezTo>
              </a:path>
              <a:path w="4614" h="1539">
                <a:moveTo>
                  <a:pt x="13593" y="12551"/>
                </a:moveTo>
                <a:cubicBezTo>
                  <a:pt x="13725" y="12532"/>
                  <a:pt x="13857" y="12497"/>
                  <a:pt x="13990" y="12477"/>
                </a:cubicBezTo>
                <a:cubicBezTo>
                  <a:pt x="13998" y="12477"/>
                  <a:pt x="14007" y="12477"/>
                  <a:pt x="14015" y="12477"/>
                </a:cubicBezTo>
              </a:path>
              <a:path w="4614" h="1539">
                <a:moveTo>
                  <a:pt x="14660" y="12303"/>
                </a:moveTo>
                <a:cubicBezTo>
                  <a:pt x="14674" y="12257"/>
                  <a:pt x="14600" y="12171"/>
                  <a:pt x="14511" y="12154"/>
                </a:cubicBezTo>
                <a:cubicBezTo>
                  <a:pt x="14398" y="12132"/>
                  <a:pt x="14290" y="12219"/>
                  <a:pt x="14263" y="12328"/>
                </a:cubicBezTo>
                <a:cubicBezTo>
                  <a:pt x="14230" y="12459"/>
                  <a:pt x="14304" y="12555"/>
                  <a:pt x="14436" y="12526"/>
                </a:cubicBezTo>
                <a:cubicBezTo>
                  <a:pt x="14555" y="12500"/>
                  <a:pt x="14588" y="12421"/>
                  <a:pt x="14635" y="12328"/>
                </a:cubicBezTo>
              </a:path>
              <a:path w="4614" h="1539">
                <a:moveTo>
                  <a:pt x="14610" y="12204"/>
                </a:moveTo>
                <a:cubicBezTo>
                  <a:pt x="14619" y="12398"/>
                  <a:pt x="14658" y="12582"/>
                  <a:pt x="14684" y="12774"/>
                </a:cubicBezTo>
                <a:cubicBezTo>
                  <a:pt x="14684" y="12791"/>
                  <a:pt x="14684" y="12807"/>
                  <a:pt x="14684" y="12824"/>
                </a:cubicBezTo>
              </a:path>
              <a:path w="4614" h="1539">
                <a:moveTo>
                  <a:pt x="11906" y="13271"/>
                </a:moveTo>
                <a:cubicBezTo>
                  <a:pt x="12082" y="13264"/>
                  <a:pt x="12251" y="13231"/>
                  <a:pt x="12427" y="13221"/>
                </a:cubicBezTo>
                <a:cubicBezTo>
                  <a:pt x="12697" y="13205"/>
                  <a:pt x="12952" y="13210"/>
                  <a:pt x="13221" y="13221"/>
                </a:cubicBezTo>
                <a:cubicBezTo>
                  <a:pt x="13475" y="13232"/>
                  <a:pt x="13738" y="13219"/>
                  <a:pt x="13990" y="13196"/>
                </a:cubicBezTo>
                <a:cubicBezTo>
                  <a:pt x="14215" y="13175"/>
                  <a:pt x="14398" y="13107"/>
                  <a:pt x="14610" y="13047"/>
                </a:cubicBezTo>
                <a:cubicBezTo>
                  <a:pt x="14795" y="12994"/>
                  <a:pt x="14975" y="12919"/>
                  <a:pt x="15131" y="12799"/>
                </a:cubicBezTo>
                <a:cubicBezTo>
                  <a:pt x="15235" y="12719"/>
                  <a:pt x="15284" y="12604"/>
                  <a:pt x="15304" y="12477"/>
                </a:cubicBezTo>
                <a:cubicBezTo>
                  <a:pt x="15328" y="12324"/>
                  <a:pt x="15300" y="12240"/>
                  <a:pt x="15205" y="12129"/>
                </a:cubicBezTo>
                <a:cubicBezTo>
                  <a:pt x="15109" y="12016"/>
                  <a:pt x="15044" y="11987"/>
                  <a:pt x="14908" y="11931"/>
                </a:cubicBezTo>
                <a:cubicBezTo>
                  <a:pt x="14792" y="11883"/>
                  <a:pt x="14689" y="11843"/>
                  <a:pt x="14560" y="11832"/>
                </a:cubicBezTo>
                <a:cubicBezTo>
                  <a:pt x="14344" y="11813"/>
                  <a:pt x="14127" y="11842"/>
                  <a:pt x="13915" y="11857"/>
                </a:cubicBezTo>
                <a:cubicBezTo>
                  <a:pt x="13762" y="11868"/>
                  <a:pt x="13619" y="11891"/>
                  <a:pt x="13469" y="11906"/>
                </a:cubicBezTo>
                <a:cubicBezTo>
                  <a:pt x="13309" y="11922"/>
                  <a:pt x="13134" y="11949"/>
                  <a:pt x="12973" y="11931"/>
                </a:cubicBezTo>
                <a:cubicBezTo>
                  <a:pt x="12804" y="11912"/>
                  <a:pt x="12669" y="11917"/>
                  <a:pt x="12502" y="11931"/>
                </a:cubicBezTo>
                <a:cubicBezTo>
                  <a:pt x="12321" y="11946"/>
                  <a:pt x="12137" y="11969"/>
                  <a:pt x="11956" y="11981"/>
                </a:cubicBezTo>
                <a:cubicBezTo>
                  <a:pt x="11755" y="11994"/>
                  <a:pt x="11600" y="12008"/>
                  <a:pt x="11410" y="12080"/>
                </a:cubicBezTo>
                <a:cubicBezTo>
                  <a:pt x="11212" y="12155"/>
                  <a:pt x="11019" y="12258"/>
                  <a:pt x="10864" y="12402"/>
                </a:cubicBezTo>
                <a:cubicBezTo>
                  <a:pt x="10753" y="12506"/>
                  <a:pt x="10699" y="12600"/>
                  <a:pt x="10691" y="12750"/>
                </a:cubicBezTo>
                <a:cubicBezTo>
                  <a:pt x="10685" y="12868"/>
                  <a:pt x="10715" y="12984"/>
                  <a:pt x="10790" y="13072"/>
                </a:cubicBezTo>
                <a:cubicBezTo>
                  <a:pt x="10881" y="13178"/>
                  <a:pt x="11205" y="13201"/>
                  <a:pt x="11336" y="13246"/>
                </a:cubicBezTo>
                <a:cubicBezTo>
                  <a:pt x="11447" y="13284"/>
                  <a:pt x="11548" y="13295"/>
                  <a:pt x="11658" y="13320"/>
                </a:cubicBezTo>
                <a:cubicBezTo>
                  <a:pt x="11800" y="13352"/>
                  <a:pt x="11907" y="13370"/>
                  <a:pt x="12055" y="13370"/>
                </a:cubicBezTo>
                <a:cubicBezTo>
                  <a:pt x="12205" y="13370"/>
                  <a:pt x="12355" y="13366"/>
                  <a:pt x="12502" y="13345"/>
                </a:cubicBezTo>
                <a:cubicBezTo>
                  <a:pt x="12656" y="13323"/>
                  <a:pt x="12792" y="13299"/>
                  <a:pt x="12948" y="13295"/>
                </a:cubicBezTo>
                <a:cubicBezTo>
                  <a:pt x="12965" y="13295"/>
                  <a:pt x="12981" y="13295"/>
                  <a:pt x="12998" y="132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73160" y="4857840"/>
            <a:ext cx="2581200" cy="544320"/>
          </a:xfrm>
          <a:custGeom>
            <a:avLst/>
            <a:gdLst/>
            <a:ahLst/>
            <a:rect l="l" t="t" r="r" b="b"/>
            <a:pathLst>
              <a:path w="7169" h="1514">
                <a:moveTo>
                  <a:pt x="5928" y="14139"/>
                </a:moveTo>
                <a:cubicBezTo>
                  <a:pt x="6113" y="14086"/>
                  <a:pt x="6281" y="14089"/>
                  <a:pt x="6474" y="14089"/>
                </a:cubicBezTo>
                <a:cubicBezTo>
                  <a:pt x="6515" y="14089"/>
                  <a:pt x="6557" y="14089"/>
                  <a:pt x="6598" y="14089"/>
                </a:cubicBezTo>
              </a:path>
              <a:path w="7169" h="1514">
                <a:moveTo>
                  <a:pt x="6276" y="13816"/>
                </a:moveTo>
                <a:cubicBezTo>
                  <a:pt x="6268" y="13833"/>
                  <a:pt x="6259" y="13849"/>
                  <a:pt x="6251" y="13866"/>
                </a:cubicBezTo>
              </a:path>
              <a:path w="7169" h="1514">
                <a:moveTo>
                  <a:pt x="6325" y="14461"/>
                </a:moveTo>
                <a:cubicBezTo>
                  <a:pt x="6266" y="14551"/>
                  <a:pt x="6312" y="14519"/>
                  <a:pt x="6300" y="14486"/>
                </a:cubicBezTo>
              </a:path>
              <a:path w="7169" h="1514">
                <a:moveTo>
                  <a:pt x="6276" y="13593"/>
                </a:moveTo>
                <a:cubicBezTo>
                  <a:pt x="6059" y="13603"/>
                  <a:pt x="5894" y="13630"/>
                  <a:pt x="5730" y="13791"/>
                </a:cubicBezTo>
                <a:cubicBezTo>
                  <a:pt x="5512" y="14005"/>
                  <a:pt x="5467" y="14296"/>
                  <a:pt x="5507" y="14585"/>
                </a:cubicBezTo>
                <a:cubicBezTo>
                  <a:pt x="5547" y="14871"/>
                  <a:pt x="5793" y="15022"/>
                  <a:pt x="6077" y="15007"/>
                </a:cubicBezTo>
                <a:cubicBezTo>
                  <a:pt x="6460" y="14987"/>
                  <a:pt x="6965" y="14689"/>
                  <a:pt x="7045" y="14288"/>
                </a:cubicBezTo>
                <a:cubicBezTo>
                  <a:pt x="7084" y="14093"/>
                  <a:pt x="6881" y="13901"/>
                  <a:pt x="6747" y="13791"/>
                </a:cubicBezTo>
                <a:cubicBezTo>
                  <a:pt x="6640" y="13703"/>
                  <a:pt x="6456" y="13742"/>
                  <a:pt x="6325" y="13742"/>
                </a:cubicBezTo>
                <a:cubicBezTo>
                  <a:pt x="6257" y="13742"/>
                  <a:pt x="6238" y="13739"/>
                  <a:pt x="6201" y="13767"/>
                </a:cubicBezTo>
              </a:path>
              <a:path w="7169" h="1514">
                <a:moveTo>
                  <a:pt x="6945" y="14114"/>
                </a:moveTo>
                <a:cubicBezTo>
                  <a:pt x="7033" y="14033"/>
                  <a:pt x="7127" y="13949"/>
                  <a:pt x="7243" y="13891"/>
                </a:cubicBezTo>
                <a:cubicBezTo>
                  <a:pt x="7481" y="13772"/>
                  <a:pt x="7750" y="13690"/>
                  <a:pt x="8012" y="13643"/>
                </a:cubicBezTo>
                <a:cubicBezTo>
                  <a:pt x="8413" y="13571"/>
                  <a:pt x="8845" y="13524"/>
                  <a:pt x="9252" y="13519"/>
                </a:cubicBezTo>
                <a:cubicBezTo>
                  <a:pt x="9494" y="13516"/>
                  <a:pt x="9758" y="13485"/>
                  <a:pt x="9996" y="13494"/>
                </a:cubicBezTo>
                <a:cubicBezTo>
                  <a:pt x="10249" y="13503"/>
                  <a:pt x="10513" y="13517"/>
                  <a:pt x="10765" y="13543"/>
                </a:cubicBezTo>
                <a:cubicBezTo>
                  <a:pt x="10973" y="13564"/>
                  <a:pt x="11177" y="13605"/>
                  <a:pt x="11385" y="13618"/>
                </a:cubicBezTo>
                <a:cubicBezTo>
                  <a:pt x="11627" y="13633"/>
                  <a:pt x="11862" y="13656"/>
                  <a:pt x="12080" y="13767"/>
                </a:cubicBezTo>
                <a:cubicBezTo>
                  <a:pt x="12189" y="13823"/>
                  <a:pt x="12326" y="13889"/>
                  <a:pt x="12402" y="13990"/>
                </a:cubicBezTo>
                <a:cubicBezTo>
                  <a:pt x="12437" y="14025"/>
                  <a:pt x="12450" y="14047"/>
                  <a:pt x="12452" y="14089"/>
                </a:cubicBezTo>
              </a:path>
              <a:path w="7169" h="1514">
                <a:moveTo>
                  <a:pt x="12452" y="13692"/>
                </a:moveTo>
                <a:cubicBezTo>
                  <a:pt x="12544" y="13785"/>
                  <a:pt x="12603" y="13888"/>
                  <a:pt x="12650" y="14015"/>
                </a:cubicBezTo>
                <a:cubicBezTo>
                  <a:pt x="12479" y="13979"/>
                  <a:pt x="12384" y="13944"/>
                  <a:pt x="12229" y="140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64080" y="5000760"/>
            <a:ext cx="189000" cy="214200"/>
          </a:xfrm>
          <a:custGeom>
            <a:avLst/>
            <a:gdLst/>
            <a:ahLst/>
            <a:rect l="l" t="t" r="r" b="b"/>
            <a:pathLst>
              <a:path w="522" h="596">
                <a:moveTo>
                  <a:pt x="15304" y="13940"/>
                </a:moveTo>
                <a:cubicBezTo>
                  <a:pt x="15406" y="13850"/>
                  <a:pt x="15227" y="14104"/>
                  <a:pt x="15205" y="14163"/>
                </a:cubicBezTo>
                <a:cubicBezTo>
                  <a:pt x="15173" y="14248"/>
                  <a:pt x="15163" y="14332"/>
                  <a:pt x="15255" y="14387"/>
                </a:cubicBezTo>
                <a:cubicBezTo>
                  <a:pt x="15348" y="14442"/>
                  <a:pt x="15506" y="14421"/>
                  <a:pt x="15602" y="14387"/>
                </a:cubicBezTo>
                <a:cubicBezTo>
                  <a:pt x="15643" y="14373"/>
                  <a:pt x="15741" y="14265"/>
                  <a:pt x="15701" y="14213"/>
                </a:cubicBezTo>
                <a:cubicBezTo>
                  <a:pt x="15640" y="14133"/>
                  <a:pt x="15497" y="14145"/>
                  <a:pt x="15453" y="14238"/>
                </a:cubicBezTo>
                <a:cubicBezTo>
                  <a:pt x="15416" y="14314"/>
                  <a:pt x="15429" y="14404"/>
                  <a:pt x="15429" y="144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83000" y="5018040"/>
            <a:ext cx="1204920" cy="554040"/>
          </a:xfrm>
          <a:custGeom>
            <a:avLst/>
            <a:gdLst/>
            <a:ahLst/>
            <a:rect l="l" t="t" r="r" b="b"/>
            <a:pathLst>
              <a:path w="3349" h="1539">
                <a:moveTo>
                  <a:pt x="9699" y="15453"/>
                </a:moveTo>
                <a:cubicBezTo>
                  <a:pt x="9799" y="15473"/>
                  <a:pt x="9846" y="15461"/>
                  <a:pt x="9947" y="15453"/>
                </a:cubicBezTo>
                <a:cubicBezTo>
                  <a:pt x="10267" y="15427"/>
                  <a:pt x="10595" y="15450"/>
                  <a:pt x="10914" y="15429"/>
                </a:cubicBezTo>
                <a:cubicBezTo>
                  <a:pt x="11096" y="15417"/>
                  <a:pt x="11280" y="15402"/>
                  <a:pt x="11460" y="15379"/>
                </a:cubicBezTo>
                <a:cubicBezTo>
                  <a:pt x="11683" y="15351"/>
                  <a:pt x="11905" y="15348"/>
                  <a:pt x="12129" y="15329"/>
                </a:cubicBezTo>
                <a:cubicBezTo>
                  <a:pt x="12394" y="15306"/>
                  <a:pt x="12658" y="15238"/>
                  <a:pt x="12923" y="15230"/>
                </a:cubicBezTo>
                <a:cubicBezTo>
                  <a:pt x="12956" y="15229"/>
                  <a:pt x="12989" y="15230"/>
                  <a:pt x="13022" y="15230"/>
                </a:cubicBezTo>
              </a:path>
              <a:path w="3349" h="1539">
                <a:moveTo>
                  <a:pt x="10641" y="14139"/>
                </a:moveTo>
                <a:cubicBezTo>
                  <a:pt x="10651" y="14283"/>
                  <a:pt x="10678" y="14421"/>
                  <a:pt x="10716" y="14560"/>
                </a:cubicBezTo>
                <a:cubicBezTo>
                  <a:pt x="10649" y="14456"/>
                  <a:pt x="10567" y="14275"/>
                  <a:pt x="10567" y="14139"/>
                </a:cubicBezTo>
                <a:cubicBezTo>
                  <a:pt x="10567" y="14016"/>
                  <a:pt x="10680" y="13940"/>
                  <a:pt x="10790" y="13940"/>
                </a:cubicBezTo>
                <a:cubicBezTo>
                  <a:pt x="10952" y="13940"/>
                  <a:pt x="11073" y="14008"/>
                  <a:pt x="11038" y="14163"/>
                </a:cubicBezTo>
                <a:cubicBezTo>
                  <a:pt x="10857" y="14238"/>
                  <a:pt x="10781" y="14223"/>
                  <a:pt x="10592" y="14188"/>
                </a:cubicBezTo>
                <a:cubicBezTo>
                  <a:pt x="10584" y="14188"/>
                  <a:pt x="10575" y="14188"/>
                  <a:pt x="10567" y="141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35080" y="6000840"/>
            <a:ext cx="179640" cy="223920"/>
          </a:xfrm>
          <a:custGeom>
            <a:avLst/>
            <a:gdLst/>
            <a:ahLst/>
            <a:rect l="l" t="t" r="r" b="b"/>
            <a:pathLst>
              <a:path w="498" h="621">
                <a:moveTo>
                  <a:pt x="5655" y="16743"/>
                </a:moveTo>
                <a:cubicBezTo>
                  <a:pt x="5758" y="16858"/>
                  <a:pt x="5835" y="16991"/>
                  <a:pt x="5928" y="17115"/>
                </a:cubicBezTo>
                <a:cubicBezTo>
                  <a:pt x="5985" y="17190"/>
                  <a:pt x="5989" y="17202"/>
                  <a:pt x="6028" y="17239"/>
                </a:cubicBezTo>
              </a:path>
              <a:path w="498" h="621">
                <a:moveTo>
                  <a:pt x="6152" y="16669"/>
                </a:moveTo>
                <a:cubicBezTo>
                  <a:pt x="6012" y="16817"/>
                  <a:pt x="5872" y="16972"/>
                  <a:pt x="5755" y="17140"/>
                </a:cubicBezTo>
                <a:cubicBezTo>
                  <a:pt x="5717" y="17194"/>
                  <a:pt x="5710" y="17239"/>
                  <a:pt x="5680" y="172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90880" y="5626080"/>
            <a:ext cx="1090440" cy="446040"/>
          </a:xfrm>
          <a:custGeom>
            <a:avLst/>
            <a:gdLst/>
            <a:ahLst/>
            <a:rect l="l" t="t" r="r" b="b"/>
            <a:pathLst>
              <a:path w="3027" h="1241">
                <a:moveTo>
                  <a:pt x="8756" y="15974"/>
                </a:moveTo>
                <a:cubicBezTo>
                  <a:pt x="8804" y="16158"/>
                  <a:pt x="8880" y="16334"/>
                  <a:pt x="8905" y="16520"/>
                </a:cubicBezTo>
                <a:cubicBezTo>
                  <a:pt x="8807" y="16389"/>
                  <a:pt x="8675" y="16201"/>
                  <a:pt x="8731" y="16024"/>
                </a:cubicBezTo>
                <a:cubicBezTo>
                  <a:pt x="8832" y="15709"/>
                  <a:pt x="9138" y="15974"/>
                  <a:pt x="9227" y="16098"/>
                </a:cubicBezTo>
                <a:cubicBezTo>
                  <a:pt x="9155" y="16198"/>
                  <a:pt x="8957" y="16321"/>
                  <a:pt x="8830" y="16173"/>
                </a:cubicBezTo>
                <a:cubicBezTo>
                  <a:pt x="8830" y="16148"/>
                  <a:pt x="8830" y="16123"/>
                  <a:pt x="8830" y="16098"/>
                </a:cubicBezTo>
              </a:path>
              <a:path w="3027" h="1241">
                <a:moveTo>
                  <a:pt x="9599" y="16073"/>
                </a:moveTo>
                <a:cubicBezTo>
                  <a:pt x="9734" y="16073"/>
                  <a:pt x="9863" y="16036"/>
                  <a:pt x="9996" y="16024"/>
                </a:cubicBezTo>
                <a:cubicBezTo>
                  <a:pt x="10029" y="16024"/>
                  <a:pt x="10063" y="16024"/>
                  <a:pt x="10096" y="16024"/>
                </a:cubicBezTo>
              </a:path>
              <a:path w="3027" h="1241">
                <a:moveTo>
                  <a:pt x="9723" y="15751"/>
                </a:moveTo>
                <a:lnTo>
                  <a:pt x="9723" y="15751"/>
                </a:lnTo>
              </a:path>
              <a:path w="3027" h="1241">
                <a:moveTo>
                  <a:pt x="9897" y="16123"/>
                </a:moveTo>
                <a:lnTo>
                  <a:pt x="9897" y="16123"/>
                </a:lnTo>
              </a:path>
              <a:path w="3027" h="1241">
                <a:moveTo>
                  <a:pt x="9922" y="16247"/>
                </a:moveTo>
                <a:cubicBezTo>
                  <a:pt x="9922" y="16305"/>
                  <a:pt x="9930" y="16322"/>
                  <a:pt x="9996" y="16297"/>
                </a:cubicBezTo>
              </a:path>
              <a:path w="3027" h="1241">
                <a:moveTo>
                  <a:pt x="10468" y="15850"/>
                </a:moveTo>
                <a:cubicBezTo>
                  <a:pt x="10409" y="15925"/>
                  <a:pt x="10348" y="16045"/>
                  <a:pt x="10393" y="16148"/>
                </a:cubicBezTo>
                <a:cubicBezTo>
                  <a:pt x="10443" y="16262"/>
                  <a:pt x="10598" y="16250"/>
                  <a:pt x="10691" y="16222"/>
                </a:cubicBezTo>
                <a:cubicBezTo>
                  <a:pt x="10793" y="16191"/>
                  <a:pt x="10834" y="16130"/>
                  <a:pt x="10889" y="16049"/>
                </a:cubicBezTo>
                <a:cubicBezTo>
                  <a:pt x="10778" y="16060"/>
                  <a:pt x="10765" y="16084"/>
                  <a:pt x="10740" y="16197"/>
                </a:cubicBezTo>
              </a:path>
              <a:path w="3027" h="1241">
                <a:moveTo>
                  <a:pt x="9029" y="16867"/>
                </a:moveTo>
                <a:cubicBezTo>
                  <a:pt x="9185" y="16796"/>
                  <a:pt x="9398" y="16771"/>
                  <a:pt x="9575" y="16743"/>
                </a:cubicBezTo>
                <a:cubicBezTo>
                  <a:pt x="9861" y="16697"/>
                  <a:pt x="10138" y="16648"/>
                  <a:pt x="10418" y="16570"/>
                </a:cubicBezTo>
                <a:cubicBezTo>
                  <a:pt x="10590" y="16522"/>
                  <a:pt x="10748" y="16481"/>
                  <a:pt x="10914" y="16421"/>
                </a:cubicBezTo>
                <a:cubicBezTo>
                  <a:pt x="11010" y="16387"/>
                  <a:pt x="11140" y="16322"/>
                  <a:pt x="11212" y="16247"/>
                </a:cubicBezTo>
                <a:cubicBezTo>
                  <a:pt x="11282" y="16173"/>
                  <a:pt x="11336" y="16050"/>
                  <a:pt x="11336" y="15949"/>
                </a:cubicBezTo>
                <a:cubicBezTo>
                  <a:pt x="11336" y="15867"/>
                  <a:pt x="11225" y="15806"/>
                  <a:pt x="11162" y="15776"/>
                </a:cubicBezTo>
                <a:cubicBezTo>
                  <a:pt x="11013" y="15704"/>
                  <a:pt x="10852" y="15701"/>
                  <a:pt x="10691" y="15701"/>
                </a:cubicBezTo>
                <a:cubicBezTo>
                  <a:pt x="10538" y="15701"/>
                  <a:pt x="10395" y="15687"/>
                  <a:pt x="10244" y="15677"/>
                </a:cubicBezTo>
                <a:cubicBezTo>
                  <a:pt x="10054" y="15664"/>
                  <a:pt x="9864" y="15638"/>
                  <a:pt x="9674" y="15627"/>
                </a:cubicBezTo>
                <a:cubicBezTo>
                  <a:pt x="9429" y="15612"/>
                  <a:pt x="9171" y="15661"/>
                  <a:pt x="8930" y="15701"/>
                </a:cubicBezTo>
                <a:cubicBezTo>
                  <a:pt x="8719" y="15736"/>
                  <a:pt x="8567" y="15836"/>
                  <a:pt x="8409" y="15974"/>
                </a:cubicBezTo>
                <a:cubicBezTo>
                  <a:pt x="8329" y="16044"/>
                  <a:pt x="8313" y="16120"/>
                  <a:pt x="8310" y="16222"/>
                </a:cubicBezTo>
                <a:cubicBezTo>
                  <a:pt x="8305" y="16394"/>
                  <a:pt x="8348" y="16411"/>
                  <a:pt x="8483" y="16495"/>
                </a:cubicBezTo>
                <a:cubicBezTo>
                  <a:pt x="8626" y="16584"/>
                  <a:pt x="8744" y="16602"/>
                  <a:pt x="8905" y="16644"/>
                </a:cubicBezTo>
                <a:cubicBezTo>
                  <a:pt x="9044" y="16680"/>
                  <a:pt x="9157" y="16715"/>
                  <a:pt x="9302" y="16718"/>
                </a:cubicBezTo>
                <a:cubicBezTo>
                  <a:pt x="9475" y="16722"/>
                  <a:pt x="9628" y="16661"/>
                  <a:pt x="9798" y="16644"/>
                </a:cubicBezTo>
                <a:cubicBezTo>
                  <a:pt x="9892" y="16635"/>
                  <a:pt x="9963" y="16640"/>
                  <a:pt x="10046" y="166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91080" y="5973840"/>
            <a:ext cx="162000" cy="223920"/>
          </a:xfrm>
          <a:custGeom>
            <a:avLst/>
            <a:gdLst/>
            <a:ahLst/>
            <a:rect l="l" t="t" r="r" b="b"/>
            <a:pathLst>
              <a:path w="447" h="621">
                <a:moveTo>
                  <a:pt x="15354" y="16793"/>
                </a:moveTo>
                <a:cubicBezTo>
                  <a:pt x="15367" y="16693"/>
                  <a:pt x="15397" y="16624"/>
                  <a:pt x="15503" y="16594"/>
                </a:cubicBezTo>
                <a:cubicBezTo>
                  <a:pt x="15520" y="16594"/>
                  <a:pt x="15536" y="16594"/>
                  <a:pt x="15553" y="16594"/>
                </a:cubicBezTo>
                <a:cubicBezTo>
                  <a:pt x="15553" y="16776"/>
                  <a:pt x="15535" y="16825"/>
                  <a:pt x="15429" y="16966"/>
                </a:cubicBezTo>
                <a:cubicBezTo>
                  <a:pt x="15382" y="17029"/>
                  <a:pt x="15320" y="17173"/>
                  <a:pt x="15255" y="17214"/>
                </a:cubicBezTo>
                <a:cubicBezTo>
                  <a:pt x="15255" y="17206"/>
                  <a:pt x="15255" y="17198"/>
                  <a:pt x="15255" y="17190"/>
                </a:cubicBezTo>
                <a:cubicBezTo>
                  <a:pt x="15293" y="17129"/>
                  <a:pt x="15343" y="17026"/>
                  <a:pt x="15429" y="17041"/>
                </a:cubicBezTo>
                <a:cubicBezTo>
                  <a:pt x="15469" y="17048"/>
                  <a:pt x="15568" y="17149"/>
                  <a:pt x="15602" y="17140"/>
                </a:cubicBezTo>
                <a:cubicBezTo>
                  <a:pt x="15667" y="17097"/>
                  <a:pt x="15687" y="17091"/>
                  <a:pt x="15701" y="170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46840" y="6010200"/>
            <a:ext cx="189000" cy="142920"/>
          </a:xfrm>
          <a:custGeom>
            <a:avLst/>
            <a:gdLst/>
            <a:ahLst/>
            <a:rect l="l" t="t" r="r" b="b"/>
            <a:pathLst>
              <a:path w="522" h="397">
                <a:moveTo>
                  <a:pt x="16520" y="16743"/>
                </a:moveTo>
                <a:cubicBezTo>
                  <a:pt x="16673" y="16760"/>
                  <a:pt x="16794" y="16747"/>
                  <a:pt x="16942" y="16694"/>
                </a:cubicBezTo>
              </a:path>
              <a:path w="522" h="397">
                <a:moveTo>
                  <a:pt x="16570" y="17090"/>
                </a:moveTo>
                <a:cubicBezTo>
                  <a:pt x="16727" y="17055"/>
                  <a:pt x="16881" y="17006"/>
                  <a:pt x="17041" y="169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00880" y="5965920"/>
            <a:ext cx="152280" cy="204840"/>
          </a:xfrm>
          <a:custGeom>
            <a:avLst/>
            <a:gdLst/>
            <a:ahLst/>
            <a:rect l="l" t="t" r="r" b="b"/>
            <a:pathLst>
              <a:path w="422" h="571">
                <a:moveTo>
                  <a:pt x="18430" y="16743"/>
                </a:moveTo>
                <a:cubicBezTo>
                  <a:pt x="18430" y="16624"/>
                  <a:pt x="18464" y="16580"/>
                  <a:pt x="18281" y="16570"/>
                </a:cubicBezTo>
                <a:cubicBezTo>
                  <a:pt x="18154" y="16563"/>
                  <a:pt x="18096" y="16673"/>
                  <a:pt x="18058" y="16768"/>
                </a:cubicBezTo>
                <a:cubicBezTo>
                  <a:pt x="18177" y="16861"/>
                  <a:pt x="18347" y="16888"/>
                  <a:pt x="18455" y="16991"/>
                </a:cubicBezTo>
                <a:cubicBezTo>
                  <a:pt x="18463" y="17008"/>
                  <a:pt x="18471" y="17024"/>
                  <a:pt x="18479" y="17041"/>
                </a:cubicBezTo>
                <a:cubicBezTo>
                  <a:pt x="18386" y="17124"/>
                  <a:pt x="18328" y="17174"/>
                  <a:pt x="18207" y="17090"/>
                </a:cubicBezTo>
                <a:cubicBezTo>
                  <a:pt x="18051" y="16981"/>
                  <a:pt x="18228" y="16843"/>
                  <a:pt x="18306" y="16768"/>
                </a:cubicBezTo>
                <a:cubicBezTo>
                  <a:pt x="18361" y="16715"/>
                  <a:pt x="18416" y="16680"/>
                  <a:pt x="18380" y="166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19640" y="6045120"/>
            <a:ext cx="1206360" cy="438120"/>
          </a:xfrm>
          <a:custGeom>
            <a:avLst/>
            <a:gdLst/>
            <a:ahLst/>
            <a:rect l="l" t="t" r="r" b="b"/>
            <a:pathLst>
              <a:path w="3350" h="1216">
                <a:moveTo>
                  <a:pt x="9500" y="18008"/>
                </a:moveTo>
                <a:cubicBezTo>
                  <a:pt x="9579" y="18002"/>
                  <a:pt x="9649" y="18005"/>
                  <a:pt x="9723" y="17983"/>
                </a:cubicBezTo>
                <a:cubicBezTo>
                  <a:pt x="9782" y="17966"/>
                  <a:pt x="9862" y="17940"/>
                  <a:pt x="9922" y="17934"/>
                </a:cubicBezTo>
                <a:cubicBezTo>
                  <a:pt x="9989" y="17927"/>
                  <a:pt x="10058" y="17917"/>
                  <a:pt x="10120" y="17909"/>
                </a:cubicBezTo>
                <a:cubicBezTo>
                  <a:pt x="10210" y="17898"/>
                  <a:pt x="10305" y="17894"/>
                  <a:pt x="10393" y="17884"/>
                </a:cubicBezTo>
                <a:cubicBezTo>
                  <a:pt x="10728" y="17847"/>
                  <a:pt x="11106" y="17875"/>
                  <a:pt x="11435" y="17909"/>
                </a:cubicBezTo>
                <a:cubicBezTo>
                  <a:pt x="11536" y="17920"/>
                  <a:pt x="11629" y="17932"/>
                  <a:pt x="11733" y="17934"/>
                </a:cubicBezTo>
                <a:cubicBezTo>
                  <a:pt x="11853" y="17937"/>
                  <a:pt x="11965" y="17948"/>
                  <a:pt x="12080" y="17959"/>
                </a:cubicBezTo>
                <a:cubicBezTo>
                  <a:pt x="12194" y="17970"/>
                  <a:pt x="12294" y="17946"/>
                  <a:pt x="12402" y="17934"/>
                </a:cubicBezTo>
                <a:cubicBezTo>
                  <a:pt x="12547" y="17918"/>
                  <a:pt x="12704" y="17934"/>
                  <a:pt x="12849" y="17934"/>
                </a:cubicBezTo>
              </a:path>
              <a:path w="3350" h="1216">
                <a:moveTo>
                  <a:pt x="10567" y="16966"/>
                </a:moveTo>
                <a:cubicBezTo>
                  <a:pt x="10618" y="17104"/>
                  <a:pt x="10711" y="17185"/>
                  <a:pt x="10815" y="17289"/>
                </a:cubicBezTo>
                <a:cubicBezTo>
                  <a:pt x="10823" y="17297"/>
                  <a:pt x="10832" y="17306"/>
                  <a:pt x="10840" y="17314"/>
                </a:cubicBezTo>
              </a:path>
              <a:path w="3350" h="1216">
                <a:moveTo>
                  <a:pt x="10864" y="16793"/>
                </a:moveTo>
                <a:cubicBezTo>
                  <a:pt x="10732" y="16945"/>
                  <a:pt x="10619" y="17115"/>
                  <a:pt x="10517" y="17289"/>
                </a:cubicBezTo>
                <a:cubicBezTo>
                  <a:pt x="10501" y="17322"/>
                  <a:pt x="10484" y="17355"/>
                  <a:pt x="10468" y="17388"/>
                </a:cubicBezTo>
              </a:path>
              <a:path w="3350" h="1216">
                <a:moveTo>
                  <a:pt x="10443" y="16892"/>
                </a:moveTo>
                <a:cubicBezTo>
                  <a:pt x="10531" y="17020"/>
                  <a:pt x="10613" y="17149"/>
                  <a:pt x="10716" y="17264"/>
                </a:cubicBezTo>
                <a:cubicBezTo>
                  <a:pt x="10724" y="17272"/>
                  <a:pt x="10732" y="17281"/>
                  <a:pt x="10740" y="172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12000" y="3759120"/>
            <a:ext cx="187200" cy="152640"/>
          </a:xfrm>
          <a:custGeom>
            <a:avLst/>
            <a:gdLst/>
            <a:ahLst/>
            <a:rect l="l" t="t" r="r" b="b"/>
            <a:pathLst>
              <a:path w="522" h="422">
                <a:moveTo>
                  <a:pt x="19372" y="10443"/>
                </a:moveTo>
                <a:cubicBezTo>
                  <a:pt x="19404" y="10587"/>
                  <a:pt x="19422" y="10717"/>
                  <a:pt x="19422" y="10864"/>
                </a:cubicBezTo>
              </a:path>
              <a:path w="522" h="422">
                <a:moveTo>
                  <a:pt x="19199" y="10616"/>
                </a:moveTo>
                <a:cubicBezTo>
                  <a:pt x="19373" y="10616"/>
                  <a:pt x="19546" y="10616"/>
                  <a:pt x="19720" y="106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892840" y="2276640"/>
            <a:ext cx="216000" cy="117360"/>
          </a:xfrm>
          <a:custGeom>
            <a:avLst/>
            <a:gdLst/>
            <a:ahLst/>
            <a:rect l="l" t="t" r="r" b="b"/>
            <a:pathLst>
              <a:path w="596" h="324">
                <a:moveTo>
                  <a:pt x="16371" y="6350"/>
                </a:moveTo>
                <a:cubicBezTo>
                  <a:pt x="16561" y="6329"/>
                  <a:pt x="16727" y="6334"/>
                  <a:pt x="16917" y="6350"/>
                </a:cubicBezTo>
                <a:cubicBezTo>
                  <a:pt x="16933" y="6350"/>
                  <a:pt x="16950" y="6350"/>
                  <a:pt x="16966" y="6350"/>
                </a:cubicBezTo>
              </a:path>
              <a:path w="596" h="324">
                <a:moveTo>
                  <a:pt x="16470" y="6573"/>
                </a:moveTo>
                <a:cubicBezTo>
                  <a:pt x="16595" y="6566"/>
                  <a:pt x="16946" y="6479"/>
                  <a:pt x="16842" y="6548"/>
                </a:cubicBezTo>
                <a:cubicBezTo>
                  <a:pt x="16705" y="6603"/>
                  <a:pt x="16650" y="6622"/>
                  <a:pt x="16545" y="6623"/>
                </a:cubicBezTo>
                <a:cubicBezTo>
                  <a:pt x="16518" y="6675"/>
                  <a:pt x="16777" y="6604"/>
                  <a:pt x="16917" y="65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9040" y="6483240"/>
            <a:ext cx="679320" cy="241560"/>
          </a:xfrm>
          <a:custGeom>
            <a:avLst/>
            <a:gdLst/>
            <a:ahLst/>
            <a:rect l="l" t="t" r="r" b="b"/>
            <a:pathLst>
              <a:path w="1886" h="671">
                <a:moveTo>
                  <a:pt x="10939" y="18306"/>
                </a:moveTo>
                <a:cubicBezTo>
                  <a:pt x="10939" y="18214"/>
                  <a:pt x="10938" y="18129"/>
                  <a:pt x="11038" y="18083"/>
                </a:cubicBezTo>
                <a:cubicBezTo>
                  <a:pt x="11133" y="18039"/>
                  <a:pt x="11248" y="18023"/>
                  <a:pt x="11336" y="18033"/>
                </a:cubicBezTo>
                <a:cubicBezTo>
                  <a:pt x="11408" y="18041"/>
                  <a:pt x="11482" y="18119"/>
                  <a:pt x="11410" y="18182"/>
                </a:cubicBezTo>
                <a:cubicBezTo>
                  <a:pt x="11330" y="18252"/>
                  <a:pt x="11177" y="18299"/>
                  <a:pt x="11112" y="18355"/>
                </a:cubicBezTo>
                <a:cubicBezTo>
                  <a:pt x="11043" y="18414"/>
                  <a:pt x="11003" y="18493"/>
                  <a:pt x="10964" y="18579"/>
                </a:cubicBezTo>
                <a:cubicBezTo>
                  <a:pt x="10939" y="18628"/>
                  <a:pt x="10930" y="18645"/>
                  <a:pt x="10914" y="18678"/>
                </a:cubicBezTo>
                <a:cubicBezTo>
                  <a:pt x="10963" y="18617"/>
                  <a:pt x="11035" y="18505"/>
                  <a:pt x="11112" y="18479"/>
                </a:cubicBezTo>
                <a:cubicBezTo>
                  <a:pt x="11188" y="18453"/>
                  <a:pt x="11254" y="18521"/>
                  <a:pt x="11311" y="18554"/>
                </a:cubicBezTo>
                <a:cubicBezTo>
                  <a:pt x="11392" y="18600"/>
                  <a:pt x="11441" y="18544"/>
                  <a:pt x="11509" y="18504"/>
                </a:cubicBezTo>
              </a:path>
              <a:path w="1886" h="671">
                <a:moveTo>
                  <a:pt x="11658" y="18281"/>
                </a:moveTo>
                <a:cubicBezTo>
                  <a:pt x="11761" y="18307"/>
                  <a:pt x="11795" y="18386"/>
                  <a:pt x="11881" y="18455"/>
                </a:cubicBezTo>
                <a:cubicBezTo>
                  <a:pt x="11938" y="18492"/>
                  <a:pt x="11941" y="18509"/>
                  <a:pt x="11981" y="18504"/>
                </a:cubicBezTo>
              </a:path>
              <a:path w="1886" h="671">
                <a:moveTo>
                  <a:pt x="12055" y="18132"/>
                </a:moveTo>
                <a:cubicBezTo>
                  <a:pt x="11971" y="18253"/>
                  <a:pt x="11880" y="18369"/>
                  <a:pt x="11782" y="18479"/>
                </a:cubicBezTo>
                <a:cubicBezTo>
                  <a:pt x="11734" y="18532"/>
                  <a:pt x="11701" y="18576"/>
                  <a:pt x="11658" y="18628"/>
                </a:cubicBezTo>
              </a:path>
              <a:path w="1886" h="671">
                <a:moveTo>
                  <a:pt x="11708" y="18306"/>
                </a:moveTo>
                <a:cubicBezTo>
                  <a:pt x="11718" y="18308"/>
                  <a:pt x="11894" y="18450"/>
                  <a:pt x="11956" y="18504"/>
                </a:cubicBezTo>
                <a:cubicBezTo>
                  <a:pt x="12008" y="18549"/>
                  <a:pt x="12022" y="18571"/>
                  <a:pt x="12080" y="18604"/>
                </a:cubicBezTo>
              </a:path>
              <a:path w="1886" h="671">
                <a:moveTo>
                  <a:pt x="12402" y="18331"/>
                </a:moveTo>
                <a:cubicBezTo>
                  <a:pt x="12534" y="18293"/>
                  <a:pt x="12668" y="18269"/>
                  <a:pt x="12799" y="18231"/>
                </a:cubicBezTo>
              </a:path>
              <a:path w="1886" h="671">
                <a:moveTo>
                  <a:pt x="12452" y="18529"/>
                </a:moveTo>
                <a:cubicBezTo>
                  <a:pt x="12568" y="18514"/>
                  <a:pt x="12663" y="18472"/>
                  <a:pt x="12774" y="184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49840" y="6456240"/>
            <a:ext cx="152280" cy="231840"/>
          </a:xfrm>
          <a:custGeom>
            <a:avLst/>
            <a:gdLst/>
            <a:ahLst/>
            <a:rect l="l" t="t" r="r" b="b"/>
            <a:pathLst>
              <a:path w="423" h="646">
                <a:moveTo>
                  <a:pt x="13618" y="17983"/>
                </a:moveTo>
                <a:cubicBezTo>
                  <a:pt x="13557" y="17912"/>
                  <a:pt x="13418" y="17907"/>
                  <a:pt x="13320" y="17959"/>
                </a:cubicBezTo>
                <a:cubicBezTo>
                  <a:pt x="13209" y="18018"/>
                  <a:pt x="13168" y="18096"/>
                  <a:pt x="13246" y="18182"/>
                </a:cubicBezTo>
                <a:cubicBezTo>
                  <a:pt x="13332" y="18276"/>
                  <a:pt x="13621" y="18312"/>
                  <a:pt x="13593" y="18479"/>
                </a:cubicBezTo>
                <a:cubicBezTo>
                  <a:pt x="13576" y="18580"/>
                  <a:pt x="13398" y="18565"/>
                  <a:pt x="13345" y="18554"/>
                </a:cubicBezTo>
                <a:cubicBezTo>
                  <a:pt x="13318" y="18381"/>
                  <a:pt x="13372" y="18334"/>
                  <a:pt x="13494" y="18207"/>
                </a:cubicBezTo>
                <a:cubicBezTo>
                  <a:pt x="13527" y="18173"/>
                  <a:pt x="13658" y="18064"/>
                  <a:pt x="13568" y="18008"/>
                </a:cubicBezTo>
                <a:cubicBezTo>
                  <a:pt x="13560" y="18008"/>
                  <a:pt x="13551" y="18008"/>
                  <a:pt x="13543" y="180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03920" y="1581120"/>
            <a:ext cx="2117880" cy="1089000"/>
          </a:xfrm>
          <a:custGeom>
            <a:avLst/>
            <a:gdLst/>
            <a:ahLst/>
            <a:rect l="l" t="t" r="r" b="b"/>
            <a:pathLst>
              <a:path w="5880" h="3028">
                <a:moveTo>
                  <a:pt x="16818" y="7342"/>
                </a:moveTo>
                <a:cubicBezTo>
                  <a:pt x="17365" y="7342"/>
                  <a:pt x="17909" y="7335"/>
                  <a:pt x="18455" y="7342"/>
                </a:cubicBezTo>
                <a:cubicBezTo>
                  <a:pt x="19015" y="7349"/>
                  <a:pt x="19580" y="7437"/>
                  <a:pt x="20141" y="7392"/>
                </a:cubicBezTo>
                <a:cubicBezTo>
                  <a:pt x="20428" y="7369"/>
                  <a:pt x="20758" y="7292"/>
                  <a:pt x="21010" y="7144"/>
                </a:cubicBezTo>
                <a:cubicBezTo>
                  <a:pt x="21245" y="7006"/>
                  <a:pt x="21500" y="6802"/>
                  <a:pt x="21679" y="6598"/>
                </a:cubicBezTo>
                <a:cubicBezTo>
                  <a:pt x="21819" y="6438"/>
                  <a:pt x="21926" y="6257"/>
                  <a:pt x="21977" y="6052"/>
                </a:cubicBezTo>
                <a:cubicBezTo>
                  <a:pt x="22009" y="5922"/>
                  <a:pt x="22017" y="5740"/>
                  <a:pt x="22002" y="5606"/>
                </a:cubicBezTo>
                <a:cubicBezTo>
                  <a:pt x="21986" y="5458"/>
                  <a:pt x="21933" y="5316"/>
                  <a:pt x="21878" y="5184"/>
                </a:cubicBezTo>
                <a:cubicBezTo>
                  <a:pt x="21796" y="4987"/>
                  <a:pt x="21715" y="4960"/>
                  <a:pt x="21530" y="4862"/>
                </a:cubicBezTo>
                <a:cubicBezTo>
                  <a:pt x="21299" y="4739"/>
                  <a:pt x="21020" y="4591"/>
                  <a:pt x="20762" y="4539"/>
                </a:cubicBezTo>
                <a:cubicBezTo>
                  <a:pt x="20310" y="4447"/>
                  <a:pt x="19830" y="4446"/>
                  <a:pt x="19372" y="4415"/>
                </a:cubicBezTo>
                <a:cubicBezTo>
                  <a:pt x="19037" y="4392"/>
                  <a:pt x="18715" y="4380"/>
                  <a:pt x="18380" y="4415"/>
                </a:cubicBezTo>
                <a:cubicBezTo>
                  <a:pt x="18029" y="4452"/>
                  <a:pt x="17643" y="4535"/>
                  <a:pt x="17314" y="4663"/>
                </a:cubicBezTo>
                <a:cubicBezTo>
                  <a:pt x="16967" y="4798"/>
                  <a:pt x="16578" y="5009"/>
                  <a:pt x="16346" y="5308"/>
                </a:cubicBezTo>
                <a:cubicBezTo>
                  <a:pt x="16162" y="5545"/>
                  <a:pt x="16140" y="5862"/>
                  <a:pt x="16123" y="6152"/>
                </a:cubicBezTo>
                <a:cubicBezTo>
                  <a:pt x="16110" y="6379"/>
                  <a:pt x="16131" y="6560"/>
                  <a:pt x="16197" y="6772"/>
                </a:cubicBezTo>
                <a:cubicBezTo>
                  <a:pt x="16246" y="6929"/>
                  <a:pt x="16316" y="7018"/>
                  <a:pt x="16421" y="7144"/>
                </a:cubicBezTo>
                <a:cubicBezTo>
                  <a:pt x="16579" y="7333"/>
                  <a:pt x="16804" y="7400"/>
                  <a:pt x="17041" y="7417"/>
                </a:cubicBezTo>
                <a:cubicBezTo>
                  <a:pt x="17243" y="7432"/>
                  <a:pt x="17415" y="7391"/>
                  <a:pt x="17611" y="73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bjective:  Students will write algebraic expressions to represent unknown quantities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Practice:  Translate each.</a:t>
            </a:r>
            <a:endParaRPr b="0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A number increased by seven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half of a number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The sum of 4 times a number and 3 is 27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The quotient of a number and nine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Four less than a number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Seven less a number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87680" y="2795760"/>
            <a:ext cx="152280" cy="125280"/>
          </a:xfrm>
          <a:custGeom>
            <a:avLst/>
            <a:gdLst/>
            <a:ahLst/>
            <a:rect l="l" t="t" r="r" b="b"/>
            <a:pathLst>
              <a:path w="423" h="348">
                <a:moveTo>
                  <a:pt x="4862" y="7764"/>
                </a:moveTo>
                <a:cubicBezTo>
                  <a:pt x="4885" y="7880"/>
                  <a:pt x="4909" y="7996"/>
                  <a:pt x="4936" y="8111"/>
                </a:cubicBezTo>
              </a:path>
              <a:path w="423" h="348">
                <a:moveTo>
                  <a:pt x="4688" y="8062"/>
                </a:moveTo>
                <a:cubicBezTo>
                  <a:pt x="4833" y="8024"/>
                  <a:pt x="4960" y="7987"/>
                  <a:pt x="5110" y="79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374920" y="2581200"/>
            <a:ext cx="108000" cy="214560"/>
          </a:xfrm>
          <a:custGeom>
            <a:avLst/>
            <a:gdLst/>
            <a:ahLst/>
            <a:rect l="l" t="t" r="r" b="b"/>
            <a:pathLst>
              <a:path w="299" h="596">
                <a:moveTo>
                  <a:pt x="6672" y="7268"/>
                </a:moveTo>
                <a:cubicBezTo>
                  <a:pt x="6645" y="7353"/>
                  <a:pt x="6632" y="7387"/>
                  <a:pt x="6598" y="7441"/>
                </a:cubicBezTo>
                <a:cubicBezTo>
                  <a:pt x="6705" y="7458"/>
                  <a:pt x="6761" y="7444"/>
                  <a:pt x="6871" y="7417"/>
                </a:cubicBezTo>
              </a:path>
              <a:path w="299" h="596">
                <a:moveTo>
                  <a:pt x="6896" y="7169"/>
                </a:moveTo>
                <a:cubicBezTo>
                  <a:pt x="6896" y="7367"/>
                  <a:pt x="6896" y="7566"/>
                  <a:pt x="6896" y="77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9040" y="2633760"/>
            <a:ext cx="108000" cy="171360"/>
          </a:xfrm>
          <a:custGeom>
            <a:avLst/>
            <a:gdLst/>
            <a:ahLst/>
            <a:rect l="l" t="t" r="r" b="b"/>
            <a:pathLst>
              <a:path w="298" h="473">
                <a:moveTo>
                  <a:pt x="7665" y="7392"/>
                </a:moveTo>
                <a:cubicBezTo>
                  <a:pt x="7728" y="7525"/>
                  <a:pt x="7791" y="7626"/>
                  <a:pt x="7888" y="7739"/>
                </a:cubicBezTo>
              </a:path>
              <a:path w="298" h="473">
                <a:moveTo>
                  <a:pt x="7962" y="7317"/>
                </a:moveTo>
                <a:cubicBezTo>
                  <a:pt x="7869" y="7473"/>
                  <a:pt x="7777" y="7630"/>
                  <a:pt x="7689" y="77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08080" y="1768320"/>
            <a:ext cx="1892160" cy="633600"/>
          </a:xfrm>
          <a:custGeom>
            <a:avLst/>
            <a:gdLst/>
            <a:ahLst/>
            <a:rect l="l" t="t" r="r" b="b"/>
            <a:pathLst>
              <a:path w="5259" h="1762">
                <a:moveTo>
                  <a:pt x="5035" y="6623"/>
                </a:moveTo>
                <a:cubicBezTo>
                  <a:pt x="5142" y="6658"/>
                  <a:pt x="5242" y="6669"/>
                  <a:pt x="5358" y="6672"/>
                </a:cubicBezTo>
                <a:cubicBezTo>
                  <a:pt x="5699" y="6679"/>
                  <a:pt x="6037" y="6665"/>
                  <a:pt x="6375" y="6648"/>
                </a:cubicBezTo>
                <a:cubicBezTo>
                  <a:pt x="6583" y="6638"/>
                  <a:pt x="6788" y="6610"/>
                  <a:pt x="6995" y="6598"/>
                </a:cubicBezTo>
                <a:cubicBezTo>
                  <a:pt x="7243" y="6584"/>
                  <a:pt x="7493" y="6588"/>
                  <a:pt x="7739" y="6573"/>
                </a:cubicBezTo>
                <a:cubicBezTo>
                  <a:pt x="7921" y="6562"/>
                  <a:pt x="8102" y="6598"/>
                  <a:pt x="8285" y="6598"/>
                </a:cubicBezTo>
                <a:cubicBezTo>
                  <a:pt x="8301" y="6598"/>
                  <a:pt x="8318" y="6598"/>
                  <a:pt x="8334" y="6598"/>
                </a:cubicBezTo>
              </a:path>
              <a:path w="5259" h="1762">
                <a:moveTo>
                  <a:pt x="6201" y="5358"/>
                </a:moveTo>
                <a:cubicBezTo>
                  <a:pt x="6334" y="5451"/>
                  <a:pt x="6444" y="5580"/>
                  <a:pt x="6573" y="5680"/>
                </a:cubicBezTo>
                <a:cubicBezTo>
                  <a:pt x="6627" y="5707"/>
                  <a:pt x="6647" y="5719"/>
                  <a:pt x="6672" y="5755"/>
                </a:cubicBezTo>
              </a:path>
              <a:path w="5259" h="1762">
                <a:moveTo>
                  <a:pt x="6747" y="5209"/>
                </a:moveTo>
                <a:cubicBezTo>
                  <a:pt x="6583" y="5312"/>
                  <a:pt x="6447" y="5452"/>
                  <a:pt x="6325" y="5606"/>
                </a:cubicBezTo>
                <a:cubicBezTo>
                  <a:pt x="6295" y="5644"/>
                  <a:pt x="6281" y="5692"/>
                  <a:pt x="6251" y="5730"/>
                </a:cubicBezTo>
              </a:path>
              <a:path w="5259" h="1762">
                <a:moveTo>
                  <a:pt x="3373" y="4911"/>
                </a:moveTo>
                <a:cubicBezTo>
                  <a:pt x="3379" y="5018"/>
                  <a:pt x="3393" y="5106"/>
                  <a:pt x="3423" y="5209"/>
                </a:cubicBezTo>
              </a:path>
              <a:path w="5259" h="1762">
                <a:moveTo>
                  <a:pt x="3076" y="5383"/>
                </a:moveTo>
                <a:cubicBezTo>
                  <a:pt x="3258" y="5383"/>
                  <a:pt x="3439" y="5383"/>
                  <a:pt x="3621" y="5383"/>
                </a:cubicBezTo>
              </a:path>
              <a:path w="5259" h="1762">
                <a:moveTo>
                  <a:pt x="3225" y="5581"/>
                </a:moveTo>
                <a:cubicBezTo>
                  <a:pt x="3281" y="5524"/>
                  <a:pt x="3317" y="5472"/>
                  <a:pt x="3398" y="5531"/>
                </a:cubicBezTo>
                <a:cubicBezTo>
                  <a:pt x="3415" y="5548"/>
                  <a:pt x="3431" y="5564"/>
                  <a:pt x="3448" y="5581"/>
                </a:cubicBezTo>
                <a:cubicBezTo>
                  <a:pt x="3399" y="5623"/>
                  <a:pt x="3286" y="5702"/>
                  <a:pt x="3249" y="5755"/>
                </a:cubicBezTo>
                <a:cubicBezTo>
                  <a:pt x="3207" y="5815"/>
                  <a:pt x="3153" y="5905"/>
                  <a:pt x="3125" y="5978"/>
                </a:cubicBezTo>
                <a:cubicBezTo>
                  <a:pt x="3104" y="6043"/>
                  <a:pt x="3096" y="6077"/>
                  <a:pt x="3101" y="6003"/>
                </a:cubicBezTo>
                <a:cubicBezTo>
                  <a:pt x="3139" y="5949"/>
                  <a:pt x="3193" y="5887"/>
                  <a:pt x="3274" y="5904"/>
                </a:cubicBezTo>
                <a:cubicBezTo>
                  <a:pt x="3319" y="5914"/>
                  <a:pt x="3424" y="6027"/>
                  <a:pt x="3473" y="5978"/>
                </a:cubicBezTo>
                <a:cubicBezTo>
                  <a:pt x="3493" y="5917"/>
                  <a:pt x="3491" y="5903"/>
                  <a:pt x="3522" y="5879"/>
                </a:cubicBezTo>
              </a:path>
              <a:path w="5259" h="1762">
                <a:moveTo>
                  <a:pt x="4341" y="5259"/>
                </a:moveTo>
                <a:cubicBezTo>
                  <a:pt x="4474" y="5366"/>
                  <a:pt x="4560" y="5473"/>
                  <a:pt x="4663" y="5606"/>
                </a:cubicBezTo>
                <a:cubicBezTo>
                  <a:pt x="4671" y="5614"/>
                  <a:pt x="4680" y="5623"/>
                  <a:pt x="4688" y="5631"/>
                </a:cubicBezTo>
              </a:path>
              <a:path w="5259" h="1762">
                <a:moveTo>
                  <a:pt x="4713" y="5184"/>
                </a:moveTo>
                <a:cubicBezTo>
                  <a:pt x="4607" y="5335"/>
                  <a:pt x="4480" y="5440"/>
                  <a:pt x="4341" y="5556"/>
                </a:cubicBezTo>
                <a:cubicBezTo>
                  <a:pt x="4296" y="5601"/>
                  <a:pt x="4279" y="5610"/>
                  <a:pt x="4291" y="56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98960" y="1204920"/>
            <a:ext cx="88920" cy="81000"/>
          </a:xfrm>
          <a:custGeom>
            <a:avLst/>
            <a:gdLst/>
            <a:ahLst/>
            <a:rect l="l" t="t" r="r" b="b"/>
            <a:pathLst>
              <a:path w="249" h="224">
                <a:moveTo>
                  <a:pt x="11385" y="3373"/>
                </a:moveTo>
                <a:cubicBezTo>
                  <a:pt x="11469" y="3365"/>
                  <a:pt x="11548" y="3354"/>
                  <a:pt x="11633" y="3349"/>
                </a:cubicBezTo>
                <a:cubicBezTo>
                  <a:pt x="11615" y="3423"/>
                  <a:pt x="11595" y="3497"/>
                  <a:pt x="11584" y="35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24200" y="1857240"/>
            <a:ext cx="839880" cy="696960"/>
          </a:xfrm>
          <a:custGeom>
            <a:avLst/>
            <a:gdLst/>
            <a:ahLst/>
            <a:rect l="l" t="t" r="r" b="b"/>
            <a:pathLst>
              <a:path w="2332" h="1936">
                <a:moveTo>
                  <a:pt x="10939" y="5159"/>
                </a:moveTo>
                <a:cubicBezTo>
                  <a:pt x="10984" y="5365"/>
                  <a:pt x="11013" y="5544"/>
                  <a:pt x="11013" y="5755"/>
                </a:cubicBezTo>
              </a:path>
              <a:path w="2332" h="1936">
                <a:moveTo>
                  <a:pt x="10592" y="5879"/>
                </a:moveTo>
                <a:cubicBezTo>
                  <a:pt x="10807" y="5909"/>
                  <a:pt x="11019" y="5904"/>
                  <a:pt x="11237" y="5904"/>
                </a:cubicBezTo>
                <a:cubicBezTo>
                  <a:pt x="11315" y="5904"/>
                  <a:pt x="11332" y="5889"/>
                  <a:pt x="11361" y="5928"/>
                </a:cubicBezTo>
              </a:path>
              <a:path w="2332" h="1936">
                <a:moveTo>
                  <a:pt x="10864" y="6201"/>
                </a:moveTo>
                <a:cubicBezTo>
                  <a:pt x="10916" y="6181"/>
                  <a:pt x="11110" y="6068"/>
                  <a:pt x="11162" y="6152"/>
                </a:cubicBezTo>
                <a:cubicBezTo>
                  <a:pt x="11225" y="6254"/>
                  <a:pt x="11105" y="6426"/>
                  <a:pt x="11038" y="6499"/>
                </a:cubicBezTo>
                <a:cubicBezTo>
                  <a:pt x="10968" y="6575"/>
                  <a:pt x="10833" y="6599"/>
                  <a:pt x="10765" y="6672"/>
                </a:cubicBezTo>
                <a:cubicBezTo>
                  <a:pt x="10737" y="6729"/>
                  <a:pt x="10726" y="6752"/>
                  <a:pt x="10716" y="6796"/>
                </a:cubicBezTo>
                <a:cubicBezTo>
                  <a:pt x="10790" y="6732"/>
                  <a:pt x="10828" y="6627"/>
                  <a:pt x="10939" y="6598"/>
                </a:cubicBezTo>
                <a:cubicBezTo>
                  <a:pt x="11034" y="6573"/>
                  <a:pt x="11101" y="6668"/>
                  <a:pt x="11187" y="6697"/>
                </a:cubicBezTo>
                <a:cubicBezTo>
                  <a:pt x="11309" y="6738"/>
                  <a:pt x="11336" y="6707"/>
                  <a:pt x="11410" y="6623"/>
                </a:cubicBezTo>
              </a:path>
              <a:path w="2332" h="1936">
                <a:moveTo>
                  <a:pt x="11683" y="5556"/>
                </a:moveTo>
                <a:cubicBezTo>
                  <a:pt x="11757" y="5679"/>
                  <a:pt x="11835" y="5848"/>
                  <a:pt x="11931" y="5953"/>
                </a:cubicBezTo>
                <a:cubicBezTo>
                  <a:pt x="12011" y="6041"/>
                  <a:pt x="12105" y="6106"/>
                  <a:pt x="12179" y="6201"/>
                </a:cubicBezTo>
                <a:cubicBezTo>
                  <a:pt x="12187" y="6209"/>
                  <a:pt x="12196" y="6218"/>
                  <a:pt x="12204" y="6226"/>
                </a:cubicBezTo>
              </a:path>
              <a:path w="2332" h="1936">
                <a:moveTo>
                  <a:pt x="12204" y="5581"/>
                </a:moveTo>
                <a:cubicBezTo>
                  <a:pt x="12036" y="5709"/>
                  <a:pt x="11911" y="5836"/>
                  <a:pt x="11782" y="6003"/>
                </a:cubicBezTo>
                <a:cubicBezTo>
                  <a:pt x="11716" y="6088"/>
                  <a:pt x="11695" y="6107"/>
                  <a:pt x="11683" y="6201"/>
                </a:cubicBezTo>
                <a:cubicBezTo>
                  <a:pt x="11782" y="6092"/>
                  <a:pt x="11877" y="5984"/>
                  <a:pt x="11981" y="5879"/>
                </a:cubicBezTo>
                <a:cubicBezTo>
                  <a:pt x="12061" y="5799"/>
                  <a:pt x="12183" y="5736"/>
                  <a:pt x="12254" y="5655"/>
                </a:cubicBezTo>
                <a:cubicBezTo>
                  <a:pt x="12299" y="5604"/>
                  <a:pt x="12339" y="5540"/>
                  <a:pt x="12378" y="5482"/>
                </a:cubicBezTo>
              </a:path>
              <a:path w="2332" h="1936">
                <a:moveTo>
                  <a:pt x="10840" y="7045"/>
                </a:moveTo>
                <a:cubicBezTo>
                  <a:pt x="11070" y="7079"/>
                  <a:pt x="11268" y="7085"/>
                  <a:pt x="11509" y="7045"/>
                </a:cubicBezTo>
                <a:cubicBezTo>
                  <a:pt x="11814" y="6994"/>
                  <a:pt x="12107" y="6924"/>
                  <a:pt x="12378" y="6772"/>
                </a:cubicBezTo>
                <a:cubicBezTo>
                  <a:pt x="12550" y="6675"/>
                  <a:pt x="12704" y="6532"/>
                  <a:pt x="12650" y="6325"/>
                </a:cubicBezTo>
                <a:cubicBezTo>
                  <a:pt x="12572" y="6027"/>
                  <a:pt x="12269" y="5804"/>
                  <a:pt x="12005" y="5680"/>
                </a:cubicBezTo>
                <a:cubicBezTo>
                  <a:pt x="11787" y="5578"/>
                  <a:pt x="11547" y="5501"/>
                  <a:pt x="11311" y="5457"/>
                </a:cubicBezTo>
                <a:cubicBezTo>
                  <a:pt x="11013" y="5402"/>
                  <a:pt x="10765" y="5461"/>
                  <a:pt x="10567" y="5705"/>
                </a:cubicBezTo>
                <a:cubicBezTo>
                  <a:pt x="10426" y="5879"/>
                  <a:pt x="10340" y="6124"/>
                  <a:pt x="10344" y="6350"/>
                </a:cubicBezTo>
                <a:cubicBezTo>
                  <a:pt x="10346" y="6496"/>
                  <a:pt x="10357" y="6724"/>
                  <a:pt x="10492" y="6821"/>
                </a:cubicBezTo>
                <a:cubicBezTo>
                  <a:pt x="10717" y="6984"/>
                  <a:pt x="11101" y="6859"/>
                  <a:pt x="11336" y="6796"/>
                </a:cubicBezTo>
                <a:cubicBezTo>
                  <a:pt x="11520" y="6735"/>
                  <a:pt x="11557" y="6729"/>
                  <a:pt x="11658" y="66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33960" y="1258920"/>
            <a:ext cx="760320" cy="339840"/>
          </a:xfrm>
          <a:custGeom>
            <a:avLst/>
            <a:gdLst/>
            <a:ahLst/>
            <a:rect l="l" t="t" r="r" b="b"/>
            <a:pathLst>
              <a:path w="2109" h="944">
                <a:moveTo>
                  <a:pt x="14635" y="3646"/>
                </a:moveTo>
                <a:cubicBezTo>
                  <a:pt x="14506" y="3632"/>
                  <a:pt x="14388" y="3608"/>
                  <a:pt x="14337" y="3770"/>
                </a:cubicBezTo>
                <a:cubicBezTo>
                  <a:pt x="14337" y="3787"/>
                  <a:pt x="14337" y="3803"/>
                  <a:pt x="14337" y="3820"/>
                </a:cubicBezTo>
                <a:cubicBezTo>
                  <a:pt x="14442" y="3846"/>
                  <a:pt x="14561" y="3844"/>
                  <a:pt x="14660" y="3894"/>
                </a:cubicBezTo>
                <a:cubicBezTo>
                  <a:pt x="14837" y="3982"/>
                  <a:pt x="14695" y="4138"/>
                  <a:pt x="14560" y="4167"/>
                </a:cubicBezTo>
                <a:cubicBezTo>
                  <a:pt x="14436" y="4167"/>
                  <a:pt x="14395" y="4167"/>
                  <a:pt x="14337" y="4093"/>
                </a:cubicBezTo>
              </a:path>
              <a:path w="2109" h="944">
                <a:moveTo>
                  <a:pt x="15081" y="3770"/>
                </a:moveTo>
                <a:cubicBezTo>
                  <a:pt x="15092" y="3891"/>
                  <a:pt x="15099" y="4052"/>
                  <a:pt x="15131" y="4167"/>
                </a:cubicBezTo>
                <a:cubicBezTo>
                  <a:pt x="15139" y="4175"/>
                  <a:pt x="15148" y="4184"/>
                  <a:pt x="15156" y="4192"/>
                </a:cubicBezTo>
              </a:path>
              <a:path w="2109" h="944">
                <a:moveTo>
                  <a:pt x="14932" y="3994"/>
                </a:moveTo>
                <a:cubicBezTo>
                  <a:pt x="15070" y="3955"/>
                  <a:pt x="15186" y="3944"/>
                  <a:pt x="15329" y="3944"/>
                </a:cubicBezTo>
              </a:path>
              <a:path w="2109" h="944">
                <a:moveTo>
                  <a:pt x="15478" y="3770"/>
                </a:moveTo>
                <a:cubicBezTo>
                  <a:pt x="15605" y="3715"/>
                  <a:pt x="15713" y="3682"/>
                  <a:pt x="15850" y="3671"/>
                </a:cubicBezTo>
                <a:cubicBezTo>
                  <a:pt x="15869" y="3866"/>
                  <a:pt x="15829" y="4002"/>
                  <a:pt x="15776" y="4192"/>
                </a:cubicBezTo>
              </a:path>
              <a:path w="2109" h="944">
                <a:moveTo>
                  <a:pt x="14511" y="4440"/>
                </a:moveTo>
                <a:cubicBezTo>
                  <a:pt x="14945" y="4440"/>
                  <a:pt x="15486" y="4530"/>
                  <a:pt x="15900" y="4390"/>
                </a:cubicBezTo>
                <a:cubicBezTo>
                  <a:pt x="16042" y="4342"/>
                  <a:pt x="16258" y="4250"/>
                  <a:pt x="16346" y="4118"/>
                </a:cubicBezTo>
                <a:cubicBezTo>
                  <a:pt x="16430" y="3992"/>
                  <a:pt x="16307" y="3873"/>
                  <a:pt x="16222" y="3795"/>
                </a:cubicBezTo>
                <a:cubicBezTo>
                  <a:pt x="16029" y="3617"/>
                  <a:pt x="15776" y="3589"/>
                  <a:pt x="15528" y="3547"/>
                </a:cubicBezTo>
                <a:cubicBezTo>
                  <a:pt x="15317" y="3511"/>
                  <a:pt x="15122" y="3497"/>
                  <a:pt x="14908" y="3497"/>
                </a:cubicBezTo>
                <a:cubicBezTo>
                  <a:pt x="14732" y="3497"/>
                  <a:pt x="14606" y="3483"/>
                  <a:pt x="14461" y="3597"/>
                </a:cubicBezTo>
                <a:cubicBezTo>
                  <a:pt x="14347" y="3686"/>
                  <a:pt x="14251" y="3848"/>
                  <a:pt x="14263" y="3994"/>
                </a:cubicBezTo>
                <a:cubicBezTo>
                  <a:pt x="14278" y="4176"/>
                  <a:pt x="14445" y="4290"/>
                  <a:pt x="14610" y="4316"/>
                </a:cubicBezTo>
                <a:cubicBezTo>
                  <a:pt x="14651" y="4316"/>
                  <a:pt x="14693" y="4316"/>
                  <a:pt x="14734" y="43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91040" y="2652840"/>
            <a:ext cx="135000" cy="196560"/>
          </a:xfrm>
          <a:custGeom>
            <a:avLst/>
            <a:gdLst/>
            <a:ahLst/>
            <a:rect l="l" t="t" r="r" b="b"/>
            <a:pathLst>
              <a:path w="373" h="547">
                <a:moveTo>
                  <a:pt x="13915" y="7491"/>
                </a:moveTo>
                <a:cubicBezTo>
                  <a:pt x="13937" y="7432"/>
                  <a:pt x="14054" y="7295"/>
                  <a:pt x="14139" y="7392"/>
                </a:cubicBezTo>
                <a:cubicBezTo>
                  <a:pt x="14223" y="7487"/>
                  <a:pt x="14113" y="7576"/>
                  <a:pt x="14064" y="7640"/>
                </a:cubicBezTo>
                <a:cubicBezTo>
                  <a:pt x="14056" y="7623"/>
                  <a:pt x="14047" y="7607"/>
                  <a:pt x="14039" y="7590"/>
                </a:cubicBezTo>
                <a:cubicBezTo>
                  <a:pt x="14143" y="7569"/>
                  <a:pt x="14299" y="7602"/>
                  <a:pt x="14238" y="7764"/>
                </a:cubicBezTo>
                <a:cubicBezTo>
                  <a:pt x="14168" y="7951"/>
                  <a:pt x="14000" y="7921"/>
                  <a:pt x="13866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68960" y="2589120"/>
            <a:ext cx="534960" cy="169920"/>
          </a:xfrm>
          <a:custGeom>
            <a:avLst/>
            <a:gdLst/>
            <a:ahLst/>
            <a:rect l="l" t="t" r="r" b="b"/>
            <a:pathLst>
              <a:path w="1489" h="473">
                <a:moveTo>
                  <a:pt x="14709" y="7417"/>
                </a:moveTo>
                <a:cubicBezTo>
                  <a:pt x="14805" y="7399"/>
                  <a:pt x="14884" y="7392"/>
                  <a:pt x="14982" y="7392"/>
                </a:cubicBezTo>
              </a:path>
              <a:path w="1489" h="473">
                <a:moveTo>
                  <a:pt x="14635" y="7665"/>
                </a:moveTo>
                <a:cubicBezTo>
                  <a:pt x="14766" y="7612"/>
                  <a:pt x="14815" y="7593"/>
                  <a:pt x="14908" y="7565"/>
                </a:cubicBezTo>
              </a:path>
              <a:path w="1489" h="473">
                <a:moveTo>
                  <a:pt x="15280" y="7293"/>
                </a:moveTo>
                <a:cubicBezTo>
                  <a:pt x="15384" y="7253"/>
                  <a:pt x="15536" y="7284"/>
                  <a:pt x="15602" y="7392"/>
                </a:cubicBezTo>
                <a:cubicBezTo>
                  <a:pt x="15720" y="7586"/>
                  <a:pt x="15480" y="7630"/>
                  <a:pt x="15354" y="7640"/>
                </a:cubicBezTo>
                <a:cubicBezTo>
                  <a:pt x="15465" y="7528"/>
                  <a:pt x="15557" y="7564"/>
                  <a:pt x="15701" y="7615"/>
                </a:cubicBezTo>
              </a:path>
              <a:path w="1489" h="473">
                <a:moveTo>
                  <a:pt x="15726" y="7218"/>
                </a:moveTo>
                <a:cubicBezTo>
                  <a:pt x="15838" y="7218"/>
                  <a:pt x="15939" y="7208"/>
                  <a:pt x="16049" y="7193"/>
                </a:cubicBezTo>
                <a:cubicBezTo>
                  <a:pt x="16150" y="7179"/>
                  <a:pt x="16126" y="7411"/>
                  <a:pt x="16123" y="7441"/>
                </a:cubicBezTo>
                <a:cubicBezTo>
                  <a:pt x="16102" y="7524"/>
                  <a:pt x="16094" y="7539"/>
                  <a:pt x="16098" y="75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0960" y="3625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084" y="10071"/>
                </a:moveTo>
                <a:lnTo>
                  <a:pt x="2084" y="1007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00080" y="1081080"/>
            <a:ext cx="1670040" cy="544680"/>
          </a:xfrm>
          <a:custGeom>
            <a:avLst/>
            <a:gdLst/>
            <a:ahLst/>
            <a:rect l="l" t="t" r="r" b="b"/>
            <a:pathLst>
              <a:path w="4640" h="1514">
                <a:moveTo>
                  <a:pt x="2778" y="4514"/>
                </a:moveTo>
                <a:cubicBezTo>
                  <a:pt x="2870" y="4503"/>
                  <a:pt x="2953" y="4490"/>
                  <a:pt x="3051" y="4490"/>
                </a:cubicBezTo>
                <a:cubicBezTo>
                  <a:pt x="3245" y="4490"/>
                  <a:pt x="3431" y="4484"/>
                  <a:pt x="3621" y="4465"/>
                </a:cubicBezTo>
                <a:cubicBezTo>
                  <a:pt x="3731" y="4454"/>
                  <a:pt x="3834" y="4428"/>
                  <a:pt x="3944" y="4415"/>
                </a:cubicBezTo>
                <a:cubicBezTo>
                  <a:pt x="4026" y="4405"/>
                  <a:pt x="4112" y="4399"/>
                  <a:pt x="4192" y="4390"/>
                </a:cubicBezTo>
                <a:cubicBezTo>
                  <a:pt x="4297" y="4379"/>
                  <a:pt x="4410" y="4375"/>
                  <a:pt x="4514" y="4366"/>
                </a:cubicBezTo>
                <a:cubicBezTo>
                  <a:pt x="4686" y="4352"/>
                  <a:pt x="4864" y="4361"/>
                  <a:pt x="5035" y="4341"/>
                </a:cubicBezTo>
                <a:cubicBezTo>
                  <a:pt x="5185" y="4324"/>
                  <a:pt x="5329" y="4316"/>
                  <a:pt x="5482" y="4316"/>
                </a:cubicBezTo>
                <a:cubicBezTo>
                  <a:pt x="5589" y="4316"/>
                  <a:pt x="5697" y="4316"/>
                  <a:pt x="5804" y="4316"/>
                </a:cubicBezTo>
              </a:path>
              <a:path w="4640" h="1514">
                <a:moveTo>
                  <a:pt x="4043" y="3076"/>
                </a:moveTo>
                <a:cubicBezTo>
                  <a:pt x="4035" y="3051"/>
                  <a:pt x="4026" y="3026"/>
                  <a:pt x="4018" y="3001"/>
                </a:cubicBezTo>
                <a:cubicBezTo>
                  <a:pt x="3927" y="3001"/>
                  <a:pt x="3846" y="3043"/>
                  <a:pt x="3795" y="3125"/>
                </a:cubicBezTo>
                <a:cubicBezTo>
                  <a:pt x="3776" y="3183"/>
                  <a:pt x="3767" y="3190"/>
                  <a:pt x="3770" y="3225"/>
                </a:cubicBezTo>
                <a:cubicBezTo>
                  <a:pt x="3858" y="3236"/>
                  <a:pt x="3954" y="3233"/>
                  <a:pt x="4043" y="3249"/>
                </a:cubicBezTo>
                <a:cubicBezTo>
                  <a:pt x="4122" y="3263"/>
                  <a:pt x="4192" y="3349"/>
                  <a:pt x="4118" y="3423"/>
                </a:cubicBezTo>
                <a:cubicBezTo>
                  <a:pt x="4022" y="3519"/>
                  <a:pt x="3931" y="3489"/>
                  <a:pt x="3820" y="3473"/>
                </a:cubicBezTo>
                <a:cubicBezTo>
                  <a:pt x="3803" y="3473"/>
                  <a:pt x="3787" y="3473"/>
                  <a:pt x="3770" y="3473"/>
                </a:cubicBezTo>
              </a:path>
              <a:path w="4640" h="1514">
                <a:moveTo>
                  <a:pt x="7293" y="3373"/>
                </a:moveTo>
                <a:cubicBezTo>
                  <a:pt x="7311" y="3452"/>
                  <a:pt x="7332" y="3520"/>
                  <a:pt x="7342" y="3597"/>
                </a:cubicBezTo>
              </a:path>
              <a:path w="4640" h="1514">
                <a:moveTo>
                  <a:pt x="7045" y="3547"/>
                </a:moveTo>
                <a:cubicBezTo>
                  <a:pt x="7169" y="3517"/>
                  <a:pt x="7299" y="3507"/>
                  <a:pt x="7417" y="34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11360" y="2759040"/>
            <a:ext cx="884520" cy="403200"/>
          </a:xfrm>
          <a:custGeom>
            <a:avLst/>
            <a:gdLst/>
            <a:ahLst/>
            <a:rect l="l" t="t" r="r" b="b"/>
            <a:pathLst>
              <a:path w="2457" h="1117">
                <a:moveTo>
                  <a:pt x="9475" y="8731"/>
                </a:moveTo>
                <a:cubicBezTo>
                  <a:pt x="9562" y="8783"/>
                  <a:pt x="9597" y="8765"/>
                  <a:pt x="9723" y="8756"/>
                </a:cubicBezTo>
                <a:cubicBezTo>
                  <a:pt x="9866" y="8745"/>
                  <a:pt x="10006" y="8721"/>
                  <a:pt x="10145" y="8706"/>
                </a:cubicBezTo>
                <a:cubicBezTo>
                  <a:pt x="10254" y="8694"/>
                  <a:pt x="10358" y="8682"/>
                  <a:pt x="10468" y="8682"/>
                </a:cubicBezTo>
                <a:cubicBezTo>
                  <a:pt x="10556" y="8682"/>
                  <a:pt x="10629" y="8661"/>
                  <a:pt x="10716" y="8657"/>
                </a:cubicBezTo>
                <a:cubicBezTo>
                  <a:pt x="10930" y="8647"/>
                  <a:pt x="11156" y="8651"/>
                  <a:pt x="11361" y="8682"/>
                </a:cubicBezTo>
                <a:cubicBezTo>
                  <a:pt x="11520" y="8706"/>
                  <a:pt x="11698" y="8691"/>
                  <a:pt x="11857" y="8706"/>
                </a:cubicBezTo>
                <a:cubicBezTo>
                  <a:pt x="11882" y="8706"/>
                  <a:pt x="11906" y="8706"/>
                  <a:pt x="11931" y="8706"/>
                </a:cubicBezTo>
              </a:path>
              <a:path w="2457" h="1117">
                <a:moveTo>
                  <a:pt x="10220" y="7689"/>
                </a:moveTo>
                <a:cubicBezTo>
                  <a:pt x="10305" y="7785"/>
                  <a:pt x="10319" y="7884"/>
                  <a:pt x="10319" y="8012"/>
                </a:cubicBezTo>
                <a:cubicBezTo>
                  <a:pt x="10311" y="7995"/>
                  <a:pt x="10302" y="7979"/>
                  <a:pt x="10294" y="7962"/>
                </a:cubicBezTo>
                <a:cubicBezTo>
                  <a:pt x="10290" y="7914"/>
                  <a:pt x="10253" y="7801"/>
                  <a:pt x="10294" y="7764"/>
                </a:cubicBezTo>
                <a:cubicBezTo>
                  <a:pt x="10365" y="7700"/>
                  <a:pt x="10509" y="7678"/>
                  <a:pt x="10592" y="7714"/>
                </a:cubicBezTo>
                <a:cubicBezTo>
                  <a:pt x="10717" y="7768"/>
                  <a:pt x="10718" y="7823"/>
                  <a:pt x="10765" y="7938"/>
                </a:cubicBezTo>
                <a:cubicBezTo>
                  <a:pt x="10791" y="8002"/>
                  <a:pt x="10777" y="8018"/>
                  <a:pt x="10765" y="80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97280" y="3438360"/>
            <a:ext cx="177840" cy="222480"/>
          </a:xfrm>
          <a:custGeom>
            <a:avLst/>
            <a:gdLst/>
            <a:ahLst/>
            <a:rect l="l" t="t" r="r" b="b"/>
            <a:pathLst>
              <a:path w="497" h="621">
                <a:moveTo>
                  <a:pt x="13419" y="9674"/>
                </a:moveTo>
                <a:cubicBezTo>
                  <a:pt x="13563" y="9674"/>
                  <a:pt x="13306" y="9560"/>
                  <a:pt x="13246" y="9550"/>
                </a:cubicBezTo>
                <a:cubicBezTo>
                  <a:pt x="13097" y="9525"/>
                  <a:pt x="13014" y="9692"/>
                  <a:pt x="13047" y="9823"/>
                </a:cubicBezTo>
                <a:cubicBezTo>
                  <a:pt x="13091" y="9998"/>
                  <a:pt x="13282" y="9949"/>
                  <a:pt x="13370" y="9847"/>
                </a:cubicBezTo>
                <a:cubicBezTo>
                  <a:pt x="13410" y="9766"/>
                  <a:pt x="13426" y="9754"/>
                  <a:pt x="13419" y="9699"/>
                </a:cubicBezTo>
                <a:cubicBezTo>
                  <a:pt x="13419" y="9599"/>
                  <a:pt x="13526" y="9984"/>
                  <a:pt x="13543" y="10071"/>
                </a:cubicBezTo>
                <a:cubicBezTo>
                  <a:pt x="13543" y="10104"/>
                  <a:pt x="13543" y="10137"/>
                  <a:pt x="13543" y="101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11320" y="3463920"/>
            <a:ext cx="1044720" cy="492120"/>
          </a:xfrm>
          <a:custGeom>
            <a:avLst/>
            <a:gdLst/>
            <a:ahLst/>
            <a:rect l="l" t="t" r="r" b="b"/>
            <a:pathLst>
              <a:path w="2903" h="1365">
                <a:moveTo>
                  <a:pt x="8086" y="10988"/>
                </a:moveTo>
                <a:cubicBezTo>
                  <a:pt x="8177" y="10988"/>
                  <a:pt x="8272" y="10983"/>
                  <a:pt x="8359" y="10964"/>
                </a:cubicBezTo>
                <a:cubicBezTo>
                  <a:pt x="8477" y="10938"/>
                  <a:pt x="8587" y="10956"/>
                  <a:pt x="8706" y="10939"/>
                </a:cubicBezTo>
                <a:cubicBezTo>
                  <a:pt x="8823" y="10922"/>
                  <a:pt x="8938" y="10906"/>
                  <a:pt x="9054" y="10889"/>
                </a:cubicBezTo>
                <a:cubicBezTo>
                  <a:pt x="9198" y="10867"/>
                  <a:pt x="9329" y="10864"/>
                  <a:pt x="9475" y="10864"/>
                </a:cubicBezTo>
                <a:cubicBezTo>
                  <a:pt x="9661" y="10864"/>
                  <a:pt x="9837" y="10885"/>
                  <a:pt x="10021" y="10889"/>
                </a:cubicBezTo>
                <a:cubicBezTo>
                  <a:pt x="10190" y="10893"/>
                  <a:pt x="10352" y="10878"/>
                  <a:pt x="10517" y="10864"/>
                </a:cubicBezTo>
                <a:cubicBezTo>
                  <a:pt x="10640" y="10854"/>
                  <a:pt x="10812" y="10899"/>
                  <a:pt x="10914" y="10889"/>
                </a:cubicBezTo>
                <a:cubicBezTo>
                  <a:pt x="10954" y="10869"/>
                  <a:pt x="10961" y="10860"/>
                  <a:pt x="10988" y="10864"/>
                </a:cubicBezTo>
              </a:path>
              <a:path w="2903" h="1365">
                <a:moveTo>
                  <a:pt x="9004" y="9624"/>
                </a:moveTo>
                <a:cubicBezTo>
                  <a:pt x="9083" y="9841"/>
                  <a:pt x="9070" y="9923"/>
                  <a:pt x="9029" y="10145"/>
                </a:cubicBezTo>
                <a:cubicBezTo>
                  <a:pt x="9029" y="10162"/>
                  <a:pt x="9029" y="10178"/>
                  <a:pt x="9029" y="10195"/>
                </a:cubicBezTo>
                <a:cubicBezTo>
                  <a:pt x="9173" y="10238"/>
                  <a:pt x="9264" y="10202"/>
                  <a:pt x="9401" y="10145"/>
                </a:cubicBezTo>
              </a:path>
              <a:path w="2903" h="1365">
                <a:moveTo>
                  <a:pt x="8781" y="10021"/>
                </a:moveTo>
                <a:cubicBezTo>
                  <a:pt x="8954" y="9974"/>
                  <a:pt x="9122" y="9952"/>
                  <a:pt x="9302" y="9947"/>
                </a:cubicBezTo>
                <a:cubicBezTo>
                  <a:pt x="9343" y="9946"/>
                  <a:pt x="9385" y="9947"/>
                  <a:pt x="9426" y="99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95760" y="4295880"/>
            <a:ext cx="955440" cy="588960"/>
          </a:xfrm>
          <a:custGeom>
            <a:avLst/>
            <a:gdLst/>
            <a:ahLst/>
            <a:rect l="l" t="t" r="r" b="b"/>
            <a:pathLst>
              <a:path w="2655" h="1638">
                <a:moveTo>
                  <a:pt x="7789" y="13444"/>
                </a:moveTo>
                <a:cubicBezTo>
                  <a:pt x="7776" y="13522"/>
                  <a:pt x="7841" y="13508"/>
                  <a:pt x="7938" y="13494"/>
                </a:cubicBezTo>
                <a:cubicBezTo>
                  <a:pt x="8122" y="13468"/>
                  <a:pt x="8298" y="13471"/>
                  <a:pt x="8483" y="13494"/>
                </a:cubicBezTo>
                <a:cubicBezTo>
                  <a:pt x="8611" y="13510"/>
                  <a:pt x="8755" y="13520"/>
                  <a:pt x="8880" y="13543"/>
                </a:cubicBezTo>
                <a:cubicBezTo>
                  <a:pt x="8983" y="13562"/>
                  <a:pt x="9071" y="13568"/>
                  <a:pt x="9178" y="13568"/>
                </a:cubicBezTo>
                <a:cubicBezTo>
                  <a:pt x="9411" y="13568"/>
                  <a:pt x="9648" y="13567"/>
                  <a:pt x="9872" y="13543"/>
                </a:cubicBezTo>
                <a:cubicBezTo>
                  <a:pt x="9978" y="13531"/>
                  <a:pt x="10090" y="13535"/>
                  <a:pt x="10195" y="13519"/>
                </a:cubicBezTo>
                <a:cubicBezTo>
                  <a:pt x="10276" y="13507"/>
                  <a:pt x="10336" y="13498"/>
                  <a:pt x="10418" y="13494"/>
                </a:cubicBezTo>
              </a:path>
              <a:path w="2655" h="1638">
                <a:moveTo>
                  <a:pt x="8210" y="11956"/>
                </a:moveTo>
                <a:cubicBezTo>
                  <a:pt x="8270" y="12087"/>
                  <a:pt x="8331" y="12207"/>
                  <a:pt x="8409" y="12328"/>
                </a:cubicBezTo>
                <a:cubicBezTo>
                  <a:pt x="8378" y="12281"/>
                  <a:pt x="8288" y="12171"/>
                  <a:pt x="8310" y="12105"/>
                </a:cubicBezTo>
                <a:cubicBezTo>
                  <a:pt x="8344" y="12006"/>
                  <a:pt x="8427" y="11945"/>
                  <a:pt x="8533" y="11931"/>
                </a:cubicBezTo>
                <a:cubicBezTo>
                  <a:pt x="8611" y="11921"/>
                  <a:pt x="8695" y="11944"/>
                  <a:pt x="8756" y="119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64000" y="4160880"/>
            <a:ext cx="965160" cy="642960"/>
          </a:xfrm>
          <a:custGeom>
            <a:avLst/>
            <a:gdLst/>
            <a:ahLst/>
            <a:rect l="l" t="t" r="r" b="b"/>
            <a:pathLst>
              <a:path w="2680" h="1787">
                <a:moveTo>
                  <a:pt x="12750" y="12402"/>
                </a:moveTo>
                <a:cubicBezTo>
                  <a:pt x="12821" y="12533"/>
                  <a:pt x="12884" y="12664"/>
                  <a:pt x="12948" y="12799"/>
                </a:cubicBezTo>
                <a:cubicBezTo>
                  <a:pt x="12901" y="12671"/>
                  <a:pt x="12759" y="12541"/>
                  <a:pt x="12799" y="12378"/>
                </a:cubicBezTo>
                <a:cubicBezTo>
                  <a:pt x="12840" y="12210"/>
                  <a:pt x="13168" y="12264"/>
                  <a:pt x="13271" y="12328"/>
                </a:cubicBezTo>
                <a:cubicBezTo>
                  <a:pt x="13279" y="12345"/>
                  <a:pt x="13287" y="12361"/>
                  <a:pt x="13295" y="12378"/>
                </a:cubicBezTo>
              </a:path>
              <a:path w="2680" h="1787">
                <a:moveTo>
                  <a:pt x="13717" y="12626"/>
                </a:moveTo>
                <a:cubicBezTo>
                  <a:pt x="13809" y="12648"/>
                  <a:pt x="13952" y="12626"/>
                  <a:pt x="14064" y="12626"/>
                </a:cubicBezTo>
              </a:path>
              <a:path w="2680" h="1787">
                <a:moveTo>
                  <a:pt x="14312" y="12179"/>
                </a:moveTo>
                <a:cubicBezTo>
                  <a:pt x="14343" y="12277"/>
                  <a:pt x="14359" y="12358"/>
                  <a:pt x="14387" y="12452"/>
                </a:cubicBezTo>
                <a:cubicBezTo>
                  <a:pt x="14558" y="12444"/>
                  <a:pt x="14559" y="12479"/>
                  <a:pt x="14635" y="12353"/>
                </a:cubicBezTo>
              </a:path>
              <a:path w="2680" h="1787">
                <a:moveTo>
                  <a:pt x="14560" y="12105"/>
                </a:moveTo>
                <a:cubicBezTo>
                  <a:pt x="14576" y="12267"/>
                  <a:pt x="14590" y="12443"/>
                  <a:pt x="14635" y="12601"/>
                </a:cubicBezTo>
                <a:cubicBezTo>
                  <a:pt x="14655" y="12641"/>
                  <a:pt x="14664" y="12647"/>
                  <a:pt x="14660" y="12675"/>
                </a:cubicBezTo>
              </a:path>
              <a:path w="2680" h="1787">
                <a:moveTo>
                  <a:pt x="13122" y="13345"/>
                </a:moveTo>
                <a:cubicBezTo>
                  <a:pt x="13296" y="13320"/>
                  <a:pt x="13469" y="13311"/>
                  <a:pt x="13643" y="13295"/>
                </a:cubicBezTo>
                <a:cubicBezTo>
                  <a:pt x="13859" y="13275"/>
                  <a:pt x="14073" y="13264"/>
                  <a:pt x="14288" y="13246"/>
                </a:cubicBezTo>
                <a:cubicBezTo>
                  <a:pt x="14498" y="13228"/>
                  <a:pt x="14693" y="13190"/>
                  <a:pt x="14858" y="13072"/>
                </a:cubicBezTo>
                <a:cubicBezTo>
                  <a:pt x="14976" y="12987"/>
                  <a:pt x="15060" y="12874"/>
                  <a:pt x="15081" y="12725"/>
                </a:cubicBezTo>
                <a:cubicBezTo>
                  <a:pt x="15100" y="12590"/>
                  <a:pt x="15096" y="12379"/>
                  <a:pt x="15032" y="12254"/>
                </a:cubicBezTo>
                <a:cubicBezTo>
                  <a:pt x="15001" y="12193"/>
                  <a:pt x="14907" y="12075"/>
                  <a:pt x="14858" y="12030"/>
                </a:cubicBezTo>
                <a:cubicBezTo>
                  <a:pt x="14740" y="11922"/>
                  <a:pt x="14613" y="11816"/>
                  <a:pt x="14461" y="11757"/>
                </a:cubicBezTo>
                <a:cubicBezTo>
                  <a:pt x="14257" y="11678"/>
                  <a:pt x="14057" y="11616"/>
                  <a:pt x="13841" y="11584"/>
                </a:cubicBezTo>
                <a:cubicBezTo>
                  <a:pt x="13625" y="11552"/>
                  <a:pt x="13411" y="11545"/>
                  <a:pt x="13196" y="11584"/>
                </a:cubicBezTo>
                <a:cubicBezTo>
                  <a:pt x="13062" y="11609"/>
                  <a:pt x="12924" y="11656"/>
                  <a:pt x="12799" y="11708"/>
                </a:cubicBezTo>
                <a:cubicBezTo>
                  <a:pt x="12703" y="11748"/>
                  <a:pt x="12584" y="11840"/>
                  <a:pt x="12526" y="11931"/>
                </a:cubicBezTo>
                <a:cubicBezTo>
                  <a:pt x="12445" y="12057"/>
                  <a:pt x="12388" y="12174"/>
                  <a:pt x="12402" y="12328"/>
                </a:cubicBezTo>
                <a:cubicBezTo>
                  <a:pt x="12414" y="12454"/>
                  <a:pt x="12457" y="12632"/>
                  <a:pt x="12551" y="12725"/>
                </a:cubicBezTo>
                <a:cubicBezTo>
                  <a:pt x="12610" y="12784"/>
                  <a:pt x="12719" y="12844"/>
                  <a:pt x="12799" y="12874"/>
                </a:cubicBezTo>
                <a:cubicBezTo>
                  <a:pt x="12872" y="12901"/>
                  <a:pt x="12968" y="12925"/>
                  <a:pt x="13047" y="12948"/>
                </a:cubicBezTo>
                <a:cubicBezTo>
                  <a:pt x="13208" y="12994"/>
                  <a:pt x="13329" y="13023"/>
                  <a:pt x="13494" y="13047"/>
                </a:cubicBezTo>
                <a:cubicBezTo>
                  <a:pt x="13583" y="13060"/>
                  <a:pt x="13656" y="13111"/>
                  <a:pt x="13742" y="13122"/>
                </a:cubicBezTo>
                <a:cubicBezTo>
                  <a:pt x="13823" y="13132"/>
                  <a:pt x="13910" y="13128"/>
                  <a:pt x="13990" y="13146"/>
                </a:cubicBezTo>
                <a:cubicBezTo>
                  <a:pt x="14075" y="13165"/>
                  <a:pt x="14123" y="13171"/>
                  <a:pt x="14213" y="131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67000" y="5116680"/>
            <a:ext cx="982800" cy="571320"/>
          </a:xfrm>
          <a:custGeom>
            <a:avLst/>
            <a:gdLst/>
            <a:ahLst/>
            <a:rect l="l" t="t" r="r" b="b"/>
            <a:pathLst>
              <a:path w="2730" h="1589">
                <a:moveTo>
                  <a:pt x="6573" y="15726"/>
                </a:moveTo>
                <a:cubicBezTo>
                  <a:pt x="6730" y="15715"/>
                  <a:pt x="6888" y="15686"/>
                  <a:pt x="7045" y="15677"/>
                </a:cubicBezTo>
                <a:cubicBezTo>
                  <a:pt x="7262" y="15665"/>
                  <a:pt x="7475" y="15670"/>
                  <a:pt x="7689" y="15677"/>
                </a:cubicBezTo>
                <a:cubicBezTo>
                  <a:pt x="7940" y="15685"/>
                  <a:pt x="8185" y="15735"/>
                  <a:pt x="8434" y="15751"/>
                </a:cubicBezTo>
                <a:cubicBezTo>
                  <a:pt x="8584" y="15761"/>
                  <a:pt x="8729" y="15776"/>
                  <a:pt x="8880" y="15776"/>
                </a:cubicBezTo>
                <a:cubicBezTo>
                  <a:pt x="9006" y="15776"/>
                  <a:pt x="9142" y="15788"/>
                  <a:pt x="9252" y="15801"/>
                </a:cubicBezTo>
                <a:cubicBezTo>
                  <a:pt x="9269" y="15801"/>
                  <a:pt x="9285" y="15801"/>
                  <a:pt x="9302" y="15801"/>
                </a:cubicBezTo>
              </a:path>
              <a:path w="2730" h="1589">
                <a:moveTo>
                  <a:pt x="7218" y="14263"/>
                </a:moveTo>
                <a:cubicBezTo>
                  <a:pt x="7336" y="14410"/>
                  <a:pt x="7449" y="14536"/>
                  <a:pt x="7590" y="14660"/>
                </a:cubicBezTo>
                <a:cubicBezTo>
                  <a:pt x="7590" y="14507"/>
                  <a:pt x="7583" y="14361"/>
                  <a:pt x="7615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83040" y="5037120"/>
            <a:ext cx="1071720" cy="722160"/>
          </a:xfrm>
          <a:custGeom>
            <a:avLst/>
            <a:gdLst/>
            <a:ahLst/>
            <a:rect l="l" t="t" r="r" b="b"/>
            <a:pathLst>
              <a:path w="2977" h="2010">
                <a:moveTo>
                  <a:pt x="11435" y="14858"/>
                </a:moveTo>
                <a:cubicBezTo>
                  <a:pt x="11659" y="14875"/>
                  <a:pt x="11858" y="14853"/>
                  <a:pt x="12080" y="14808"/>
                </a:cubicBezTo>
                <a:cubicBezTo>
                  <a:pt x="12067" y="15018"/>
                  <a:pt x="12016" y="15219"/>
                  <a:pt x="12005" y="15429"/>
                </a:cubicBezTo>
                <a:cubicBezTo>
                  <a:pt x="12005" y="15445"/>
                  <a:pt x="12005" y="15462"/>
                  <a:pt x="12005" y="15478"/>
                </a:cubicBezTo>
              </a:path>
              <a:path w="2977" h="2010">
                <a:moveTo>
                  <a:pt x="12378" y="15056"/>
                </a:moveTo>
                <a:cubicBezTo>
                  <a:pt x="12474" y="15049"/>
                  <a:pt x="12557" y="15034"/>
                  <a:pt x="12650" y="15007"/>
                </a:cubicBezTo>
              </a:path>
              <a:path w="2977" h="2010">
                <a:moveTo>
                  <a:pt x="12948" y="14908"/>
                </a:moveTo>
                <a:cubicBezTo>
                  <a:pt x="13084" y="15057"/>
                  <a:pt x="13212" y="15208"/>
                  <a:pt x="13320" y="15379"/>
                </a:cubicBezTo>
                <a:cubicBezTo>
                  <a:pt x="13334" y="15202"/>
                  <a:pt x="13366" y="15065"/>
                  <a:pt x="13444" y="14908"/>
                </a:cubicBezTo>
              </a:path>
              <a:path w="2977" h="2010">
                <a:moveTo>
                  <a:pt x="11658" y="15999"/>
                </a:moveTo>
                <a:cubicBezTo>
                  <a:pt x="11956" y="15986"/>
                  <a:pt x="12253" y="15949"/>
                  <a:pt x="12551" y="15925"/>
                </a:cubicBezTo>
                <a:cubicBezTo>
                  <a:pt x="12904" y="15897"/>
                  <a:pt x="13236" y="15853"/>
                  <a:pt x="13568" y="15726"/>
                </a:cubicBezTo>
                <a:cubicBezTo>
                  <a:pt x="13721" y="15668"/>
                  <a:pt x="13994" y="15562"/>
                  <a:pt x="14039" y="15379"/>
                </a:cubicBezTo>
                <a:cubicBezTo>
                  <a:pt x="14070" y="15253"/>
                  <a:pt x="14053" y="15031"/>
                  <a:pt x="14015" y="14908"/>
                </a:cubicBezTo>
                <a:cubicBezTo>
                  <a:pt x="13944" y="14678"/>
                  <a:pt x="13809" y="14612"/>
                  <a:pt x="13618" y="14486"/>
                </a:cubicBezTo>
                <a:cubicBezTo>
                  <a:pt x="13346" y="14306"/>
                  <a:pt x="13040" y="14176"/>
                  <a:pt x="12725" y="14089"/>
                </a:cubicBezTo>
                <a:cubicBezTo>
                  <a:pt x="12478" y="14021"/>
                  <a:pt x="12184" y="13964"/>
                  <a:pt x="11931" y="14015"/>
                </a:cubicBezTo>
                <a:cubicBezTo>
                  <a:pt x="11755" y="14050"/>
                  <a:pt x="11538" y="14146"/>
                  <a:pt x="11385" y="14238"/>
                </a:cubicBezTo>
                <a:cubicBezTo>
                  <a:pt x="11211" y="14343"/>
                  <a:pt x="11179" y="14506"/>
                  <a:pt x="11112" y="14684"/>
                </a:cubicBezTo>
                <a:cubicBezTo>
                  <a:pt x="11047" y="14857"/>
                  <a:pt x="11083" y="15092"/>
                  <a:pt x="11187" y="15255"/>
                </a:cubicBezTo>
                <a:cubicBezTo>
                  <a:pt x="11270" y="15385"/>
                  <a:pt x="11432" y="15563"/>
                  <a:pt x="11584" y="15602"/>
                </a:cubicBezTo>
                <a:cubicBezTo>
                  <a:pt x="11768" y="15649"/>
                  <a:pt x="11947" y="15625"/>
                  <a:pt x="12129" y="156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57960" y="2741760"/>
            <a:ext cx="438120" cy="312480"/>
          </a:xfrm>
          <a:custGeom>
            <a:avLst/>
            <a:gdLst/>
            <a:ahLst/>
            <a:rect l="l" t="t" r="r" b="b"/>
            <a:pathLst>
              <a:path w="1216" h="869">
                <a:moveTo>
                  <a:pt x="17711" y="7789"/>
                </a:moveTo>
                <a:cubicBezTo>
                  <a:pt x="17742" y="7999"/>
                  <a:pt x="17737" y="8035"/>
                  <a:pt x="17661" y="8235"/>
                </a:cubicBezTo>
                <a:cubicBezTo>
                  <a:pt x="17783" y="8100"/>
                  <a:pt x="17877" y="8154"/>
                  <a:pt x="18058" y="8161"/>
                </a:cubicBezTo>
                <a:cubicBezTo>
                  <a:pt x="18066" y="8161"/>
                  <a:pt x="18075" y="8161"/>
                  <a:pt x="18083" y="8161"/>
                </a:cubicBezTo>
              </a:path>
              <a:path w="1216" h="869">
                <a:moveTo>
                  <a:pt x="18033" y="7615"/>
                </a:moveTo>
                <a:cubicBezTo>
                  <a:pt x="18065" y="7819"/>
                  <a:pt x="18118" y="8025"/>
                  <a:pt x="18132" y="8235"/>
                </a:cubicBezTo>
                <a:cubicBezTo>
                  <a:pt x="18132" y="8367"/>
                  <a:pt x="18132" y="8400"/>
                  <a:pt x="18132" y="8483"/>
                </a:cubicBezTo>
              </a:path>
              <a:path w="1216" h="869">
                <a:moveTo>
                  <a:pt x="18380" y="8111"/>
                </a:moveTo>
                <a:cubicBezTo>
                  <a:pt x="18426" y="8230"/>
                  <a:pt x="18461" y="8341"/>
                  <a:pt x="18504" y="8458"/>
                </a:cubicBezTo>
                <a:cubicBezTo>
                  <a:pt x="18469" y="8325"/>
                  <a:pt x="18462" y="8266"/>
                  <a:pt x="18479" y="8136"/>
                </a:cubicBezTo>
                <a:cubicBezTo>
                  <a:pt x="18490" y="8054"/>
                  <a:pt x="18588" y="7992"/>
                  <a:pt x="18678" y="8037"/>
                </a:cubicBezTo>
                <a:cubicBezTo>
                  <a:pt x="18823" y="8109"/>
                  <a:pt x="18863" y="8268"/>
                  <a:pt x="18876" y="8409"/>
                </a:cubicBezTo>
                <a:cubicBezTo>
                  <a:pt x="18876" y="8442"/>
                  <a:pt x="18876" y="8458"/>
                  <a:pt x="18876" y="84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946920" y="2741760"/>
            <a:ext cx="1098360" cy="268200"/>
          </a:xfrm>
          <a:custGeom>
            <a:avLst/>
            <a:gdLst/>
            <a:ahLst/>
            <a:rect l="l" t="t" r="r" b="b"/>
            <a:pathLst>
              <a:path w="3052" h="745">
                <a:moveTo>
                  <a:pt x="19496" y="8062"/>
                </a:moveTo>
                <a:cubicBezTo>
                  <a:pt x="19496" y="8020"/>
                  <a:pt x="19496" y="8012"/>
                  <a:pt x="19496" y="7987"/>
                </a:cubicBezTo>
                <a:cubicBezTo>
                  <a:pt x="19544" y="8110"/>
                  <a:pt x="19555" y="8250"/>
                  <a:pt x="19596" y="8359"/>
                </a:cubicBezTo>
              </a:path>
              <a:path w="3052" h="745">
                <a:moveTo>
                  <a:pt x="19298" y="8186"/>
                </a:moveTo>
                <a:cubicBezTo>
                  <a:pt x="19481" y="8142"/>
                  <a:pt x="19664" y="8122"/>
                  <a:pt x="19844" y="8086"/>
                </a:cubicBezTo>
              </a:path>
              <a:path w="3052" h="745">
                <a:moveTo>
                  <a:pt x="20067" y="7764"/>
                </a:moveTo>
                <a:cubicBezTo>
                  <a:pt x="20162" y="7716"/>
                  <a:pt x="20383" y="7618"/>
                  <a:pt x="20414" y="7813"/>
                </a:cubicBezTo>
                <a:cubicBezTo>
                  <a:pt x="20431" y="7920"/>
                  <a:pt x="20334" y="7966"/>
                  <a:pt x="20265" y="8012"/>
                </a:cubicBezTo>
                <a:cubicBezTo>
                  <a:pt x="20379" y="7991"/>
                  <a:pt x="20605" y="8019"/>
                  <a:pt x="20489" y="8210"/>
                </a:cubicBezTo>
                <a:cubicBezTo>
                  <a:pt x="20391" y="8372"/>
                  <a:pt x="20209" y="8271"/>
                  <a:pt x="20141" y="8186"/>
                </a:cubicBezTo>
              </a:path>
              <a:path w="3052" h="745">
                <a:moveTo>
                  <a:pt x="20811" y="7863"/>
                </a:moveTo>
                <a:cubicBezTo>
                  <a:pt x="20910" y="7863"/>
                  <a:pt x="21010" y="7863"/>
                  <a:pt x="21109" y="7863"/>
                </a:cubicBezTo>
              </a:path>
              <a:path w="3052" h="745">
                <a:moveTo>
                  <a:pt x="20786" y="8086"/>
                </a:moveTo>
                <a:cubicBezTo>
                  <a:pt x="20876" y="8057"/>
                  <a:pt x="20917" y="8046"/>
                  <a:pt x="20985" y="8037"/>
                </a:cubicBezTo>
              </a:path>
              <a:path w="3052" h="745">
                <a:moveTo>
                  <a:pt x="21233" y="7689"/>
                </a:moveTo>
                <a:cubicBezTo>
                  <a:pt x="21434" y="7689"/>
                  <a:pt x="21520" y="7719"/>
                  <a:pt x="21605" y="7913"/>
                </a:cubicBezTo>
                <a:cubicBezTo>
                  <a:pt x="21669" y="8059"/>
                  <a:pt x="21571" y="8288"/>
                  <a:pt x="21382" y="8161"/>
                </a:cubicBezTo>
                <a:cubicBezTo>
                  <a:pt x="21374" y="8136"/>
                  <a:pt x="21365" y="8111"/>
                  <a:pt x="21357" y="8086"/>
                </a:cubicBezTo>
                <a:cubicBezTo>
                  <a:pt x="21501" y="8029"/>
                  <a:pt x="21589" y="8035"/>
                  <a:pt x="21729" y="8111"/>
                </a:cubicBezTo>
                <a:cubicBezTo>
                  <a:pt x="21737" y="8119"/>
                  <a:pt x="21746" y="8128"/>
                  <a:pt x="21754" y="8136"/>
                </a:cubicBezTo>
              </a:path>
              <a:path w="3052" h="745">
                <a:moveTo>
                  <a:pt x="21853" y="7665"/>
                </a:moveTo>
                <a:cubicBezTo>
                  <a:pt x="21924" y="7653"/>
                  <a:pt x="22211" y="7560"/>
                  <a:pt x="22275" y="7615"/>
                </a:cubicBezTo>
                <a:cubicBezTo>
                  <a:pt x="22382" y="7706"/>
                  <a:pt x="22331" y="7975"/>
                  <a:pt x="22324" y="8086"/>
                </a:cubicBezTo>
                <a:cubicBezTo>
                  <a:pt x="22324" y="8103"/>
                  <a:pt x="22324" y="8119"/>
                  <a:pt x="22324" y="81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03240" y="3510000"/>
            <a:ext cx="223920" cy="196920"/>
          </a:xfrm>
          <a:custGeom>
            <a:avLst/>
            <a:gdLst/>
            <a:ahLst/>
            <a:rect l="l" t="t" r="r" b="b"/>
            <a:pathLst>
              <a:path w="621" h="547">
                <a:moveTo>
                  <a:pt x="5011" y="10120"/>
                </a:moveTo>
                <a:cubicBezTo>
                  <a:pt x="5196" y="10075"/>
                  <a:pt x="5366" y="10071"/>
                  <a:pt x="5556" y="10071"/>
                </a:cubicBezTo>
                <a:cubicBezTo>
                  <a:pt x="5581" y="10071"/>
                  <a:pt x="5606" y="10071"/>
                  <a:pt x="5631" y="10071"/>
                </a:cubicBezTo>
              </a:path>
              <a:path w="621" h="547">
                <a:moveTo>
                  <a:pt x="5333" y="9748"/>
                </a:moveTo>
                <a:lnTo>
                  <a:pt x="5333" y="9748"/>
                </a:lnTo>
              </a:path>
              <a:path w="621" h="547">
                <a:moveTo>
                  <a:pt x="5308" y="10294"/>
                </a:moveTo>
                <a:lnTo>
                  <a:pt x="5308" y="1029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32640" y="3429000"/>
            <a:ext cx="1125360" cy="554040"/>
          </a:xfrm>
          <a:custGeom>
            <a:avLst/>
            <a:gdLst/>
            <a:ahLst/>
            <a:rect l="l" t="t" r="r" b="b"/>
            <a:pathLst>
              <a:path w="3126" h="1539">
                <a:moveTo>
                  <a:pt x="16321" y="10021"/>
                </a:moveTo>
                <a:cubicBezTo>
                  <a:pt x="16436" y="10177"/>
                  <a:pt x="16446" y="10275"/>
                  <a:pt x="16446" y="10468"/>
                </a:cubicBezTo>
                <a:cubicBezTo>
                  <a:pt x="16446" y="10484"/>
                  <a:pt x="16446" y="10501"/>
                  <a:pt x="16446" y="10517"/>
                </a:cubicBezTo>
                <a:cubicBezTo>
                  <a:pt x="16567" y="10563"/>
                  <a:pt x="16640" y="10540"/>
                  <a:pt x="16743" y="10468"/>
                </a:cubicBezTo>
              </a:path>
              <a:path w="3126" h="1539">
                <a:moveTo>
                  <a:pt x="16197" y="10344"/>
                </a:moveTo>
                <a:cubicBezTo>
                  <a:pt x="16366" y="10313"/>
                  <a:pt x="16490" y="10280"/>
                  <a:pt x="16669" y="10319"/>
                </a:cubicBezTo>
                <a:cubicBezTo>
                  <a:pt x="16742" y="10344"/>
                  <a:pt x="16766" y="10352"/>
                  <a:pt x="16818" y="10344"/>
                </a:cubicBezTo>
              </a:path>
              <a:path w="3126" h="1539">
                <a:moveTo>
                  <a:pt x="17214" y="10319"/>
                </a:moveTo>
                <a:cubicBezTo>
                  <a:pt x="17327" y="10295"/>
                  <a:pt x="17420" y="10294"/>
                  <a:pt x="17537" y="10294"/>
                </a:cubicBezTo>
                <a:cubicBezTo>
                  <a:pt x="17554" y="10294"/>
                  <a:pt x="17570" y="10294"/>
                  <a:pt x="17587" y="10294"/>
                </a:cubicBezTo>
              </a:path>
              <a:path w="3126" h="1539">
                <a:moveTo>
                  <a:pt x="17289" y="9971"/>
                </a:moveTo>
                <a:lnTo>
                  <a:pt x="17289" y="9971"/>
                </a:lnTo>
              </a:path>
              <a:path w="3126" h="1539">
                <a:moveTo>
                  <a:pt x="18380" y="10170"/>
                </a:moveTo>
                <a:cubicBezTo>
                  <a:pt x="18380" y="10088"/>
                  <a:pt x="18357" y="10015"/>
                  <a:pt x="18306" y="9947"/>
                </a:cubicBezTo>
                <a:cubicBezTo>
                  <a:pt x="18236" y="9854"/>
                  <a:pt x="18141" y="9887"/>
                  <a:pt x="18083" y="9971"/>
                </a:cubicBezTo>
                <a:cubicBezTo>
                  <a:pt x="17990" y="10106"/>
                  <a:pt x="18011" y="10308"/>
                  <a:pt x="18207" y="10319"/>
                </a:cubicBezTo>
                <a:cubicBezTo>
                  <a:pt x="18383" y="10329"/>
                  <a:pt x="18414" y="10202"/>
                  <a:pt x="18455" y="10071"/>
                </a:cubicBezTo>
                <a:cubicBezTo>
                  <a:pt x="18462" y="10235"/>
                  <a:pt x="18473" y="10387"/>
                  <a:pt x="18529" y="10542"/>
                </a:cubicBezTo>
              </a:path>
              <a:path w="3126" h="1539">
                <a:moveTo>
                  <a:pt x="17636" y="10740"/>
                </a:moveTo>
                <a:lnTo>
                  <a:pt x="17636" y="10740"/>
                </a:lnTo>
              </a:path>
              <a:path w="3126" h="1539">
                <a:moveTo>
                  <a:pt x="17487" y="9550"/>
                </a:moveTo>
                <a:cubicBezTo>
                  <a:pt x="17403" y="9533"/>
                  <a:pt x="17312" y="9525"/>
                  <a:pt x="17214" y="9525"/>
                </a:cubicBezTo>
                <a:cubicBezTo>
                  <a:pt x="17045" y="9525"/>
                  <a:pt x="16831" y="9547"/>
                  <a:pt x="16669" y="9599"/>
                </a:cubicBezTo>
                <a:cubicBezTo>
                  <a:pt x="16483" y="9659"/>
                  <a:pt x="16240" y="9755"/>
                  <a:pt x="16098" y="9897"/>
                </a:cubicBezTo>
                <a:cubicBezTo>
                  <a:pt x="15994" y="10001"/>
                  <a:pt x="15899" y="10195"/>
                  <a:pt x="15925" y="10344"/>
                </a:cubicBezTo>
                <a:cubicBezTo>
                  <a:pt x="15959" y="10540"/>
                  <a:pt x="16127" y="10747"/>
                  <a:pt x="16272" y="10864"/>
                </a:cubicBezTo>
                <a:cubicBezTo>
                  <a:pt x="16527" y="11069"/>
                  <a:pt x="16734" y="11045"/>
                  <a:pt x="17041" y="11038"/>
                </a:cubicBezTo>
                <a:cubicBezTo>
                  <a:pt x="17315" y="11032"/>
                  <a:pt x="17587" y="11020"/>
                  <a:pt x="17859" y="10988"/>
                </a:cubicBezTo>
                <a:cubicBezTo>
                  <a:pt x="18087" y="10961"/>
                  <a:pt x="18310" y="10931"/>
                  <a:pt x="18529" y="10864"/>
                </a:cubicBezTo>
                <a:cubicBezTo>
                  <a:pt x="18680" y="10818"/>
                  <a:pt x="18822" y="10738"/>
                  <a:pt x="18926" y="10616"/>
                </a:cubicBezTo>
                <a:cubicBezTo>
                  <a:pt x="18979" y="10553"/>
                  <a:pt x="19078" y="10379"/>
                  <a:pt x="19050" y="10294"/>
                </a:cubicBezTo>
                <a:cubicBezTo>
                  <a:pt x="19026" y="10221"/>
                  <a:pt x="18915" y="10045"/>
                  <a:pt x="18852" y="9996"/>
                </a:cubicBezTo>
                <a:cubicBezTo>
                  <a:pt x="18761" y="9925"/>
                  <a:pt x="18612" y="9863"/>
                  <a:pt x="18504" y="9823"/>
                </a:cubicBezTo>
                <a:cubicBezTo>
                  <a:pt x="18399" y="9784"/>
                  <a:pt x="18268" y="9736"/>
                  <a:pt x="18157" y="9723"/>
                </a:cubicBezTo>
                <a:cubicBezTo>
                  <a:pt x="18015" y="9707"/>
                  <a:pt x="17875" y="9705"/>
                  <a:pt x="17735" y="9674"/>
                </a:cubicBezTo>
                <a:cubicBezTo>
                  <a:pt x="17558" y="9636"/>
                  <a:pt x="17347" y="9633"/>
                  <a:pt x="17165" y="9649"/>
                </a:cubicBezTo>
                <a:cubicBezTo>
                  <a:pt x="17022" y="9662"/>
                  <a:pt x="16886" y="9692"/>
                  <a:pt x="16743" y="96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70000" y="4224240"/>
            <a:ext cx="928800" cy="204840"/>
          </a:xfrm>
          <a:custGeom>
            <a:avLst/>
            <a:gdLst/>
            <a:ahLst/>
            <a:rect l="l" t="t" r="r" b="b"/>
            <a:pathLst>
              <a:path w="2581" h="571">
                <a:moveTo>
                  <a:pt x="3249" y="11906"/>
                </a:moveTo>
                <a:cubicBezTo>
                  <a:pt x="3249" y="11865"/>
                  <a:pt x="3249" y="11857"/>
                  <a:pt x="3249" y="11832"/>
                </a:cubicBezTo>
                <a:cubicBezTo>
                  <a:pt x="3269" y="11968"/>
                  <a:pt x="3240" y="12110"/>
                  <a:pt x="3423" y="12105"/>
                </a:cubicBezTo>
                <a:cubicBezTo>
                  <a:pt x="3505" y="12084"/>
                  <a:pt x="3521" y="12076"/>
                  <a:pt x="3572" y="12080"/>
                </a:cubicBezTo>
              </a:path>
              <a:path w="2581" h="571">
                <a:moveTo>
                  <a:pt x="3522" y="11733"/>
                </a:moveTo>
                <a:cubicBezTo>
                  <a:pt x="3560" y="11906"/>
                  <a:pt x="3613" y="12077"/>
                  <a:pt x="3621" y="12254"/>
                </a:cubicBezTo>
                <a:cubicBezTo>
                  <a:pt x="3621" y="12270"/>
                  <a:pt x="3621" y="12287"/>
                  <a:pt x="3621" y="12303"/>
                </a:cubicBezTo>
              </a:path>
              <a:path w="2581" h="571">
                <a:moveTo>
                  <a:pt x="5383" y="12154"/>
                </a:moveTo>
                <a:cubicBezTo>
                  <a:pt x="5480" y="12094"/>
                  <a:pt x="5637" y="12129"/>
                  <a:pt x="5755" y="12129"/>
                </a:cubicBezTo>
                <a:cubicBezTo>
                  <a:pt x="5780" y="12129"/>
                  <a:pt x="5804" y="12129"/>
                  <a:pt x="5829" y="121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51000" y="5089680"/>
            <a:ext cx="714240" cy="214200"/>
          </a:xfrm>
          <a:custGeom>
            <a:avLst/>
            <a:gdLst/>
            <a:ahLst/>
            <a:rect l="l" t="t" r="r" b="b"/>
            <a:pathLst>
              <a:path w="1985" h="596">
                <a:moveTo>
                  <a:pt x="3473" y="14139"/>
                </a:moveTo>
                <a:cubicBezTo>
                  <a:pt x="3597" y="14172"/>
                  <a:pt x="3720" y="14181"/>
                  <a:pt x="3845" y="14163"/>
                </a:cubicBezTo>
                <a:cubicBezTo>
                  <a:pt x="3890" y="14341"/>
                  <a:pt x="3824" y="14458"/>
                  <a:pt x="3795" y="14635"/>
                </a:cubicBezTo>
                <a:cubicBezTo>
                  <a:pt x="3795" y="14684"/>
                  <a:pt x="3795" y="14701"/>
                  <a:pt x="3795" y="14734"/>
                </a:cubicBezTo>
              </a:path>
              <a:path w="1985" h="596">
                <a:moveTo>
                  <a:pt x="5060" y="14461"/>
                </a:moveTo>
                <a:cubicBezTo>
                  <a:pt x="5192" y="14461"/>
                  <a:pt x="5325" y="14461"/>
                  <a:pt x="5457" y="144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296040" y="2544840"/>
            <a:ext cx="1884240" cy="714240"/>
          </a:xfrm>
          <a:custGeom>
            <a:avLst/>
            <a:gdLst/>
            <a:ahLst/>
            <a:rect l="l" t="t" r="r" b="b"/>
            <a:pathLst>
              <a:path w="5235" h="1986">
                <a:moveTo>
                  <a:pt x="18901" y="9054"/>
                </a:moveTo>
                <a:cubicBezTo>
                  <a:pt x="19173" y="9027"/>
                  <a:pt x="19447" y="9001"/>
                  <a:pt x="19720" y="8979"/>
                </a:cubicBezTo>
                <a:cubicBezTo>
                  <a:pt x="20150" y="8945"/>
                  <a:pt x="20580" y="8939"/>
                  <a:pt x="21010" y="8905"/>
                </a:cubicBezTo>
                <a:cubicBezTo>
                  <a:pt x="21324" y="8880"/>
                  <a:pt x="21604" y="8827"/>
                  <a:pt x="21903" y="8731"/>
                </a:cubicBezTo>
                <a:cubicBezTo>
                  <a:pt x="22061" y="8680"/>
                  <a:pt x="22259" y="8653"/>
                  <a:pt x="22399" y="8558"/>
                </a:cubicBezTo>
                <a:cubicBezTo>
                  <a:pt x="22491" y="8496"/>
                  <a:pt x="22585" y="8422"/>
                  <a:pt x="22647" y="8334"/>
                </a:cubicBezTo>
                <a:cubicBezTo>
                  <a:pt x="22737" y="8206"/>
                  <a:pt x="22709" y="8156"/>
                  <a:pt x="22696" y="8012"/>
                </a:cubicBezTo>
                <a:cubicBezTo>
                  <a:pt x="22683" y="7864"/>
                  <a:pt x="22640" y="7787"/>
                  <a:pt x="22572" y="7665"/>
                </a:cubicBezTo>
                <a:cubicBezTo>
                  <a:pt x="22488" y="7513"/>
                  <a:pt x="22302" y="7413"/>
                  <a:pt x="22151" y="7342"/>
                </a:cubicBezTo>
                <a:cubicBezTo>
                  <a:pt x="21932" y="7240"/>
                  <a:pt x="21743" y="7188"/>
                  <a:pt x="21506" y="7144"/>
                </a:cubicBezTo>
                <a:cubicBezTo>
                  <a:pt x="21231" y="7093"/>
                  <a:pt x="20991" y="7069"/>
                  <a:pt x="20712" y="7069"/>
                </a:cubicBezTo>
                <a:cubicBezTo>
                  <a:pt x="20453" y="7069"/>
                  <a:pt x="20200" y="7083"/>
                  <a:pt x="19943" y="7094"/>
                </a:cubicBezTo>
                <a:cubicBezTo>
                  <a:pt x="19654" y="7106"/>
                  <a:pt x="19386" y="7152"/>
                  <a:pt x="19100" y="7193"/>
                </a:cubicBezTo>
                <a:cubicBezTo>
                  <a:pt x="18864" y="7227"/>
                  <a:pt x="18606" y="7263"/>
                  <a:pt x="18380" y="7342"/>
                </a:cubicBezTo>
                <a:cubicBezTo>
                  <a:pt x="18192" y="7408"/>
                  <a:pt x="17980" y="7513"/>
                  <a:pt x="17810" y="7615"/>
                </a:cubicBezTo>
                <a:cubicBezTo>
                  <a:pt x="17726" y="7665"/>
                  <a:pt x="17623" y="7734"/>
                  <a:pt x="17562" y="7813"/>
                </a:cubicBezTo>
                <a:cubicBezTo>
                  <a:pt x="17519" y="7868"/>
                  <a:pt x="17474" y="7967"/>
                  <a:pt x="17487" y="8037"/>
                </a:cubicBezTo>
                <a:cubicBezTo>
                  <a:pt x="17508" y="8151"/>
                  <a:pt x="17554" y="8184"/>
                  <a:pt x="17636" y="8260"/>
                </a:cubicBezTo>
                <a:cubicBezTo>
                  <a:pt x="17739" y="8354"/>
                  <a:pt x="17899" y="8446"/>
                  <a:pt x="18033" y="8483"/>
                </a:cubicBezTo>
                <a:cubicBezTo>
                  <a:pt x="18230" y="8537"/>
                  <a:pt x="18425" y="8574"/>
                  <a:pt x="18628" y="8607"/>
                </a:cubicBezTo>
                <a:cubicBezTo>
                  <a:pt x="18768" y="8630"/>
                  <a:pt x="18912" y="8670"/>
                  <a:pt x="19050" y="8682"/>
                </a:cubicBezTo>
                <a:cubicBezTo>
                  <a:pt x="19147" y="8691"/>
                  <a:pt x="19204" y="8704"/>
                  <a:pt x="19298" y="8731"/>
                </a:cubicBezTo>
                <a:cubicBezTo>
                  <a:pt x="19505" y="8791"/>
                  <a:pt x="19706" y="8847"/>
                  <a:pt x="19918" y="8880"/>
                </a:cubicBezTo>
                <a:cubicBezTo>
                  <a:pt x="20131" y="8913"/>
                  <a:pt x="20374" y="8962"/>
                  <a:pt x="20588" y="8954"/>
                </a:cubicBezTo>
                <a:cubicBezTo>
                  <a:pt x="20703" y="8932"/>
                  <a:pt x="20735" y="8924"/>
                  <a:pt x="20811" y="89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219320" y="20574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Workshee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9T01:21:19Z</dcterms:created>
  <dc:creator>ccps</dc:creator>
  <dc:description/>
  <dc:language>en-US</dc:language>
  <cp:lastModifiedBy>deanne elizabeth mcgrath</cp:lastModifiedBy>
  <dcterms:modified xsi:type="dcterms:W3CDTF">2010-09-16T17:47:36Z</dcterms:modified>
  <cp:revision>8</cp:revision>
  <dc:subject/>
  <dc:title>Obj 7.1:  To write expressions and equations.</dc:title>
</cp:coreProperties>
</file>